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F0E-E61B-4ED6-B02F-E2A18D61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578-E72E-4446-9EFA-F0C7143D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D02-D8BD-4B92-A029-FA0DE616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D29-3581-4523-B5D4-86BE52F4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135-55C8-4C77-82D5-B5916238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D0E-3366-4231-9845-AE8FF680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FC9-E5C0-4831-AA51-724D0ED9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F53-CA20-410C-A97D-61932E70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237-94F6-4C19-A6FB-BAE6B526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320-B321-43D3-8964-39B9EB2E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6EF-FACA-414D-9DE7-CB9E3246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31E-B7B8-4CC9-82F3-843EE3CC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91C8-6081-4652-A21B-4A06731E7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MENTUM LINI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 IMPU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25520" y="1981080"/>
            <a:ext cx="469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mbukan Tidak Le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uru yang bergerak bersama dengan target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m yang meled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laku: Hukum kekekalan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16040" y="2486160"/>
            <a:ext cx="4224240" cy="1012680"/>
            <a:chOff x="716040" y="2486160"/>
            <a:chExt cx="4224240" cy="1012680"/>
          </a:xfrm>
        </p:grpSpPr>
        <p:sp>
          <p:nvSpPr>
            <p:cNvPr id="149" name=""/>
            <p:cNvSpPr/>
            <p:nvPr/>
          </p:nvSpPr>
          <p:spPr>
            <a:xfrm>
              <a:off x="2438640" y="2666880"/>
              <a:ext cx="1206360" cy="82512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440" y="3498840"/>
              <a:ext cx="295884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294560" y="2486160"/>
              <a:ext cx="902520" cy="548640"/>
              <a:chOff x="1294560" y="2486160"/>
              <a:chExt cx="902520" cy="548640"/>
            </a:xfrm>
          </p:grpSpPr>
          <p:sp>
            <p:nvSpPr>
              <p:cNvPr id="152" name=""/>
              <p:cNvSpPr/>
              <p:nvPr/>
            </p:nvSpPr>
            <p:spPr>
              <a:xfrm>
                <a:off x="1752840" y="2971800"/>
                <a:ext cx="139680" cy="630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63000"/>
                  <a:gd name="textAreaBottom" fmla="*/ 63000 h 6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400" y="0"/>
                    </a:lnTo>
                    <a:lnTo>
                      <a:pt x="21600" y="10800"/>
                    </a:lnTo>
                    <a:lnTo>
                      <a:pt x="144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47920" y="2813040"/>
                <a:ext cx="749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94560" y="248616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716040" y="2895480"/>
              <a:ext cx="801720" cy="565920"/>
              <a:chOff x="716040" y="2895480"/>
              <a:chExt cx="801720" cy="565920"/>
            </a:xfrm>
          </p:grpSpPr>
          <p:sp>
            <p:nvSpPr>
              <p:cNvPr id="156" name=""/>
              <p:cNvSpPr/>
              <p:nvPr/>
            </p:nvSpPr>
            <p:spPr>
              <a:xfrm>
                <a:off x="1092240" y="2996640"/>
                <a:ext cx="387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94040" y="3034800"/>
                <a:ext cx="387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487520" y="2974320"/>
                <a:ext cx="0" cy="74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17760" y="2979360"/>
                <a:ext cx="0" cy="74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487520" y="2937960"/>
                <a:ext cx="27000" cy="313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6" y="16"/>
                    </a:moveTo>
                    <a:lnTo>
                      <a:pt x="9" y="8"/>
                    </a:lnTo>
                    <a:lnTo>
                      <a:pt x="5" y="0"/>
                    </a:lnTo>
                    <a:lnTo>
                      <a:pt x="1" y="8"/>
                    </a:lnTo>
                    <a:lnTo>
                      <a:pt x="0" y="19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52720" y="2953800"/>
                <a:ext cx="1440" cy="169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923760" y="2944440"/>
                <a:ext cx="237960" cy="13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788760" y="2898360"/>
                <a:ext cx="158760" cy="28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87680" y="2903040"/>
                <a:ext cx="0" cy="182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793800" y="3057120"/>
                <a:ext cx="149400" cy="13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952200" y="3111120"/>
                <a:ext cx="10332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4920000">
                <a:off x="877680" y="3055680"/>
                <a:ext cx="158040" cy="18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402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40219"/>
                  </a:path>
                </a:pathLst>
              </a:custGeom>
              <a:noFill/>
              <a:ln cap="rnd"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60480" y="3130200"/>
                <a:ext cx="27000" cy="4392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2" y="0"/>
                    </a:moveTo>
                    <a:lnTo>
                      <a:pt x="16" y="10"/>
                    </a:lnTo>
                    <a:lnTo>
                      <a:pt x="8" y="16"/>
                    </a:lnTo>
                    <a:lnTo>
                      <a:pt x="9" y="27"/>
                    </a:lnTo>
                    <a:lnTo>
                      <a:pt x="6" y="17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1" y="11"/>
                    </a:lnTo>
                    <a:lnTo>
                      <a:pt x="0" y="22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925560" y="2895480"/>
                <a:ext cx="14400" cy="82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920880" y="3114360"/>
                <a:ext cx="239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41400" y="3028320"/>
                <a:ext cx="0" cy="838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700000">
                <a:off x="960480" y="3044160"/>
                <a:ext cx="208440" cy="21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47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475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1096920" y="2998440"/>
                <a:ext cx="384480" cy="13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90560" y="2972880"/>
                <a:ext cx="35892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46440" y="3060360"/>
                <a:ext cx="18864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792360" y="2986920"/>
                <a:ext cx="357120" cy="154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92360" y="3007440"/>
                <a:ext cx="357120" cy="154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92360" y="3038040"/>
                <a:ext cx="357120" cy="1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65160" y="3085560"/>
                <a:ext cx="189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78120" y="3180960"/>
                <a:ext cx="185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00280" y="2918880"/>
                <a:ext cx="131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00280" y="2939400"/>
                <a:ext cx="131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8480" y="2952360"/>
                <a:ext cx="131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06600" y="2979360"/>
                <a:ext cx="0" cy="74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716040" y="3103200"/>
                <a:ext cx="69840" cy="2581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866880" y="3131640"/>
                <a:ext cx="69840" cy="2584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19280" y="3352320"/>
                <a:ext cx="147600" cy="109080"/>
              </a:xfrm>
              <a:custGeom>
                <a:avLst/>
                <a:gdLst/>
                <a:ahLst/>
                <a:rect l="l" t="t" r="r" b="b"/>
                <a:pathLst>
                  <a:path w="93" h="69">
                    <a:moveTo>
                      <a:pt x="92" y="31"/>
                    </a:moveTo>
                    <a:lnTo>
                      <a:pt x="87" y="37"/>
                    </a:lnTo>
                    <a:lnTo>
                      <a:pt x="82" y="44"/>
                    </a:lnTo>
                    <a:lnTo>
                      <a:pt x="76" y="49"/>
                    </a:lnTo>
                    <a:lnTo>
                      <a:pt x="68" y="53"/>
                    </a:lnTo>
                    <a:lnTo>
                      <a:pt x="62" y="58"/>
                    </a:lnTo>
                    <a:lnTo>
                      <a:pt x="55" y="62"/>
                    </a:lnTo>
                    <a:lnTo>
                      <a:pt x="48" y="65"/>
                    </a:lnTo>
                    <a:lnTo>
                      <a:pt x="38" y="68"/>
                    </a:lnTo>
                    <a:lnTo>
                      <a:pt x="32" y="63"/>
                    </a:lnTo>
                    <a:lnTo>
                      <a:pt x="25" y="66"/>
                    </a:lnTo>
                    <a:lnTo>
                      <a:pt x="18" y="63"/>
                    </a:lnTo>
                    <a:lnTo>
                      <a:pt x="12" y="58"/>
                    </a:lnTo>
                    <a:lnTo>
                      <a:pt x="6" y="50"/>
                    </a:lnTo>
                    <a:lnTo>
                      <a:pt x="2" y="42"/>
                    </a:lnTo>
                    <a:lnTo>
                      <a:pt x="1" y="31"/>
                    </a:lnTo>
                    <a:lnTo>
                      <a:pt x="2" y="19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92" y="31"/>
                    </a:lnTo>
                  </a:path>
                </a:pathLst>
              </a:custGeom>
              <a:noFill/>
              <a:ln cap="rnd" w="1260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905040" y="3223800"/>
                <a:ext cx="65160" cy="2664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16"/>
                    </a:moveTo>
                    <a:lnTo>
                      <a:pt x="32" y="9"/>
                    </a:lnTo>
                    <a:lnTo>
                      <a:pt x="23" y="6"/>
                    </a:lnTo>
                    <a:lnTo>
                      <a:pt x="15" y="9"/>
                    </a:lnTo>
                    <a:lnTo>
                      <a:pt x="6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854280" y="3112560"/>
                <a:ext cx="69840" cy="2584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844560" y="3084120"/>
                <a:ext cx="69840" cy="2599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820800" y="3084120"/>
                <a:ext cx="69840" cy="2599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808200" y="3087360"/>
                <a:ext cx="69840" cy="2581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789120" y="3092040"/>
                <a:ext cx="69840" cy="2584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776520" y="3084120"/>
                <a:ext cx="64800" cy="2599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754200" y="3087360"/>
                <a:ext cx="69840" cy="2581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33320" y="3087360"/>
                <a:ext cx="68040" cy="26136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6019920" y="2666880"/>
            <a:ext cx="1206360" cy="8254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3498840"/>
            <a:ext cx="295920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5280" y="2971800"/>
            <a:ext cx="101520" cy="63360"/>
          </a:xfrm>
          <a:custGeom>
            <a:avLst/>
            <a:gdLst>
              <a:gd name="textAreaLeft" fmla="*/ 0 w 101520"/>
              <a:gd name="textAreaRight" fmla="*/ 101880 w 1015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31179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61120" y="2790720"/>
            <a:ext cx="99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80680" y="2286000"/>
            <a:ext cx="127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w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61240" y="2209680"/>
            <a:ext cx="130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kh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514600"/>
            <a:ext cx="8254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94920" y="21337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8080" y="4114800"/>
            <a:ext cx="1953720" cy="1712880"/>
            <a:chOff x="838080" y="4114800"/>
            <a:chExt cx="1953720" cy="1712880"/>
          </a:xfrm>
        </p:grpSpPr>
        <p:graphicFrame>
          <p:nvGraphicFramePr>
            <p:cNvPr id="207" name=""/>
            <p:cNvGraphicFramePr/>
            <p:nvPr/>
          </p:nvGraphicFramePr>
          <p:xfrm>
            <a:off x="838080" y="4114800"/>
            <a:ext cx="947880" cy="171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4114800"/>
                      <a:ext cx="947880" cy="17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1756800" y="5099040"/>
              <a:ext cx="1035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94680" y="4267080"/>
            <a:ext cx="127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w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901960" y="4020120"/>
            <a:ext cx="5784840" cy="1765440"/>
            <a:chOff x="2901960" y="4020120"/>
            <a:chExt cx="5784840" cy="1765440"/>
          </a:xfrm>
        </p:grpSpPr>
        <p:graphicFrame>
          <p:nvGraphicFramePr>
            <p:cNvPr id="212" name=""/>
            <p:cNvGraphicFramePr/>
            <p:nvPr/>
          </p:nvGraphicFramePr>
          <p:xfrm>
            <a:off x="6770520" y="4191120"/>
            <a:ext cx="497160" cy="100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70520" y="4191120"/>
                      <a:ext cx="49716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4" name=""/>
            <p:cNvSpPr/>
            <p:nvPr/>
          </p:nvSpPr>
          <p:spPr>
            <a:xfrm>
              <a:off x="6603840" y="4255920"/>
              <a:ext cx="192240" cy="924120"/>
            </a:xfrm>
            <a:custGeom>
              <a:avLst/>
              <a:gdLst/>
              <a:ahLst/>
              <a:rect l="l" t="t" r="r" b="b"/>
              <a:pathLst>
                <a:path w="121" h="582">
                  <a:moveTo>
                    <a:pt x="105" y="0"/>
                  </a:moveTo>
                  <a:lnTo>
                    <a:pt x="56" y="63"/>
                  </a:lnTo>
                  <a:lnTo>
                    <a:pt x="94" y="63"/>
                  </a:lnTo>
                  <a:lnTo>
                    <a:pt x="30" y="142"/>
                  </a:lnTo>
                  <a:lnTo>
                    <a:pt x="68" y="186"/>
                  </a:lnTo>
                  <a:lnTo>
                    <a:pt x="0" y="205"/>
                  </a:lnTo>
                  <a:lnTo>
                    <a:pt x="105" y="272"/>
                  </a:lnTo>
                  <a:lnTo>
                    <a:pt x="68" y="346"/>
                  </a:lnTo>
                  <a:lnTo>
                    <a:pt x="98" y="384"/>
                  </a:lnTo>
                  <a:lnTo>
                    <a:pt x="30" y="413"/>
                  </a:lnTo>
                  <a:lnTo>
                    <a:pt x="86" y="462"/>
                  </a:lnTo>
                  <a:lnTo>
                    <a:pt x="113" y="473"/>
                  </a:lnTo>
                  <a:lnTo>
                    <a:pt x="56" y="503"/>
                  </a:lnTo>
                  <a:lnTo>
                    <a:pt x="98" y="540"/>
                  </a:lnTo>
                  <a:lnTo>
                    <a:pt x="71" y="551"/>
                  </a:lnTo>
                  <a:lnTo>
                    <a:pt x="116" y="581"/>
                  </a:lnTo>
                  <a:lnTo>
                    <a:pt x="120" y="577"/>
                  </a:lnTo>
                  <a:lnTo>
                    <a:pt x="120" y="574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32200" y="4262400"/>
              <a:ext cx="238320" cy="925560"/>
            </a:xfrm>
            <a:custGeom>
              <a:avLst/>
              <a:gdLst/>
              <a:ahLst/>
              <a:rect l="l" t="t" r="r" b="b"/>
              <a:pathLst>
                <a:path w="150" h="583">
                  <a:moveTo>
                    <a:pt x="130" y="0"/>
                  </a:moveTo>
                  <a:lnTo>
                    <a:pt x="86" y="63"/>
                  </a:lnTo>
                  <a:lnTo>
                    <a:pt x="112" y="63"/>
                  </a:lnTo>
                  <a:lnTo>
                    <a:pt x="60" y="142"/>
                  </a:lnTo>
                  <a:lnTo>
                    <a:pt x="86" y="172"/>
                  </a:lnTo>
                  <a:lnTo>
                    <a:pt x="34" y="209"/>
                  </a:lnTo>
                  <a:lnTo>
                    <a:pt x="130" y="269"/>
                  </a:lnTo>
                  <a:lnTo>
                    <a:pt x="101" y="343"/>
                  </a:lnTo>
                  <a:lnTo>
                    <a:pt x="115" y="373"/>
                  </a:lnTo>
                  <a:lnTo>
                    <a:pt x="60" y="410"/>
                  </a:lnTo>
                  <a:lnTo>
                    <a:pt x="127" y="470"/>
                  </a:lnTo>
                  <a:lnTo>
                    <a:pt x="86" y="500"/>
                  </a:lnTo>
                  <a:lnTo>
                    <a:pt x="115" y="530"/>
                  </a:lnTo>
                  <a:lnTo>
                    <a:pt x="101" y="552"/>
                  </a:lnTo>
                  <a:lnTo>
                    <a:pt x="149" y="582"/>
                  </a:lnTo>
                  <a:lnTo>
                    <a:pt x="71" y="560"/>
                  </a:lnTo>
                  <a:lnTo>
                    <a:pt x="0" y="429"/>
                  </a:lnTo>
                  <a:lnTo>
                    <a:pt x="7" y="287"/>
                  </a:lnTo>
                  <a:lnTo>
                    <a:pt x="22" y="104"/>
                  </a:lnTo>
                  <a:lnTo>
                    <a:pt x="67" y="37"/>
                  </a:lnTo>
                  <a:lnTo>
                    <a:pt x="130" y="0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84760" y="4221000"/>
              <a:ext cx="149040" cy="142920"/>
            </a:xfrm>
            <a:custGeom>
              <a:avLst/>
              <a:gdLst/>
              <a:ahLst/>
              <a:rect l="l" t="t" r="r" b="b"/>
              <a:pathLst>
                <a:path w="94" h="90">
                  <a:moveTo>
                    <a:pt x="93" y="19"/>
                  </a:moveTo>
                  <a:lnTo>
                    <a:pt x="86" y="7"/>
                  </a:lnTo>
                  <a:lnTo>
                    <a:pt x="74" y="4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9"/>
                  </a:lnTo>
                  <a:lnTo>
                    <a:pt x="93" y="1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61000" y="5091120"/>
              <a:ext cx="209520" cy="108000"/>
            </a:xfrm>
            <a:custGeom>
              <a:avLst/>
              <a:gdLst/>
              <a:ahLst/>
              <a:rect l="l" t="t" r="r" b="b"/>
              <a:pathLst>
                <a:path w="132" h="68">
                  <a:moveTo>
                    <a:pt x="131" y="63"/>
                  </a:moveTo>
                  <a:lnTo>
                    <a:pt x="120" y="63"/>
                  </a:lnTo>
                  <a:lnTo>
                    <a:pt x="109" y="63"/>
                  </a:lnTo>
                  <a:lnTo>
                    <a:pt x="97" y="63"/>
                  </a:lnTo>
                  <a:lnTo>
                    <a:pt x="86" y="67"/>
                  </a:lnTo>
                  <a:lnTo>
                    <a:pt x="75" y="63"/>
                  </a:lnTo>
                  <a:lnTo>
                    <a:pt x="64" y="60"/>
                  </a:lnTo>
                  <a:lnTo>
                    <a:pt x="52" y="60"/>
                  </a:lnTo>
                  <a:lnTo>
                    <a:pt x="41" y="56"/>
                  </a:lnTo>
                  <a:lnTo>
                    <a:pt x="30" y="52"/>
                  </a:lnTo>
                  <a:lnTo>
                    <a:pt x="19" y="48"/>
                  </a:lnTo>
                  <a:lnTo>
                    <a:pt x="7" y="45"/>
                  </a:lnTo>
                  <a:lnTo>
                    <a:pt x="0" y="34"/>
                  </a:lnTo>
                  <a:lnTo>
                    <a:pt x="7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4" y="4"/>
                  </a:lnTo>
                  <a:lnTo>
                    <a:pt x="45" y="7"/>
                  </a:lnTo>
                  <a:lnTo>
                    <a:pt x="56" y="19"/>
                  </a:lnTo>
                  <a:lnTo>
                    <a:pt x="64" y="30"/>
                  </a:lnTo>
                  <a:lnTo>
                    <a:pt x="75" y="37"/>
                  </a:lnTo>
                  <a:lnTo>
                    <a:pt x="82" y="48"/>
                  </a:lnTo>
                  <a:lnTo>
                    <a:pt x="94" y="60"/>
                  </a:lnTo>
                  <a:lnTo>
                    <a:pt x="105" y="67"/>
                  </a:lnTo>
                  <a:lnTo>
                    <a:pt x="116" y="63"/>
                  </a:lnTo>
                  <a:lnTo>
                    <a:pt x="105" y="5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4335480" y="4238640"/>
            <a:ext cx="479520" cy="94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5480" y="4238640"/>
                      <a:ext cx="479520" cy="94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 flipH="1">
              <a:off x="2901960" y="4721400"/>
              <a:ext cx="1270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16720" y="4702320"/>
              <a:ext cx="1270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14160" y="53848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79640" y="53848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0240" y="4756320"/>
              <a:ext cx="963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cc99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31840" y="4775040"/>
              <a:ext cx="963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cc99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cc9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29160" y="4203720"/>
              <a:ext cx="959040" cy="844560"/>
            </a:xfrm>
            <a:prstGeom prst="star5">
              <a:avLst/>
            </a:prstGeom>
            <a:solidFill>
              <a:srgbClr val="fe9b03"/>
            </a:solidFill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9620000">
              <a:off x="5424480" y="4212720"/>
              <a:ext cx="958680" cy="844560"/>
            </a:xfrm>
            <a:prstGeom prst="star5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29400" y="4446720"/>
              <a:ext cx="344520" cy="372960"/>
            </a:xfrm>
            <a:prstGeom prst="star5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951600" y="3962520"/>
            <a:ext cx="130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kh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at Mas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066680" y="2057400"/>
                <a:ext cx="46720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ksterna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838080" y="3048120"/>
                <a:ext cx="7413840" cy="23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105520" y="4267080"/>
                <a:ext cx="22032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yang terdiri dari n buah benda, ma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4648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5334120"/>
            <a:ext cx="5105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lah pusat massa dari sistem terse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4267080"/>
            <a:ext cx="4495680" cy="228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oh pusat massa 1 dimen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6716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991040" cy="1022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9243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971800" y="3505320"/>
            <a:ext cx="285264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ya fungsi dari waktu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onsep Momen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mentu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ubahan yang terjadi akibat adanya interaksi antara masing-masing parti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MENTUM LIN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590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kum II New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9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7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0292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uk m konstan, diperoleh bentuk hukum II New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ng dikenal pada dina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3868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339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i momentum lin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57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495680" y="1676520"/>
                <a:ext cx="16002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206960" y="2286000"/>
                <a:ext cx="3854520" cy="24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121280" y="4800600"/>
                <a:ext cx="39560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489560" y="3327480"/>
                <a:ext cx="1648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KEKALAN MOMENTUM LIN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666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uk sistem deng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957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623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7188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9588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66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623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828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ya total pada si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809880" y="1752480"/>
                <a:ext cx="46483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ernal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erna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809880" y="2514600"/>
                <a:ext cx="21909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erna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09480" y="3352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a momentum siste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038480" y="3200400"/>
                <a:ext cx="32338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ste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erna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094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00200" y="4267080"/>
                <a:ext cx="51879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erna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ste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5334120"/>
                <a:ext cx="7410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ste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a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w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ste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khi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st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YA IMPULSIVE DAN IMPU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2124000" cy="2133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06224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1960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3352680" cy="261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86200" y="1371600"/>
                <a:ext cx="32338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erna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ste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733920" y="2895480"/>
                <a:ext cx="4579920" cy="35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erna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ste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stem</m:t>
                                </m:r>
                              </m:sub>
                            </m:sSub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stem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ste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KRIPSI GRAF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6002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fik gaya dari pemukul kepada sebuah bola dan momentum bola selama menerima gaya.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2666880"/>
            <a:ext cx="3886200" cy="3353040"/>
            <a:chOff x="914400" y="2666880"/>
            <a:chExt cx="3886200" cy="3353040"/>
          </a:xfrm>
        </p:grpSpPr>
        <p:grpSp>
          <p:nvGrpSpPr>
            <p:cNvPr id="88" name=""/>
            <p:cNvGrpSpPr/>
            <p:nvPr/>
          </p:nvGrpSpPr>
          <p:grpSpPr>
            <a:xfrm>
              <a:off x="1469520" y="3225600"/>
              <a:ext cx="2775960" cy="1815840"/>
              <a:chOff x="1469520" y="3225600"/>
              <a:chExt cx="2775960" cy="1815840"/>
            </a:xfrm>
          </p:grpSpPr>
          <p:sp>
            <p:nvSpPr>
              <p:cNvPr id="89" name=""/>
              <p:cNvSpPr/>
              <p:nvPr/>
            </p:nvSpPr>
            <p:spPr>
              <a:xfrm>
                <a:off x="1469520" y="3225600"/>
                <a:ext cx="0" cy="18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69520" y="5041440"/>
                <a:ext cx="27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6200000">
                <a:off x="1905120" y="3285000"/>
                <a:ext cx="1320480" cy="2191680"/>
              </a:xfrm>
              <a:prstGeom prst="rtTriangl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914400" y="2666880"/>
              <a:ext cx="12492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r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69520" y="5461200"/>
              <a:ext cx="26370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uas = 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r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t = Impu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51400" y="5041800"/>
              <a:ext cx="12492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(detik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876920" y="2819520"/>
            <a:ext cx="3276000" cy="3425760"/>
            <a:chOff x="4876920" y="2819520"/>
            <a:chExt cx="3276000" cy="3425760"/>
          </a:xfrm>
        </p:grpSpPr>
        <p:sp>
          <p:nvSpPr>
            <p:cNvPr id="96" name=""/>
            <p:cNvSpPr/>
            <p:nvPr/>
          </p:nvSpPr>
          <p:spPr>
            <a:xfrm>
              <a:off x="5270040" y="3360960"/>
              <a:ext cx="0" cy="16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70040" y="5026680"/>
              <a:ext cx="249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270040" y="3672000"/>
              <a:ext cx="1834920" cy="1353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76920" y="2819520"/>
              <a:ext cx="19656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 = mv (kg m/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73560" y="5026680"/>
              <a:ext cx="1179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(detik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70040" y="5432760"/>
              <a:ext cx="24901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n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= 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MBUK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0988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rash" descr="crash test"/>
          <p:cNvPicPr/>
          <p:nvPr/>
        </p:nvPicPr>
        <p:blipFill>
          <a:blip r:embed="rId1"/>
          <a:stretch/>
        </p:blipFill>
        <p:spPr>
          <a:xfrm>
            <a:off x="1447920" y="1676520"/>
            <a:ext cx="63720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NGELOMPOKAN TUMBUK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ting sempur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ting sebag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dak lenting sama seka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i kinetik sistem kons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i kinetik sistem tidak konstan, tetapi berkur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a bergerak bersama setelah tumbukan. Energi kinetik sistem berkura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mbukan Lenting Sempu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mbukan antara dua buah benda, dimana diantaranya terdapat peg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mbukan bola pada permainan billi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laku: Hukum kekekalan Momentum dan Hukum kekekalan Ener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14600" y="2666880"/>
            <a:ext cx="3200400" cy="685800"/>
            <a:chOff x="2514600" y="2666880"/>
            <a:chExt cx="3200400" cy="685800"/>
          </a:xfrm>
        </p:grpSpPr>
        <p:sp>
          <p:nvSpPr>
            <p:cNvPr id="111" name=""/>
            <p:cNvSpPr/>
            <p:nvPr/>
          </p:nvSpPr>
          <p:spPr>
            <a:xfrm>
              <a:off x="4065480" y="2666880"/>
              <a:ext cx="1181160" cy="671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727800" y="2806200"/>
              <a:ext cx="303840" cy="467640"/>
              <a:chOff x="3727800" y="2806200"/>
              <a:chExt cx="303840" cy="4676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3727800" y="2806200"/>
                <a:ext cx="142200" cy="467640"/>
                <a:chOff x="3727800" y="2806200"/>
                <a:chExt cx="142200" cy="46764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727800" y="2806200"/>
                  <a:ext cx="60120" cy="467640"/>
                  <a:chOff x="3727800" y="2806200"/>
                  <a:chExt cx="60120" cy="46764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727800" y="3046680"/>
                    <a:ext cx="0" cy="21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V="1">
                    <a:off x="3746160" y="3033720"/>
                    <a:ext cx="1800" cy="24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3765960" y="2806200"/>
                    <a:ext cx="21960" cy="240120"/>
                    <a:chOff x="3765960" y="2806200"/>
                    <a:chExt cx="21960" cy="24012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 flipV="1">
                      <a:off x="3765960" y="2806200"/>
                      <a:ext cx="2520" cy="240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786120" y="2818800"/>
                      <a:ext cx="1800" cy="214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3807720" y="2806200"/>
                  <a:ext cx="62280" cy="467640"/>
                  <a:chOff x="3807720" y="2806200"/>
                  <a:chExt cx="62280" cy="46764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3807720" y="3046680"/>
                    <a:ext cx="1800" cy="21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>
                    <a:off x="3827520" y="3033720"/>
                    <a:ext cx="0" cy="24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3846240" y="2806200"/>
                    <a:ext cx="23760" cy="240120"/>
                    <a:chOff x="3846240" y="2806200"/>
                    <a:chExt cx="23760" cy="24012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 flipV="1">
                      <a:off x="3846240" y="2806200"/>
                      <a:ext cx="3960" cy="240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3868200" y="2818800"/>
                      <a:ext cx="1800" cy="214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6" name=""/>
              <p:cNvGrpSpPr/>
              <p:nvPr/>
            </p:nvGrpSpPr>
            <p:grpSpPr>
              <a:xfrm>
                <a:off x="3889440" y="2806200"/>
                <a:ext cx="142200" cy="467640"/>
                <a:chOff x="3889440" y="2806200"/>
                <a:chExt cx="142200" cy="46764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89440" y="2806200"/>
                  <a:ext cx="60120" cy="467640"/>
                  <a:chOff x="3889440" y="2806200"/>
                  <a:chExt cx="60120" cy="467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3889440" y="3046680"/>
                    <a:ext cx="0" cy="21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3907800" y="3033720"/>
                    <a:ext cx="6480" cy="24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3932280" y="2806200"/>
                    <a:ext cx="17280" cy="240120"/>
                    <a:chOff x="3932280" y="2806200"/>
                    <a:chExt cx="17280" cy="24012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 flipV="1">
                      <a:off x="3932280" y="2806200"/>
                      <a:ext cx="0" cy="240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3949560" y="2818800"/>
                      <a:ext cx="0" cy="214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3969360" y="2806200"/>
                  <a:ext cx="62280" cy="467640"/>
                  <a:chOff x="3969360" y="2806200"/>
                  <a:chExt cx="62280" cy="4676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3969360" y="3046680"/>
                    <a:ext cx="1800" cy="21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V="1">
                    <a:off x="3989160" y="3033720"/>
                    <a:ext cx="2520" cy="24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4009680" y="2806200"/>
                    <a:ext cx="21960" cy="240120"/>
                    <a:chOff x="4009680" y="2806200"/>
                    <a:chExt cx="21960" cy="24012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 flipV="1">
                      <a:off x="4009680" y="2806200"/>
                      <a:ext cx="2520" cy="240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4029840" y="2818800"/>
                      <a:ext cx="1800" cy="214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39" name=""/>
            <p:cNvSpPr/>
            <p:nvPr/>
          </p:nvSpPr>
          <p:spPr>
            <a:xfrm>
              <a:off x="2865240" y="2818440"/>
              <a:ext cx="853560" cy="519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14600" y="335268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276720" y="4191120"/>
            <a:ext cx="1904400" cy="838080"/>
            <a:chOff x="3276720" y="4191120"/>
            <a:chExt cx="1904400" cy="838080"/>
          </a:xfrm>
        </p:grpSpPr>
        <p:sp>
          <p:nvSpPr>
            <p:cNvPr id="142" name=""/>
            <p:cNvSpPr/>
            <p:nvPr/>
          </p:nvSpPr>
          <p:spPr>
            <a:xfrm>
              <a:off x="3276720" y="4253040"/>
              <a:ext cx="673200" cy="48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03960" y="4543560"/>
              <a:ext cx="677160" cy="485640"/>
            </a:xfrm>
            <a:prstGeom prst="ellipse">
              <a:avLst/>
            </a:prstGeom>
            <a:gradFill rotWithShape="0">
              <a:gsLst>
                <a:gs pos="0">
                  <a:srgbClr val="fc0000"/>
                </a:gs>
                <a:gs pos="100000">
                  <a:srgbClr val="c8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61080" y="4497480"/>
              <a:ext cx="5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24200" y="4191120"/>
              <a:ext cx="969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7:30:01Z</dcterms:created>
  <dc:creator>widayani</dc:creator>
  <dc:description/>
  <dc:language>en-US</dc:language>
  <cp:lastModifiedBy>Medphys</cp:lastModifiedBy>
  <dcterms:modified xsi:type="dcterms:W3CDTF">2004-11-20T12:15:00Z</dcterms:modified>
  <cp:revision>27</cp:revision>
  <dc:subject/>
  <dc:title>MOMENTUM LINIER  DAN IMPULS </dc:title>
</cp:coreProperties>
</file>