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F973-3821-4EFF-B4ED-C92D2743C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9866-BBDD-4F8C-9E50-8B89C6BAD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DD26-734D-4220-B19E-CF8FB6378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B92F-A0F6-4FFC-BBDB-DCD3BF6BD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05CE-8D21-4034-A549-484A226FC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AC29-C519-4BA2-945F-8E4380B37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DE8B-BE30-45B0-B552-6758E5E9A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EA7B-84E0-4EB2-81D5-D91812B82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771D-1469-4A74-B7DF-94459FAEA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F14B-A3AF-4ED5-97FD-1EF8BA936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6559-94EF-4B8A-9EC4-0CDC075AA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1498-F0A7-4F68-B34F-11A6E4253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99150-A36A-4688-A8EB-3136F26220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MENTUM LINI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N IMPUL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25520" y="1981080"/>
            <a:ext cx="46929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umbukan Tidak Len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luru yang bergerak bersama dengan targetny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m yang meleda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rlaku: Hukum kekekalan Moment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716040" y="2486160"/>
            <a:ext cx="4224240" cy="1012680"/>
            <a:chOff x="716040" y="2486160"/>
            <a:chExt cx="4224240" cy="1012680"/>
          </a:xfrm>
        </p:grpSpPr>
        <p:sp>
          <p:nvSpPr>
            <p:cNvPr id="149" name=""/>
            <p:cNvSpPr/>
            <p:nvPr/>
          </p:nvSpPr>
          <p:spPr>
            <a:xfrm>
              <a:off x="2438640" y="2666880"/>
              <a:ext cx="1206360" cy="825120"/>
            </a:xfrm>
            <a:prstGeom prst="rect">
              <a:avLst/>
            </a:prstGeom>
            <a:solidFill>
              <a:srgbClr val="fc0000"/>
            </a:solidFill>
            <a:ln w="12600">
              <a:solidFill>
                <a:srgbClr val="f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981440" y="3498840"/>
              <a:ext cx="2958840" cy="0"/>
            </a:xfrm>
            <a:prstGeom prst="line">
              <a:avLst/>
            </a:prstGeom>
            <a:ln w="1260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1" name=""/>
            <p:cNvGrpSpPr/>
            <p:nvPr/>
          </p:nvGrpSpPr>
          <p:grpSpPr>
            <a:xfrm>
              <a:off x="1294560" y="2486160"/>
              <a:ext cx="902520" cy="548640"/>
              <a:chOff x="1294560" y="2486160"/>
              <a:chExt cx="902520" cy="548640"/>
            </a:xfrm>
          </p:grpSpPr>
          <p:sp>
            <p:nvSpPr>
              <p:cNvPr id="152" name=""/>
              <p:cNvSpPr/>
              <p:nvPr/>
            </p:nvSpPr>
            <p:spPr>
              <a:xfrm>
                <a:off x="1752840" y="2971800"/>
                <a:ext cx="139680" cy="63000"/>
              </a:xfrm>
              <a:custGeom>
                <a:avLst/>
                <a:gdLst>
                  <a:gd name="textAreaLeft" fmla="*/ 0 w 139680"/>
                  <a:gd name="textAreaRight" fmla="*/ 140040 w 139680"/>
                  <a:gd name="textAreaTop" fmla="*/ 0 h 63000"/>
                  <a:gd name="textAreaBottom" fmla="*/ 63000 h 63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4400" y="0"/>
                    </a:lnTo>
                    <a:lnTo>
                      <a:pt x="21600" y="10800"/>
                    </a:lnTo>
                    <a:lnTo>
                      <a:pt x="144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3333cc"/>
              </a:solidFill>
              <a:ln w="126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1447920" y="2813040"/>
                <a:ext cx="749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1294560" y="2486160"/>
                <a:ext cx="8812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716040" y="2895480"/>
              <a:ext cx="801720" cy="565920"/>
              <a:chOff x="716040" y="2895480"/>
              <a:chExt cx="801720" cy="565920"/>
            </a:xfrm>
          </p:grpSpPr>
          <p:sp>
            <p:nvSpPr>
              <p:cNvPr id="156" name=""/>
              <p:cNvSpPr/>
              <p:nvPr/>
            </p:nvSpPr>
            <p:spPr>
              <a:xfrm>
                <a:off x="1092240" y="2996640"/>
                <a:ext cx="387360" cy="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1094040" y="3034800"/>
                <a:ext cx="387360" cy="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1487520" y="2974320"/>
                <a:ext cx="0" cy="7452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1517760" y="2979360"/>
                <a:ext cx="0" cy="7416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1487520" y="2937960"/>
                <a:ext cx="27000" cy="3132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16" y="16"/>
                    </a:moveTo>
                    <a:lnTo>
                      <a:pt x="9" y="8"/>
                    </a:lnTo>
                    <a:lnTo>
                      <a:pt x="5" y="0"/>
                    </a:lnTo>
                    <a:lnTo>
                      <a:pt x="1" y="8"/>
                    </a:lnTo>
                    <a:lnTo>
                      <a:pt x="0" y="19"/>
                    </a:lnTo>
                    <a:lnTo>
                      <a:pt x="16" y="16"/>
                    </a:lnTo>
                  </a:path>
                </a:pathLst>
              </a:custGeom>
              <a:noFill/>
              <a:ln cap="rnd" w="12600">
                <a:solidFill>
                  <a:srgbClr val="91919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1152720" y="2953800"/>
                <a:ext cx="1440" cy="16956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flipV="1">
                <a:off x="923760" y="2944440"/>
                <a:ext cx="237960" cy="1368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H="1">
                <a:off x="788760" y="2898360"/>
                <a:ext cx="158760" cy="288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787680" y="2903040"/>
                <a:ext cx="0" cy="18216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V="1">
                <a:off x="793800" y="3057120"/>
                <a:ext cx="149400" cy="1368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H="1">
                <a:off x="952200" y="3111120"/>
                <a:ext cx="103320" cy="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rot="4920000">
                <a:off x="877680" y="3055680"/>
                <a:ext cx="158040" cy="183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4021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40219"/>
                  </a:path>
                </a:pathLst>
              </a:custGeom>
              <a:noFill/>
              <a:ln cap="rnd"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960480" y="3130200"/>
                <a:ext cx="27000" cy="43920"/>
              </a:xfrm>
              <a:custGeom>
                <a:avLst/>
                <a:gdLst/>
                <a:ahLst/>
                <a:rect l="l" t="t" r="r" b="b"/>
                <a:pathLst>
                  <a:path w="17" h="28">
                    <a:moveTo>
                      <a:pt x="12" y="0"/>
                    </a:moveTo>
                    <a:lnTo>
                      <a:pt x="16" y="10"/>
                    </a:lnTo>
                    <a:lnTo>
                      <a:pt x="8" y="16"/>
                    </a:lnTo>
                    <a:lnTo>
                      <a:pt x="9" y="27"/>
                    </a:lnTo>
                    <a:lnTo>
                      <a:pt x="6" y="17"/>
                    </a:lnTo>
                    <a:lnTo>
                      <a:pt x="0" y="10"/>
                    </a:lnTo>
                    <a:lnTo>
                      <a:pt x="4" y="0"/>
                    </a:lnTo>
                    <a:lnTo>
                      <a:pt x="1" y="11"/>
                    </a:lnTo>
                    <a:lnTo>
                      <a:pt x="0" y="22"/>
                    </a:lnTo>
                    <a:lnTo>
                      <a:pt x="12" y="0"/>
                    </a:lnTo>
                  </a:path>
                </a:pathLst>
              </a:custGeom>
              <a:noFill/>
              <a:ln cap="rnd" w="12600">
                <a:solidFill>
                  <a:srgbClr val="91919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H="1">
                <a:off x="925560" y="2895480"/>
                <a:ext cx="14400" cy="8208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flipH="1">
                <a:off x="920880" y="3114360"/>
                <a:ext cx="239760" cy="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941400" y="3028320"/>
                <a:ext cx="0" cy="8388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rot="2700000">
                <a:off x="960480" y="3044160"/>
                <a:ext cx="208440" cy="212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4751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4751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V="1">
                <a:off x="1096920" y="2998440"/>
                <a:ext cx="384480" cy="1368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790560" y="2972880"/>
                <a:ext cx="358920" cy="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946440" y="3060360"/>
                <a:ext cx="188640" cy="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flipV="1">
                <a:off x="792360" y="2986920"/>
                <a:ext cx="357120" cy="1548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flipV="1">
                <a:off x="792360" y="3007440"/>
                <a:ext cx="357120" cy="1548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792360" y="3038040"/>
                <a:ext cx="357120" cy="108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965160" y="3085560"/>
                <a:ext cx="189000" cy="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978120" y="3180960"/>
                <a:ext cx="185760" cy="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800280" y="2918880"/>
                <a:ext cx="131760" cy="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800280" y="2939400"/>
                <a:ext cx="131760" cy="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798480" y="2952360"/>
                <a:ext cx="131760" cy="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1506600" y="2979360"/>
                <a:ext cx="0" cy="7416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flipH="1">
                <a:off x="716040" y="3103200"/>
                <a:ext cx="69840" cy="258120"/>
              </a:xfrm>
              <a:prstGeom prst="line">
                <a:avLst/>
              </a:prstGeom>
              <a:ln w="12600">
                <a:solidFill>
                  <a:srgbClr val="ad6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flipH="1">
                <a:off x="866880" y="3131640"/>
                <a:ext cx="69840" cy="258480"/>
              </a:xfrm>
              <a:prstGeom prst="line">
                <a:avLst/>
              </a:prstGeom>
              <a:ln w="12600">
                <a:solidFill>
                  <a:srgbClr val="ad6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719280" y="3352320"/>
                <a:ext cx="147600" cy="109080"/>
              </a:xfrm>
              <a:custGeom>
                <a:avLst/>
                <a:gdLst/>
                <a:ahLst/>
                <a:rect l="l" t="t" r="r" b="b"/>
                <a:pathLst>
                  <a:path w="93" h="69">
                    <a:moveTo>
                      <a:pt x="92" y="31"/>
                    </a:moveTo>
                    <a:lnTo>
                      <a:pt x="87" y="37"/>
                    </a:lnTo>
                    <a:lnTo>
                      <a:pt x="82" y="44"/>
                    </a:lnTo>
                    <a:lnTo>
                      <a:pt x="76" y="49"/>
                    </a:lnTo>
                    <a:lnTo>
                      <a:pt x="68" y="53"/>
                    </a:lnTo>
                    <a:lnTo>
                      <a:pt x="62" y="58"/>
                    </a:lnTo>
                    <a:lnTo>
                      <a:pt x="55" y="62"/>
                    </a:lnTo>
                    <a:lnTo>
                      <a:pt x="48" y="65"/>
                    </a:lnTo>
                    <a:lnTo>
                      <a:pt x="38" y="68"/>
                    </a:lnTo>
                    <a:lnTo>
                      <a:pt x="32" y="63"/>
                    </a:lnTo>
                    <a:lnTo>
                      <a:pt x="25" y="66"/>
                    </a:lnTo>
                    <a:lnTo>
                      <a:pt x="18" y="63"/>
                    </a:lnTo>
                    <a:lnTo>
                      <a:pt x="12" y="58"/>
                    </a:lnTo>
                    <a:lnTo>
                      <a:pt x="6" y="50"/>
                    </a:lnTo>
                    <a:lnTo>
                      <a:pt x="2" y="42"/>
                    </a:lnTo>
                    <a:lnTo>
                      <a:pt x="1" y="31"/>
                    </a:lnTo>
                    <a:lnTo>
                      <a:pt x="2" y="19"/>
                    </a:lnTo>
                    <a:lnTo>
                      <a:pt x="0" y="10"/>
                    </a:lnTo>
                    <a:lnTo>
                      <a:pt x="2" y="0"/>
                    </a:lnTo>
                    <a:lnTo>
                      <a:pt x="7" y="3"/>
                    </a:lnTo>
                    <a:lnTo>
                      <a:pt x="92" y="31"/>
                    </a:lnTo>
                  </a:path>
                </a:pathLst>
              </a:custGeom>
              <a:noFill/>
              <a:ln cap="rnd" w="12600">
                <a:solidFill>
                  <a:srgbClr val="ad6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905040" y="3223800"/>
                <a:ext cx="65160" cy="26640"/>
              </a:xfrm>
              <a:custGeom>
                <a:avLst/>
                <a:gdLst/>
                <a:ahLst/>
                <a:rect l="l" t="t" r="r" b="b"/>
                <a:pathLst>
                  <a:path w="41" h="17">
                    <a:moveTo>
                      <a:pt x="40" y="16"/>
                    </a:moveTo>
                    <a:lnTo>
                      <a:pt x="32" y="9"/>
                    </a:lnTo>
                    <a:lnTo>
                      <a:pt x="23" y="6"/>
                    </a:lnTo>
                    <a:lnTo>
                      <a:pt x="15" y="9"/>
                    </a:lnTo>
                    <a:lnTo>
                      <a:pt x="6" y="6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91919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flipH="1">
                <a:off x="854280" y="3112560"/>
                <a:ext cx="69840" cy="258480"/>
              </a:xfrm>
              <a:prstGeom prst="line">
                <a:avLst/>
              </a:prstGeom>
              <a:ln w="12600">
                <a:solidFill>
                  <a:srgbClr val="ad6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flipH="1">
                <a:off x="844560" y="3084120"/>
                <a:ext cx="69840" cy="259920"/>
              </a:xfrm>
              <a:prstGeom prst="line">
                <a:avLst/>
              </a:prstGeom>
              <a:ln w="12600">
                <a:solidFill>
                  <a:srgbClr val="ad6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flipH="1">
                <a:off x="820800" y="3084120"/>
                <a:ext cx="69840" cy="259920"/>
              </a:xfrm>
              <a:prstGeom prst="line">
                <a:avLst/>
              </a:prstGeom>
              <a:ln w="12600">
                <a:solidFill>
                  <a:srgbClr val="ad6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flipH="1">
                <a:off x="808200" y="3087360"/>
                <a:ext cx="69840" cy="258120"/>
              </a:xfrm>
              <a:prstGeom prst="line">
                <a:avLst/>
              </a:prstGeom>
              <a:ln w="12600">
                <a:solidFill>
                  <a:srgbClr val="ad6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flipH="1">
                <a:off x="789120" y="3092040"/>
                <a:ext cx="69840" cy="258480"/>
              </a:xfrm>
              <a:prstGeom prst="line">
                <a:avLst/>
              </a:prstGeom>
              <a:ln w="12600">
                <a:solidFill>
                  <a:srgbClr val="ad6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flipH="1">
                <a:off x="776520" y="3084120"/>
                <a:ext cx="64800" cy="259920"/>
              </a:xfrm>
              <a:prstGeom prst="line">
                <a:avLst/>
              </a:prstGeom>
              <a:ln w="12600">
                <a:solidFill>
                  <a:srgbClr val="ad6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H="1">
                <a:off x="754200" y="3087360"/>
                <a:ext cx="69840" cy="258120"/>
              </a:xfrm>
              <a:prstGeom prst="line">
                <a:avLst/>
              </a:prstGeom>
              <a:ln w="12600">
                <a:solidFill>
                  <a:srgbClr val="ad6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flipH="1">
                <a:off x="733320" y="3087360"/>
                <a:ext cx="68040" cy="261360"/>
              </a:xfrm>
              <a:prstGeom prst="line">
                <a:avLst/>
              </a:prstGeom>
              <a:ln w="12600">
                <a:solidFill>
                  <a:srgbClr val="ad6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7" name=""/>
          <p:cNvSpPr/>
          <p:nvPr/>
        </p:nvSpPr>
        <p:spPr>
          <a:xfrm>
            <a:off x="6019920" y="2666880"/>
            <a:ext cx="1206360" cy="825480"/>
          </a:xfrm>
          <a:prstGeom prst="rect">
            <a:avLst/>
          </a:prstGeom>
          <a:solidFill>
            <a:srgbClr val="fc0000"/>
          </a:solidFill>
          <a:ln w="12600">
            <a:solidFill>
              <a:srgbClr val="f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181480" y="3498840"/>
            <a:ext cx="2959200" cy="0"/>
          </a:xfrm>
          <a:prstGeom prst="line">
            <a:avLst/>
          </a:prstGeom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515280" y="2971800"/>
            <a:ext cx="101520" cy="63360"/>
          </a:xfrm>
          <a:custGeom>
            <a:avLst/>
            <a:gdLst>
              <a:gd name="textAreaLeft" fmla="*/ 0 w 101520"/>
              <a:gd name="textAreaRight" fmla="*/ 101880 w 101520"/>
              <a:gd name="textAreaTop" fmla="*/ 0 h 63360"/>
              <a:gd name="textAreaBottom" fmla="*/ 63720 h 63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467480" y="3117960"/>
            <a:ext cx="368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161120" y="2790720"/>
            <a:ext cx="992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380680" y="2286000"/>
            <a:ext cx="1277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w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961240" y="2209680"/>
            <a:ext cx="1306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kh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419720" y="2514600"/>
            <a:ext cx="825480" cy="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894920" y="2133720"/>
            <a:ext cx="881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838080" y="4114800"/>
            <a:ext cx="1953720" cy="1712880"/>
            <a:chOff x="838080" y="4114800"/>
            <a:chExt cx="1953720" cy="1712880"/>
          </a:xfrm>
        </p:grpSpPr>
        <p:graphicFrame>
          <p:nvGraphicFramePr>
            <p:cNvPr id="207" name=""/>
            <p:cNvGraphicFramePr/>
            <p:nvPr/>
          </p:nvGraphicFramePr>
          <p:xfrm>
            <a:off x="838080" y="4114800"/>
            <a:ext cx="947880" cy="1712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0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838080" y="4114800"/>
                      <a:ext cx="947880" cy="171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9" name=""/>
            <p:cNvSpPr/>
            <p:nvPr/>
          </p:nvSpPr>
          <p:spPr>
            <a:xfrm>
              <a:off x="1756800" y="5099040"/>
              <a:ext cx="10350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M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94680" y="4267080"/>
            <a:ext cx="1277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w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2901960" y="4020120"/>
            <a:ext cx="5784840" cy="1765440"/>
            <a:chOff x="2901960" y="4020120"/>
            <a:chExt cx="5784840" cy="1765440"/>
          </a:xfrm>
        </p:grpSpPr>
        <p:graphicFrame>
          <p:nvGraphicFramePr>
            <p:cNvPr id="212" name=""/>
            <p:cNvGraphicFramePr/>
            <p:nvPr/>
          </p:nvGraphicFramePr>
          <p:xfrm>
            <a:off x="6770520" y="4191120"/>
            <a:ext cx="497160" cy="1008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1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770520" y="4191120"/>
                      <a:ext cx="497160" cy="100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4" name=""/>
            <p:cNvSpPr/>
            <p:nvPr/>
          </p:nvSpPr>
          <p:spPr>
            <a:xfrm>
              <a:off x="6603840" y="4255920"/>
              <a:ext cx="192240" cy="924120"/>
            </a:xfrm>
            <a:custGeom>
              <a:avLst/>
              <a:gdLst/>
              <a:ahLst/>
              <a:rect l="l" t="t" r="r" b="b"/>
              <a:pathLst>
                <a:path w="121" h="582">
                  <a:moveTo>
                    <a:pt x="105" y="0"/>
                  </a:moveTo>
                  <a:lnTo>
                    <a:pt x="56" y="63"/>
                  </a:lnTo>
                  <a:lnTo>
                    <a:pt x="94" y="63"/>
                  </a:lnTo>
                  <a:lnTo>
                    <a:pt x="30" y="142"/>
                  </a:lnTo>
                  <a:lnTo>
                    <a:pt x="68" y="186"/>
                  </a:lnTo>
                  <a:lnTo>
                    <a:pt x="0" y="205"/>
                  </a:lnTo>
                  <a:lnTo>
                    <a:pt x="105" y="272"/>
                  </a:lnTo>
                  <a:lnTo>
                    <a:pt x="68" y="346"/>
                  </a:lnTo>
                  <a:lnTo>
                    <a:pt x="98" y="384"/>
                  </a:lnTo>
                  <a:lnTo>
                    <a:pt x="30" y="413"/>
                  </a:lnTo>
                  <a:lnTo>
                    <a:pt x="86" y="462"/>
                  </a:lnTo>
                  <a:lnTo>
                    <a:pt x="113" y="473"/>
                  </a:lnTo>
                  <a:lnTo>
                    <a:pt x="56" y="503"/>
                  </a:lnTo>
                  <a:lnTo>
                    <a:pt x="98" y="540"/>
                  </a:lnTo>
                  <a:lnTo>
                    <a:pt x="71" y="551"/>
                  </a:lnTo>
                  <a:lnTo>
                    <a:pt x="116" y="581"/>
                  </a:lnTo>
                  <a:lnTo>
                    <a:pt x="120" y="577"/>
                  </a:lnTo>
                  <a:lnTo>
                    <a:pt x="120" y="574"/>
                  </a:lnTo>
                </a:path>
              </a:pathLst>
            </a:custGeom>
            <a:solidFill>
              <a:srgbClr val="232323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732200" y="4262400"/>
              <a:ext cx="238320" cy="925560"/>
            </a:xfrm>
            <a:custGeom>
              <a:avLst/>
              <a:gdLst/>
              <a:ahLst/>
              <a:rect l="l" t="t" r="r" b="b"/>
              <a:pathLst>
                <a:path w="150" h="583">
                  <a:moveTo>
                    <a:pt x="130" y="0"/>
                  </a:moveTo>
                  <a:lnTo>
                    <a:pt x="86" y="63"/>
                  </a:lnTo>
                  <a:lnTo>
                    <a:pt x="112" y="63"/>
                  </a:lnTo>
                  <a:lnTo>
                    <a:pt x="60" y="142"/>
                  </a:lnTo>
                  <a:lnTo>
                    <a:pt x="86" y="172"/>
                  </a:lnTo>
                  <a:lnTo>
                    <a:pt x="34" y="209"/>
                  </a:lnTo>
                  <a:lnTo>
                    <a:pt x="130" y="269"/>
                  </a:lnTo>
                  <a:lnTo>
                    <a:pt x="101" y="343"/>
                  </a:lnTo>
                  <a:lnTo>
                    <a:pt x="115" y="373"/>
                  </a:lnTo>
                  <a:lnTo>
                    <a:pt x="60" y="410"/>
                  </a:lnTo>
                  <a:lnTo>
                    <a:pt x="127" y="470"/>
                  </a:lnTo>
                  <a:lnTo>
                    <a:pt x="86" y="500"/>
                  </a:lnTo>
                  <a:lnTo>
                    <a:pt x="115" y="530"/>
                  </a:lnTo>
                  <a:lnTo>
                    <a:pt x="101" y="552"/>
                  </a:lnTo>
                  <a:lnTo>
                    <a:pt x="149" y="582"/>
                  </a:lnTo>
                  <a:lnTo>
                    <a:pt x="71" y="560"/>
                  </a:lnTo>
                  <a:lnTo>
                    <a:pt x="0" y="429"/>
                  </a:lnTo>
                  <a:lnTo>
                    <a:pt x="7" y="287"/>
                  </a:lnTo>
                  <a:lnTo>
                    <a:pt x="22" y="104"/>
                  </a:lnTo>
                  <a:lnTo>
                    <a:pt x="67" y="37"/>
                  </a:lnTo>
                  <a:lnTo>
                    <a:pt x="130" y="0"/>
                  </a:lnTo>
                </a:path>
              </a:pathLst>
            </a:custGeom>
            <a:solidFill>
              <a:srgbClr val="232323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84760" y="4221000"/>
              <a:ext cx="149040" cy="142920"/>
            </a:xfrm>
            <a:custGeom>
              <a:avLst/>
              <a:gdLst/>
              <a:ahLst/>
              <a:rect l="l" t="t" r="r" b="b"/>
              <a:pathLst>
                <a:path w="94" h="90">
                  <a:moveTo>
                    <a:pt x="93" y="19"/>
                  </a:moveTo>
                  <a:lnTo>
                    <a:pt x="86" y="7"/>
                  </a:lnTo>
                  <a:lnTo>
                    <a:pt x="74" y="4"/>
                  </a:lnTo>
                  <a:lnTo>
                    <a:pt x="63" y="0"/>
                  </a:lnTo>
                  <a:lnTo>
                    <a:pt x="52" y="0"/>
                  </a:lnTo>
                  <a:lnTo>
                    <a:pt x="41" y="0"/>
                  </a:lnTo>
                  <a:lnTo>
                    <a:pt x="30" y="0"/>
                  </a:lnTo>
                  <a:lnTo>
                    <a:pt x="19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89"/>
                  </a:lnTo>
                  <a:lnTo>
                    <a:pt x="93" y="19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761000" y="5091120"/>
              <a:ext cx="209520" cy="108000"/>
            </a:xfrm>
            <a:custGeom>
              <a:avLst/>
              <a:gdLst/>
              <a:ahLst/>
              <a:rect l="l" t="t" r="r" b="b"/>
              <a:pathLst>
                <a:path w="132" h="68">
                  <a:moveTo>
                    <a:pt x="131" y="63"/>
                  </a:moveTo>
                  <a:lnTo>
                    <a:pt x="120" y="63"/>
                  </a:lnTo>
                  <a:lnTo>
                    <a:pt x="109" y="63"/>
                  </a:lnTo>
                  <a:lnTo>
                    <a:pt x="97" y="63"/>
                  </a:lnTo>
                  <a:lnTo>
                    <a:pt x="86" y="67"/>
                  </a:lnTo>
                  <a:lnTo>
                    <a:pt x="75" y="63"/>
                  </a:lnTo>
                  <a:lnTo>
                    <a:pt x="64" y="60"/>
                  </a:lnTo>
                  <a:lnTo>
                    <a:pt x="52" y="60"/>
                  </a:lnTo>
                  <a:lnTo>
                    <a:pt x="41" y="56"/>
                  </a:lnTo>
                  <a:lnTo>
                    <a:pt x="30" y="52"/>
                  </a:lnTo>
                  <a:lnTo>
                    <a:pt x="19" y="48"/>
                  </a:lnTo>
                  <a:lnTo>
                    <a:pt x="7" y="45"/>
                  </a:lnTo>
                  <a:lnTo>
                    <a:pt x="0" y="34"/>
                  </a:lnTo>
                  <a:lnTo>
                    <a:pt x="7" y="22"/>
                  </a:lnTo>
                  <a:lnTo>
                    <a:pt x="11" y="11"/>
                  </a:lnTo>
                  <a:lnTo>
                    <a:pt x="22" y="0"/>
                  </a:lnTo>
                  <a:lnTo>
                    <a:pt x="34" y="4"/>
                  </a:lnTo>
                  <a:lnTo>
                    <a:pt x="45" y="7"/>
                  </a:lnTo>
                  <a:lnTo>
                    <a:pt x="56" y="19"/>
                  </a:lnTo>
                  <a:lnTo>
                    <a:pt x="64" y="30"/>
                  </a:lnTo>
                  <a:lnTo>
                    <a:pt x="75" y="37"/>
                  </a:lnTo>
                  <a:lnTo>
                    <a:pt x="82" y="48"/>
                  </a:lnTo>
                  <a:lnTo>
                    <a:pt x="94" y="60"/>
                  </a:lnTo>
                  <a:lnTo>
                    <a:pt x="105" y="67"/>
                  </a:lnTo>
                  <a:lnTo>
                    <a:pt x="116" y="63"/>
                  </a:lnTo>
                  <a:lnTo>
                    <a:pt x="105" y="56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18" name=""/>
            <p:cNvGraphicFramePr/>
            <p:nvPr/>
          </p:nvGraphicFramePr>
          <p:xfrm>
            <a:off x="4335480" y="4238640"/>
            <a:ext cx="479520" cy="9493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1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335480" y="4238640"/>
                      <a:ext cx="479520" cy="949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0" name=""/>
            <p:cNvSpPr/>
            <p:nvPr/>
          </p:nvSpPr>
          <p:spPr>
            <a:xfrm flipH="1">
              <a:off x="2901960" y="4721400"/>
              <a:ext cx="1270080" cy="0"/>
            </a:xfrm>
            <a:prstGeom prst="line">
              <a:avLst/>
            </a:prstGeom>
            <a:ln w="1260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7416720" y="4702320"/>
              <a:ext cx="1270080" cy="0"/>
            </a:xfrm>
            <a:prstGeom prst="line">
              <a:avLst/>
            </a:prstGeom>
            <a:ln w="12600">
              <a:solidFill>
                <a:srgbClr val="00cc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14160" y="5384880"/>
              <a:ext cx="104724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i="1" lang="en-US" sz="20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479640" y="5384880"/>
              <a:ext cx="104724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i="1" lang="en-US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90240" y="4756320"/>
              <a:ext cx="96372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cc99"/>
                  </a:solidFill>
                  <a:latin typeface="Arial"/>
                </a:rPr>
                <a:t>v</a:t>
              </a:r>
              <a:r>
                <a:rPr b="0" i="1" lang="en-US" sz="2000" spc="-1" strike="noStrike" baseline="-25000">
                  <a:solidFill>
                    <a:srgbClr val="00cc99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431840" y="4775040"/>
              <a:ext cx="96372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cc99"/>
                  </a:solidFill>
                  <a:latin typeface="Arial"/>
                </a:rPr>
                <a:t>v</a:t>
              </a:r>
              <a:r>
                <a:rPr b="0" i="1" lang="en-US" sz="2000" spc="-1" strike="noStrike" baseline="-25000">
                  <a:solidFill>
                    <a:srgbClr val="00cc99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429160" y="4203720"/>
              <a:ext cx="959040" cy="844560"/>
            </a:xfrm>
            <a:prstGeom prst="star5">
              <a:avLst/>
            </a:prstGeom>
            <a:solidFill>
              <a:srgbClr val="fe9b03"/>
            </a:solidFill>
            <a:ln w="1260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9620000">
              <a:off x="5424480" y="4212720"/>
              <a:ext cx="958680" cy="844560"/>
            </a:xfrm>
            <a:prstGeom prst="star5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729400" y="4446720"/>
              <a:ext cx="344520" cy="372960"/>
            </a:xfrm>
            <a:prstGeom prst="star5">
              <a:avLst/>
            </a:prstGeom>
            <a:solidFill>
              <a:srgbClr val="fc0000"/>
            </a:solidFill>
            <a:ln w="12600">
              <a:solidFill>
                <a:srgbClr val="f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9" name=""/>
          <p:cNvSpPr/>
          <p:nvPr/>
        </p:nvSpPr>
        <p:spPr>
          <a:xfrm>
            <a:off x="6951600" y="3962520"/>
            <a:ext cx="1306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kh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sat Mass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1066680" y="2057400"/>
                <a:ext cx="4672080" cy="11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otal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ksternal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838080" y="3048120"/>
                <a:ext cx="7413840" cy="235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f>
                              <m:num>
                                <m:sSup>
                                  <m:e>
                                    <m:r>
                                      <m:t xml:space="preserve">d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num>
                              <m:den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t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nary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t xml:space="preserve">M</m:t>
                        </m:r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nary>
                                  <m:naryPr>
                                    <m:chr m:val="∑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r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nary>
                              </m:num>
                              <m:den>
                                <m:r>
                                  <m:t xml:space="preserve">M</m:t>
                                </m:r>
                              </m:den>
                            </m:f>
                          </m:e>
                        </m:d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M</m:t>
                        </m:r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5105520" y="4267080"/>
                <a:ext cx="2203200" cy="12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num>
                      <m:den>
                        <m:r>
                          <m:t xml:space="preserve">M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stem yang terdiri dari n buah benda, mak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581280" y="4648320"/>
            <a:ext cx="1828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man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581280" y="5334120"/>
            <a:ext cx="510552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alah pusat massa dari sistem terseb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505320" y="4267080"/>
            <a:ext cx="4495680" cy="2286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toh pusat massa 1 dimens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567160" y="30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2057400" y="2209680"/>
            <a:ext cx="4991040" cy="102240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3924360" y="319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2971800" y="3505320"/>
            <a:ext cx="2852640" cy="106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ya fungsi dari waktu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Konsep Moment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mentum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erubahan yang terjadi akibat adanya interaksi antara masing-masing partik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MENTUM LINI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2590920"/>
            <a:ext cx="35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kum II New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21956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05756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33520" y="5029200"/>
            <a:ext cx="3809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tuk m konstan, diperoleh bentuk hukum II Newt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ang dikenal pada dinami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3868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23396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17524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isi momentum lini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05756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4495680" y="1676520"/>
                <a:ext cx="160020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=</m:t>
                    </m:r>
                    <m:r>
                      <m:t xml:space="preserve">m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206960" y="2286000"/>
                <a:ext cx="3854520" cy="246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</m:nary>
                        <m:r>
                          <m:t xml:space="preserve">=</m:t>
                        </m:r>
                        <m:f>
                          <m:num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m {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</m:eqAr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m</m:t>
                    </m:r>
                    <m:f>
                      <m:num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4121280" y="4800600"/>
                <a:ext cx="3956040" cy="13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</m:nary>
                    <m:r>
                      <m:t xml:space="preserve">=</m:t>
                    </m:r>
                    <m:r>
                      <m:t xml:space="preserve">m</m:t>
                    </m:r>
                    <m:f>
                      <m:num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m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4489560" y="3327480"/>
                <a:ext cx="164880" cy="2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KEKEKALAN MOMENTUM LINI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995640" y="32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995640" y="32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9480" y="266688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tuk sistem deng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69576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6236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971880" y="32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295880" y="32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07664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76236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9480" y="182880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ya total pada siste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3809880" y="1752480"/>
                <a:ext cx="4648320" cy="7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ternal</m:t>
                            </m:r>
                          </m:sub>
                        </m:sSub>
                      </m:e>
                    </m:nary>
                    <m:r>
                      <m:t xml:space="preserve">+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xternal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3809880" y="2514600"/>
                <a:ext cx="2190960" cy="7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ternal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609480" y="335268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a momentum sistem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4038480" y="3200400"/>
                <a:ext cx="3233880" cy="104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istem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xternal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73" name=""/>
          <p:cNvSpPr/>
          <p:nvPr/>
        </p:nvSpPr>
        <p:spPr>
          <a:xfrm>
            <a:off x="609480" y="4419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i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1600200" y="4267080"/>
                <a:ext cx="5187960" cy="104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xternal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d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istem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762120" y="5334120"/>
                <a:ext cx="741024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istem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Konstan</m:t>
                    </m:r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wal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istem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khi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iste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YA IMPULSIVE DAN IMPUL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60036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143000" y="1447920"/>
            <a:ext cx="2124000" cy="21333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4062240" y="300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819600" y="300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733920" y="24382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U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228600" y="3505320"/>
            <a:ext cx="3352680" cy="2616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3886200" y="1371600"/>
                <a:ext cx="3233880" cy="104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xternal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istem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3733920" y="2895480"/>
                <a:ext cx="4579920" cy="354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sup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external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sup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istem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sup>
                          <m:e>
                            <m:r>
                              <m:t xml:space="preserve">d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p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sistem</m:t>
                                </m:r>
                              </m:sub>
                            </m:sSub>
                          </m:e>
                        </m:nary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sSub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e>
                            </m:d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istem</m:t>
                            </m:r>
                          </m:sub>
                        </m:sSub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sSub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</m:e>
                            </m:d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istem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SKRIPSI GRAFI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066680" y="1600200"/>
            <a:ext cx="66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fik gaya dari pemukul kepada sebuah bola dan momentum bola selama menerima gaya.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914400" y="2666880"/>
            <a:ext cx="3886200" cy="3353040"/>
            <a:chOff x="914400" y="2666880"/>
            <a:chExt cx="3886200" cy="3353040"/>
          </a:xfrm>
        </p:grpSpPr>
        <p:grpSp>
          <p:nvGrpSpPr>
            <p:cNvPr id="88" name=""/>
            <p:cNvGrpSpPr/>
            <p:nvPr/>
          </p:nvGrpSpPr>
          <p:grpSpPr>
            <a:xfrm>
              <a:off x="1469520" y="3225600"/>
              <a:ext cx="2775960" cy="1815840"/>
              <a:chOff x="1469520" y="3225600"/>
              <a:chExt cx="2775960" cy="1815840"/>
            </a:xfrm>
          </p:grpSpPr>
          <p:sp>
            <p:nvSpPr>
              <p:cNvPr id="89" name=""/>
              <p:cNvSpPr/>
              <p:nvPr/>
            </p:nvSpPr>
            <p:spPr>
              <a:xfrm>
                <a:off x="1469520" y="3225600"/>
                <a:ext cx="0" cy="181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1469520" y="5041440"/>
                <a:ext cx="2775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6200000">
                <a:off x="1905120" y="3285000"/>
                <a:ext cx="1320480" cy="2191680"/>
              </a:xfrm>
              <a:prstGeom prst="rtTriangle">
                <a:avLst/>
              </a:prstGeom>
              <a:solidFill>
                <a:srgbClr val="00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2" name=""/>
            <p:cNvSpPr/>
            <p:nvPr/>
          </p:nvSpPr>
          <p:spPr>
            <a:xfrm>
              <a:off x="914400" y="2666880"/>
              <a:ext cx="124920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res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(N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469520" y="5461200"/>
              <a:ext cx="263700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uas = F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res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t = Impu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51400" y="5041800"/>
              <a:ext cx="124920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 (detik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4876920" y="2819520"/>
            <a:ext cx="3276000" cy="3425760"/>
            <a:chOff x="4876920" y="2819520"/>
            <a:chExt cx="3276000" cy="3425760"/>
          </a:xfrm>
        </p:grpSpPr>
        <p:sp>
          <p:nvSpPr>
            <p:cNvPr id="96" name=""/>
            <p:cNvSpPr/>
            <p:nvPr/>
          </p:nvSpPr>
          <p:spPr>
            <a:xfrm>
              <a:off x="5270040" y="3360960"/>
              <a:ext cx="0" cy="1665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270040" y="5026680"/>
              <a:ext cx="2490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V="1">
              <a:off x="5270040" y="3672000"/>
              <a:ext cx="1834920" cy="135396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876920" y="2819520"/>
              <a:ext cx="196560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 = mv (kg m/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973560" y="5026680"/>
              <a:ext cx="117936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 (detik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270040" y="5432760"/>
              <a:ext cx="249012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n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/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 = F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r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UMBUKA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009880" y="180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crash" descr="crash test"/>
          <p:cNvPicPr/>
          <p:nvPr/>
        </p:nvPicPr>
        <p:blipFill>
          <a:blip r:embed="rId1"/>
          <a:stretch/>
        </p:blipFill>
        <p:spPr>
          <a:xfrm>
            <a:off x="1447920" y="1676520"/>
            <a:ext cx="6372000" cy="40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NGELOMPOKAN TUMBUK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nting sempurn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nting sebagia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dak lenting sama sekal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ergi kinetik sistem konst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ergi kinetik sistem tidak konstan, tetapi berkura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nda bergerak bersama setelah tumbukan. Energi kinetik sistem berkura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umbukan Lenting Sempur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umbukan antara dua buah benda, dimana diantaranya terdapat peg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umbukan bola pada permainan billi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rlaku: Hukum kekekalan Momentum dan Hukum kekekalan Energ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2514600" y="2666880"/>
            <a:ext cx="3200400" cy="685800"/>
            <a:chOff x="2514600" y="2666880"/>
            <a:chExt cx="3200400" cy="685800"/>
          </a:xfrm>
        </p:grpSpPr>
        <p:sp>
          <p:nvSpPr>
            <p:cNvPr id="111" name=""/>
            <p:cNvSpPr/>
            <p:nvPr/>
          </p:nvSpPr>
          <p:spPr>
            <a:xfrm>
              <a:off x="4065480" y="2666880"/>
              <a:ext cx="1181160" cy="67140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3727800" y="2806200"/>
              <a:ext cx="303840" cy="467640"/>
              <a:chOff x="3727800" y="2806200"/>
              <a:chExt cx="303840" cy="46764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3727800" y="2806200"/>
                <a:ext cx="142200" cy="467640"/>
                <a:chOff x="3727800" y="2806200"/>
                <a:chExt cx="142200" cy="46764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727800" y="2806200"/>
                  <a:ext cx="60120" cy="467640"/>
                  <a:chOff x="3727800" y="2806200"/>
                  <a:chExt cx="60120" cy="46764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727800" y="3046680"/>
                    <a:ext cx="0" cy="2149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 flipV="1">
                    <a:off x="3746160" y="3033720"/>
                    <a:ext cx="1800" cy="2401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17" name=""/>
                  <p:cNvGrpSpPr/>
                  <p:nvPr/>
                </p:nvGrpSpPr>
                <p:grpSpPr>
                  <a:xfrm>
                    <a:off x="3765960" y="2806200"/>
                    <a:ext cx="21960" cy="240120"/>
                    <a:chOff x="3765960" y="2806200"/>
                    <a:chExt cx="21960" cy="240120"/>
                  </a:xfrm>
                </p:grpSpPr>
                <p:sp>
                  <p:nvSpPr>
                    <p:cNvPr id="118" name=""/>
                    <p:cNvSpPr/>
                    <p:nvPr/>
                  </p:nvSpPr>
                  <p:spPr>
                    <a:xfrm flipV="1">
                      <a:off x="3765960" y="2806200"/>
                      <a:ext cx="2520" cy="24012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" name=""/>
                    <p:cNvSpPr/>
                    <p:nvPr/>
                  </p:nvSpPr>
                  <p:spPr>
                    <a:xfrm>
                      <a:off x="3786120" y="2818800"/>
                      <a:ext cx="1800" cy="21492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20" name=""/>
                <p:cNvGrpSpPr/>
                <p:nvPr/>
              </p:nvGrpSpPr>
              <p:grpSpPr>
                <a:xfrm>
                  <a:off x="3807720" y="2806200"/>
                  <a:ext cx="62280" cy="467640"/>
                  <a:chOff x="3807720" y="2806200"/>
                  <a:chExt cx="62280" cy="467640"/>
                </a:xfrm>
              </p:grpSpPr>
              <p:sp>
                <p:nvSpPr>
                  <p:cNvPr id="121" name=""/>
                  <p:cNvSpPr/>
                  <p:nvPr/>
                </p:nvSpPr>
                <p:spPr>
                  <a:xfrm>
                    <a:off x="3807720" y="3046680"/>
                    <a:ext cx="1800" cy="2149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" name=""/>
                  <p:cNvSpPr/>
                  <p:nvPr/>
                </p:nvSpPr>
                <p:spPr>
                  <a:xfrm flipV="1">
                    <a:off x="3827520" y="3033720"/>
                    <a:ext cx="0" cy="2401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23" name=""/>
                  <p:cNvGrpSpPr/>
                  <p:nvPr/>
                </p:nvGrpSpPr>
                <p:grpSpPr>
                  <a:xfrm>
                    <a:off x="3846240" y="2806200"/>
                    <a:ext cx="23760" cy="240120"/>
                    <a:chOff x="3846240" y="2806200"/>
                    <a:chExt cx="23760" cy="240120"/>
                  </a:xfrm>
                </p:grpSpPr>
                <p:sp>
                  <p:nvSpPr>
                    <p:cNvPr id="124" name=""/>
                    <p:cNvSpPr/>
                    <p:nvPr/>
                  </p:nvSpPr>
                  <p:spPr>
                    <a:xfrm flipV="1">
                      <a:off x="3846240" y="2806200"/>
                      <a:ext cx="3960" cy="24012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5" name=""/>
                    <p:cNvSpPr/>
                    <p:nvPr/>
                  </p:nvSpPr>
                  <p:spPr>
                    <a:xfrm>
                      <a:off x="3868200" y="2818800"/>
                      <a:ext cx="1800" cy="21492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126" name=""/>
              <p:cNvGrpSpPr/>
              <p:nvPr/>
            </p:nvGrpSpPr>
            <p:grpSpPr>
              <a:xfrm>
                <a:off x="3889440" y="2806200"/>
                <a:ext cx="142200" cy="467640"/>
                <a:chOff x="3889440" y="2806200"/>
                <a:chExt cx="142200" cy="467640"/>
              </a:xfrm>
            </p:grpSpPr>
            <p:grpSp>
              <p:nvGrpSpPr>
                <p:cNvPr id="127" name=""/>
                <p:cNvGrpSpPr/>
                <p:nvPr/>
              </p:nvGrpSpPr>
              <p:grpSpPr>
                <a:xfrm>
                  <a:off x="3889440" y="2806200"/>
                  <a:ext cx="60120" cy="467640"/>
                  <a:chOff x="3889440" y="2806200"/>
                  <a:chExt cx="60120" cy="467640"/>
                </a:xfrm>
              </p:grpSpPr>
              <p:sp>
                <p:nvSpPr>
                  <p:cNvPr id="128" name=""/>
                  <p:cNvSpPr/>
                  <p:nvPr/>
                </p:nvSpPr>
                <p:spPr>
                  <a:xfrm>
                    <a:off x="3889440" y="3046680"/>
                    <a:ext cx="0" cy="2149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" name=""/>
                  <p:cNvSpPr/>
                  <p:nvPr/>
                </p:nvSpPr>
                <p:spPr>
                  <a:xfrm flipV="1">
                    <a:off x="3907800" y="3033720"/>
                    <a:ext cx="6480" cy="2401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30" name=""/>
                  <p:cNvGrpSpPr/>
                  <p:nvPr/>
                </p:nvGrpSpPr>
                <p:grpSpPr>
                  <a:xfrm>
                    <a:off x="3932280" y="2806200"/>
                    <a:ext cx="17280" cy="240120"/>
                    <a:chOff x="3932280" y="2806200"/>
                    <a:chExt cx="17280" cy="240120"/>
                  </a:xfrm>
                </p:grpSpPr>
                <p:sp>
                  <p:nvSpPr>
                    <p:cNvPr id="131" name=""/>
                    <p:cNvSpPr/>
                    <p:nvPr/>
                  </p:nvSpPr>
                  <p:spPr>
                    <a:xfrm flipV="1">
                      <a:off x="3932280" y="2806200"/>
                      <a:ext cx="0" cy="24012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2" name=""/>
                    <p:cNvSpPr/>
                    <p:nvPr/>
                  </p:nvSpPr>
                  <p:spPr>
                    <a:xfrm>
                      <a:off x="3949560" y="2818800"/>
                      <a:ext cx="0" cy="21492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33" name=""/>
                <p:cNvGrpSpPr/>
                <p:nvPr/>
              </p:nvGrpSpPr>
              <p:grpSpPr>
                <a:xfrm>
                  <a:off x="3969360" y="2806200"/>
                  <a:ext cx="62280" cy="467640"/>
                  <a:chOff x="3969360" y="2806200"/>
                  <a:chExt cx="62280" cy="467640"/>
                </a:xfrm>
              </p:grpSpPr>
              <p:sp>
                <p:nvSpPr>
                  <p:cNvPr id="134" name=""/>
                  <p:cNvSpPr/>
                  <p:nvPr/>
                </p:nvSpPr>
                <p:spPr>
                  <a:xfrm>
                    <a:off x="3969360" y="3046680"/>
                    <a:ext cx="1800" cy="2149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" name=""/>
                  <p:cNvSpPr/>
                  <p:nvPr/>
                </p:nvSpPr>
                <p:spPr>
                  <a:xfrm flipV="1">
                    <a:off x="3989160" y="3033720"/>
                    <a:ext cx="2520" cy="2401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36" name=""/>
                  <p:cNvGrpSpPr/>
                  <p:nvPr/>
                </p:nvGrpSpPr>
                <p:grpSpPr>
                  <a:xfrm>
                    <a:off x="4009680" y="2806200"/>
                    <a:ext cx="21960" cy="240120"/>
                    <a:chOff x="4009680" y="2806200"/>
                    <a:chExt cx="21960" cy="240120"/>
                  </a:xfrm>
                </p:grpSpPr>
                <p:sp>
                  <p:nvSpPr>
                    <p:cNvPr id="137" name=""/>
                    <p:cNvSpPr/>
                    <p:nvPr/>
                  </p:nvSpPr>
                  <p:spPr>
                    <a:xfrm flipV="1">
                      <a:off x="4009680" y="2806200"/>
                      <a:ext cx="2520" cy="24012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8" name=""/>
                    <p:cNvSpPr/>
                    <p:nvPr/>
                  </p:nvSpPr>
                  <p:spPr>
                    <a:xfrm>
                      <a:off x="4029840" y="2818800"/>
                      <a:ext cx="1800" cy="21492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139" name=""/>
            <p:cNvSpPr/>
            <p:nvPr/>
          </p:nvSpPr>
          <p:spPr>
            <a:xfrm>
              <a:off x="2865240" y="2818440"/>
              <a:ext cx="853560" cy="51984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514600" y="3352680"/>
              <a:ext cx="3200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3276720" y="4191120"/>
            <a:ext cx="1904400" cy="838080"/>
            <a:chOff x="3276720" y="4191120"/>
            <a:chExt cx="1904400" cy="838080"/>
          </a:xfrm>
        </p:grpSpPr>
        <p:sp>
          <p:nvSpPr>
            <p:cNvPr id="142" name=""/>
            <p:cNvSpPr/>
            <p:nvPr/>
          </p:nvSpPr>
          <p:spPr>
            <a:xfrm>
              <a:off x="3276720" y="4253040"/>
              <a:ext cx="673200" cy="482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4e4e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503960" y="4543560"/>
              <a:ext cx="677160" cy="485640"/>
            </a:xfrm>
            <a:prstGeom prst="ellipse">
              <a:avLst/>
            </a:prstGeom>
            <a:gradFill rotWithShape="0">
              <a:gsLst>
                <a:gs pos="0">
                  <a:srgbClr val="fc0000"/>
                </a:gs>
                <a:gs pos="100000">
                  <a:srgbClr val="c8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961080" y="4497480"/>
              <a:ext cx="591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724200" y="4191120"/>
              <a:ext cx="96948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i="1" lang="en-US" sz="2000" spc="-1" strike="noStrike" baseline="-25000">
                  <a:solidFill>
                    <a:srgbClr val="000000"/>
                  </a:solidFill>
                  <a:latin typeface="Arial"/>
                </a:rPr>
                <a:t>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9T17:30:01Z</dcterms:created>
  <dc:creator>widayani</dc:creator>
  <dc:description/>
  <dc:language>en-US</dc:language>
  <cp:lastModifiedBy>Medphys</cp:lastModifiedBy>
  <dcterms:modified xsi:type="dcterms:W3CDTF">2004-11-20T12:15:00Z</dcterms:modified>
  <cp:revision>27</cp:revision>
  <dc:subject/>
  <dc:title>MOMENTUM LINIER  DAN IMPULS </dc:title>
</cp:coreProperties>
</file>