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7C9-2ACB-4D19-8A4C-D3520E6B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81E-345E-46D0-B51A-B7243C2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EAC-444B-4A9B-89A2-D94A62CC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BF7-37F8-40A4-A896-B97AF2D0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6AEC2-62D5-4545-B7BF-BB132B83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D1B3-D110-44AA-BACB-977F63E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9686C-028B-4ED3-A0CA-5AE20057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4A399-4F62-4815-8F97-F4F632C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4546-3C8F-4546-9D58-47E36834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77F6F-0633-41E4-8DD7-CF21841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59AB5-193D-4648-B148-270FD406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D5F-6B21-4ED5-913B-834F687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21115-B875-4D4C-97F2-F8A0AC12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D0922-3910-4266-9959-1874F16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CE690-4F5B-417E-AFC2-A6D31E1A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A6666-D3F4-4AB9-9EDD-D7FB8192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7300-6568-44D2-8C0F-67CA5259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45A-7139-4995-8ECC-898CB724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BD9-ED19-4FCF-A5AB-216EBD81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1F7-8A76-475F-AC39-3A677401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7A1-83FB-4329-B27C-03B2E409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F56-ACF6-4A3D-BAC8-031B6A98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0E4-AB41-42A2-9FB6-3B09866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969-D34F-4960-A99E-D32488F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0CB-DB62-4BA6-AF8F-BC4AACBB48E3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508-6B15-48B6-90D2-D75229BDA1A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slide" Target="slide8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2.xm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7240" y="1196640"/>
            <a:ext cx="77724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أنزع الغشاو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5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حارب أنت عن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7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ساعدني أنك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9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ahoma"/>
                <a:ea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Tahoma"/>
                <a:cs typeface="Arial"/>
              </a:rPr>
              <a:t>ها أتي سريعا</a:t>
            </a:r>
            <a:r>
              <a:rPr b="1" lang="ar-EG" sz="4000" spc="-1" strike="noStrike">
                <a:solidFill>
                  <a:srgbClr val="0000ff"/>
                </a:solidFill>
                <a:latin typeface="Tahoma"/>
                <a:ea typeface="Arial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11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ahoma"/>
                <a:ea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Arial"/>
              </a:rPr>
              <a:t>تعالي يا رب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تعالى يا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ربى عد لى قلبى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عده لسكناك و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كن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أ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نت حبى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0320" y="1268280"/>
            <a:ext cx="7772400" cy="482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أنزع الغشاوة وعالج الغباوة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لأعاين مجدك وأزوق الحلاوة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1268280"/>
            <a:ext cx="7772400" cy="482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4824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حارب أنت عنى أسرع و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أعنى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وأبطل كل شر من خارج أو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منى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0320" y="1341000"/>
            <a:ext cx="77724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0" dir="0" blurRad="0" rotWithShape="0">
              <a:srgbClr val="ff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ساعدنى انكر ذاتى وأيضا شهواتى</a:t>
            </a:r>
            <a:br>
              <a:rPr sz="6000"/>
            </a:br>
            <a:br>
              <a:rPr sz="6000"/>
            </a:br>
            <a:r>
              <a:rPr b="1" lang="ar-KW" sz="6000" spc="-1" strike="noStrike">
                <a:solidFill>
                  <a:srgbClr val="ffffff"/>
                </a:solidFill>
                <a:latin typeface="Tahoma"/>
              </a:rPr>
              <a:t>وأظهر صورتى فى لمدى حياتى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1" lang="ar-SA" sz="66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1341000"/>
            <a:ext cx="77724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ff9900"/>
            </a:solidFill>
            <a:miter/>
          </a:ln>
          <a:effectLst>
            <a:outerShdw dist="0" dir="0" blurRad="0" rotWithShape="0">
              <a:srgbClr val="ff0000"/>
            </a:outerShdw>
          </a:effectLst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ها</a:t>
            </a:r>
            <a:r>
              <a:rPr b="1" lang="ar-SA" sz="7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أتى سريعا مجيئك أكيد</a:t>
            </a:r>
            <a:br>
              <a:rPr sz="7200"/>
            </a:br>
            <a:br>
              <a:rPr sz="7200"/>
            </a:br>
            <a:r>
              <a:rPr b="1" lang="ar-KW" sz="7200" spc="-1" strike="noStrike">
                <a:solidFill>
                  <a:srgbClr val="000000"/>
                </a:solidFill>
                <a:latin typeface="Tahoma"/>
              </a:rPr>
              <a:t>عدنا جميعا للبيت السعيد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ahoma"/>
                <a:cs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2:12:13Z</dcterms:created>
  <dc:creator>Kamel</dc:creator>
  <dc:description/>
  <dc:language>en-US</dc:language>
  <cp:lastModifiedBy>ZonaNet</cp:lastModifiedBy>
  <dcterms:modified xsi:type="dcterms:W3CDTF">2008-09-15T09:20:13Z</dcterms:modified>
  <cp:revision>121</cp:revision>
  <dc:subject/>
  <dc:title>No Slide Title</dc:title>
</cp:coreProperties>
</file>