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E1E-2374-4215-9F67-BE5DDEF0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95F-10BA-4015-BAFD-73B52B8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FD8-7063-4C42-BAEB-6E83583E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7D7-D43E-4433-9BB6-4E72BE3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8FFA-1595-494C-9630-222BBE6D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FC18-DA8B-4AAB-B1AA-34BF190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6B0D9-0C81-48D7-A7E2-577ABF61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74407-6E1C-4164-96FD-039D612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8533-4C02-43B2-B87A-24F4FBDA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7DDF4-9F97-41E6-89C4-7602E4B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7089D-1F91-4886-94DB-F492E2A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608-EF54-46B5-A347-BF7065D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7E307-5F54-4A41-BA02-FA63CB0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E21CA-E760-4A24-82B0-C32BB88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273D3-44A7-4AD2-BB87-2A3CB0C1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E4A53-2567-4660-9CD9-B398BA03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0CC8-6D76-48A2-9FE3-3CC7E205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615-548A-4FB8-8230-EE958171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241-908D-4712-BDDB-70D5996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D8C-7974-47F8-822E-8EB7A8C2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270-5CAA-49CD-8241-3C2151C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DAF-D2C0-476F-9FD9-4A6AD21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09A-4FB0-48CA-8292-82020119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80C-A5F1-48C2-AB96-79FAD975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EBC-E153-421F-AEF5-A4C01CC9D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1FE-0426-4157-A1C5-E9F30CA847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NI-Helve"/>
              </a:rPr>
              <a:t>CHÖÔNG 5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VNI-Helve"/>
              </a:rPr>
              <a:t>MOÂ LIEÂN KEÁ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S. BS. TRANG THÒ AÙNH TUYE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505320"/>
            <a:ext cx="304812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NGUOÀN GOÁ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CAÙC TEÁ BAØO LIEÂN KEÁT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05160" y="304920"/>
            <a:ext cx="459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57200" y="914400"/>
            <a:ext cx="8152920" cy="5638680"/>
            <a:chOff x="457200" y="914400"/>
            <a:chExt cx="8152920" cy="5638680"/>
          </a:xfrm>
        </p:grpSpPr>
        <p:grpSp>
          <p:nvGrpSpPr>
            <p:cNvPr id="118" name=""/>
            <p:cNvGrpSpPr/>
            <p:nvPr/>
          </p:nvGrpSpPr>
          <p:grpSpPr>
            <a:xfrm>
              <a:off x="463320" y="917640"/>
              <a:ext cx="8139240" cy="5631120"/>
              <a:chOff x="463320" y="917640"/>
              <a:chExt cx="8139240" cy="563112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463320" y="917640"/>
                <a:ext cx="2280600" cy="486720"/>
                <a:chOff x="463320" y="917640"/>
                <a:chExt cx="2280600" cy="486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55480" y="917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Teá baøo moâ lieân keá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63320" y="917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744280" y="917640"/>
                <a:ext cx="3577320" cy="486720"/>
                <a:chOff x="2744280" y="917640"/>
                <a:chExt cx="3577320" cy="486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36440" y="91764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Hoaït ñoä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44280" y="91764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321960" y="917640"/>
                <a:ext cx="2280600" cy="486720"/>
                <a:chOff x="6321960" y="917640"/>
                <a:chExt cx="2280600" cy="486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413400" y="917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Chöùc naê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321960" y="917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3320" y="1404360"/>
                <a:ext cx="2280600" cy="764280"/>
                <a:chOff x="463320" y="1404360"/>
                <a:chExt cx="2280600" cy="764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55480" y="140436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Nguyeân baøo sôïi, nguyeân baøo suïn, taïo coát baøo, taïo men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3320" y="140436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744280" y="1404360"/>
                <a:ext cx="3577320" cy="764280"/>
                <a:chOff x="2744280" y="1404360"/>
                <a:chExt cx="3577320" cy="764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36440" y="1404360"/>
                  <a:ext cx="3392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loaïi sôïi vaø chaát caên baû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44280" y="1404360"/>
                  <a:ext cx="357732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321960" y="1404360"/>
                <a:ext cx="2280600" cy="764280"/>
                <a:chOff x="6321960" y="1404360"/>
                <a:chExt cx="2280600" cy="764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413400" y="140436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áu truùc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1960" y="140436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3320" y="2168640"/>
                <a:ext cx="2280600" cy="486720"/>
                <a:chOff x="463320" y="2168640"/>
                <a:chExt cx="2280600" cy="486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5480" y="2168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öông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3320" y="2168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744280" y="2168640"/>
                <a:ext cx="3577320" cy="486720"/>
                <a:chOff x="2744280" y="2168640"/>
                <a:chExt cx="3577320" cy="486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836440" y="216864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K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4280" y="216864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321960" y="2168640"/>
                <a:ext cx="2280600" cy="486720"/>
                <a:chOff x="6321960" y="2168640"/>
                <a:chExt cx="2280600" cy="486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13400" y="2168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21960" y="2168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63320" y="2655720"/>
                <a:ext cx="2280600" cy="486720"/>
                <a:chOff x="463320" y="2655720"/>
                <a:chExt cx="2280600" cy="486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55480" y="265572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Lymphoâ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63320" y="265572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44280" y="2655720"/>
                <a:ext cx="3577320" cy="486720"/>
                <a:chOff x="2744280" y="2655720"/>
                <a:chExt cx="3577320" cy="486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6440" y="265572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loaïi teá baøo mieãn dòc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44280" y="265572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321960" y="2655720"/>
                <a:ext cx="2280600" cy="486720"/>
                <a:chOff x="6321960" y="2655720"/>
                <a:chExt cx="2280600" cy="486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13400" y="265572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321960" y="265572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63320" y="3142800"/>
                <a:ext cx="2280600" cy="764280"/>
                <a:chOff x="463320" y="3142800"/>
                <a:chExt cx="2280600" cy="764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55480" y="314280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Baïch caàu öa acid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320" y="314280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744280" y="3142800"/>
                <a:ext cx="3577320" cy="764280"/>
                <a:chOff x="2744280" y="3142800"/>
                <a:chExt cx="3577320" cy="76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836440" y="3142800"/>
                  <a:ext cx="3392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am gia phaûn öùng dò öùng vaø vaän maïch, ñieàu hoøa hoaït ñoäng cuûa masto baøo vaø quaù trình vieâm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4280" y="3142800"/>
                  <a:ext cx="357732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321960" y="3142800"/>
                <a:ext cx="2280600" cy="764280"/>
                <a:chOff x="6321960" y="3142800"/>
                <a:chExt cx="2280600" cy="764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413400" y="314280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21960" y="314280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63320" y="3907080"/>
                <a:ext cx="2280600" cy="486720"/>
                <a:chOff x="463320" y="3907080"/>
                <a:chExt cx="2280600" cy="4867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5480" y="390708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Baïch caàu trung t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3320" y="390708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44280" y="3907080"/>
                <a:ext cx="3577320" cy="486720"/>
                <a:chOff x="2744280" y="3907080"/>
                <a:chExt cx="3577320" cy="486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836440" y="390708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öïc baøo caùc vaät laï vaø vi khuaå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44280" y="390708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321960" y="3907080"/>
                <a:ext cx="2280600" cy="486720"/>
                <a:chOff x="6321960" y="3907080"/>
                <a:chExt cx="2280600" cy="486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413400" y="390708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321960" y="390708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63320" y="4393800"/>
                <a:ext cx="2280600" cy="903600"/>
                <a:chOff x="463320" y="4393800"/>
                <a:chExt cx="2280600" cy="903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55480" y="4393800"/>
                  <a:ext cx="2096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3320" y="4393800"/>
                  <a:ext cx="228060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744280" y="4393800"/>
                <a:ext cx="3577320" cy="903600"/>
                <a:chOff x="2744280" y="4393800"/>
                <a:chExt cx="3577320" cy="903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836440" y="4393800"/>
                  <a:ext cx="3392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eá tieát cytokin vaø caùc phaân töû, thöïc baøo vaät laï vaø vi khuaån, xöû lyù vaø trình dieän khaùng nguyeân cho teá baøo khaùc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44280" y="4393800"/>
                  <a:ext cx="357732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321960" y="4393800"/>
                <a:ext cx="2280600" cy="903600"/>
                <a:chOff x="6321960" y="4393800"/>
                <a:chExt cx="2280600" cy="9036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413400" y="4393800"/>
                  <a:ext cx="2096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321960" y="4393800"/>
                  <a:ext cx="228060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3320" y="5297760"/>
                <a:ext cx="2280600" cy="625320"/>
                <a:chOff x="463320" y="5297760"/>
                <a:chExt cx="2280600" cy="625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5480" y="529776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Masto baøo vaø baïch caàu öa bazô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3320" y="529776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744280" y="5297760"/>
                <a:ext cx="3577320" cy="625320"/>
                <a:chOff x="2744280" y="5297760"/>
                <a:chExt cx="3577320" cy="6253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36440" y="5297760"/>
                  <a:ext cx="3392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iaûi phoùng caùc phaân töû kích hoaït quaù trình thöïc baøo (histamine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44280" y="5297760"/>
                  <a:ext cx="35773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321960" y="5297760"/>
                <a:ext cx="2280600" cy="625320"/>
                <a:chOff x="6321960" y="5297760"/>
                <a:chExt cx="2280600" cy="625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13400" y="529776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 (tham gia phaûn öùng dò öùng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321960" y="529776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63320" y="5923440"/>
                <a:ext cx="2280600" cy="625320"/>
                <a:chOff x="463320" y="5923440"/>
                <a:chExt cx="2280600" cy="6253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5480" y="592344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môõ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3320" y="592344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44280" y="5923440"/>
                <a:ext cx="3577320" cy="625320"/>
                <a:chOff x="2744280" y="5923440"/>
                <a:chExt cx="3577320" cy="6253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36440" y="5923440"/>
                  <a:ext cx="3392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ích tröõ môõ trung t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44280" y="5923440"/>
                  <a:ext cx="35773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21960" y="5923440"/>
                <a:ext cx="2280600" cy="625320"/>
                <a:chOff x="6321960" y="5923440"/>
                <a:chExt cx="2280600" cy="625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413400" y="592344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ích tröõ naêng löôïng, taïo nhieä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321960" y="592344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457200" y="914400"/>
              <a:ext cx="8152920" cy="563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0880" y="380880"/>
            <a:ext cx="8229600" cy="39888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Vai troø cuûa caùc teá baøo M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85800" y="1676520"/>
            <a:ext cx="8000640" cy="4495680"/>
            <a:chOff x="685800" y="1676520"/>
            <a:chExt cx="8000640" cy="4495680"/>
          </a:xfrm>
        </p:grpSpPr>
        <p:grpSp>
          <p:nvGrpSpPr>
            <p:cNvPr id="203" name=""/>
            <p:cNvGrpSpPr/>
            <p:nvPr/>
          </p:nvGrpSpPr>
          <p:grpSpPr>
            <a:xfrm>
              <a:off x="691920" y="1679400"/>
              <a:ext cx="7987320" cy="4489200"/>
              <a:chOff x="691920" y="1679400"/>
              <a:chExt cx="7987320" cy="4489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91920" y="1679400"/>
                <a:ext cx="1784160" cy="407880"/>
                <a:chOff x="691920" y="1679400"/>
                <a:chExt cx="1784160" cy="407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82280" y="167940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Loaïi teá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1920" y="167940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476440" y="1679400"/>
                <a:ext cx="2753280" cy="407880"/>
                <a:chOff x="2476440" y="1679400"/>
                <a:chExt cx="2753280" cy="407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566440" y="167940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ò trí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476440" y="167940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30440" y="1679400"/>
                <a:ext cx="3448800" cy="407880"/>
                <a:chOff x="5230440" y="1679400"/>
                <a:chExt cx="3448800" cy="407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320440" y="167940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Chöùc naêng ch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30440" y="167940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91920" y="2087280"/>
                <a:ext cx="1784160" cy="407880"/>
                <a:chOff x="691920" y="2087280"/>
                <a:chExt cx="1784160" cy="407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82280" y="208728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Mono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1920" y="208728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76440" y="2087280"/>
                <a:ext cx="2753280" cy="407880"/>
                <a:chOff x="2476440" y="2087280"/>
                <a:chExt cx="2753280" cy="407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66440" y="208728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aù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76440" y="208728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230440" y="2087280"/>
                <a:ext cx="3448800" cy="407880"/>
                <a:chOff x="5230440" y="2087280"/>
                <a:chExt cx="3448800" cy="407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320440" y="208728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30440" y="208728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91920" y="2495520"/>
                <a:ext cx="1784160" cy="757800"/>
                <a:chOff x="691920" y="2495520"/>
                <a:chExt cx="1784160" cy="7578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82280" y="2495520"/>
                  <a:ext cx="16030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91920" y="2495520"/>
                  <a:ext cx="178416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476440" y="2495520"/>
                <a:ext cx="2753280" cy="757800"/>
                <a:chOff x="2476440" y="2495520"/>
                <a:chExt cx="2753280" cy="7578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566440" y="2495520"/>
                  <a:ext cx="257256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lieân keát, cô quan lymphoâ, phoåi, tuûy x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76440" y="2495520"/>
                  <a:ext cx="275328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0440" y="2495520"/>
                <a:ext cx="3448800" cy="757800"/>
                <a:chOff x="5230440" y="2495520"/>
                <a:chExt cx="3448800" cy="7578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320440" y="2495520"/>
                  <a:ext cx="32680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aûn xuaát cytokine, caùc chaát hoùa höôùng ñoäng vaø phaân töû coù vai troø trong quaù trình vieâm (ñeà khaùng), xöû lyù vaø trình dieän khaùng nguyeâ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30440" y="2495520"/>
                  <a:ext cx="344880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91920" y="3253680"/>
                <a:ext cx="1784160" cy="407880"/>
                <a:chOff x="691920" y="3253680"/>
                <a:chExt cx="1784160" cy="407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82280" y="325368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Kupff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1920" y="325368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476440" y="3253680"/>
                <a:ext cx="2753280" cy="407880"/>
                <a:chOff x="2476440" y="3253680"/>
                <a:chExt cx="2753280" cy="407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566440" y="325368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n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76440" y="325368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230440" y="3253680"/>
                <a:ext cx="3448800" cy="407880"/>
                <a:chOff x="5230440" y="3253680"/>
                <a:chExt cx="3448800" cy="407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320440" y="325368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hö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30440" y="325368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1920" y="3661560"/>
                <a:ext cx="1784160" cy="407880"/>
                <a:chOff x="691920" y="3661560"/>
                <a:chExt cx="1784160" cy="407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2280" y="366156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Vi baøo ñeäm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1920" y="366156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476440" y="3661560"/>
                <a:ext cx="2753280" cy="407880"/>
                <a:chOff x="2476440" y="3661560"/>
                <a:chExt cx="2753280" cy="407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66440" y="366156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eä thaàn kinh trung 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476440" y="366156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230440" y="3661560"/>
                <a:ext cx="3448800" cy="407880"/>
                <a:chOff x="5230440" y="3661560"/>
                <a:chExt cx="3448800" cy="4078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320440" y="366156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hö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30440" y="366156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91920" y="4069800"/>
                <a:ext cx="1784160" cy="524520"/>
                <a:chOff x="691920" y="4069800"/>
                <a:chExt cx="1784160" cy="524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2280" y="406980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Langerhan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91920" y="406980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476440" y="4069800"/>
                <a:ext cx="2753280" cy="524520"/>
                <a:chOff x="2476440" y="4069800"/>
                <a:chExt cx="2753280" cy="5245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66440" y="406980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ieåu bì cuûa d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76440" y="406980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230440" y="4069800"/>
                <a:ext cx="3448800" cy="524520"/>
                <a:chOff x="5230440" y="4069800"/>
                <a:chExt cx="3448800" cy="524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320440" y="406980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û lyù vaø trình dieän khaùng nguyeâ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230440" y="406980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91920" y="4594680"/>
                <a:ext cx="1784160" cy="524520"/>
                <a:chOff x="691920" y="4594680"/>
                <a:chExt cx="1784160" cy="524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2280" y="459468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 coù ga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91920" y="459468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76440" y="4594680"/>
                <a:ext cx="2753280" cy="524520"/>
                <a:chOff x="2476440" y="4594680"/>
                <a:chExt cx="2753280" cy="5245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566440" y="459468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ang lymphoâ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76440" y="459468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30440" y="4594680"/>
                <a:ext cx="3448800" cy="524520"/>
                <a:chOff x="5230440" y="4594680"/>
                <a:chExt cx="3448800" cy="524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320440" y="459468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û lyù vaø trình dieän K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30440" y="459468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91920" y="5119200"/>
                <a:ext cx="1784160" cy="524880"/>
                <a:chOff x="691920" y="5119200"/>
                <a:chExt cx="1784160" cy="524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82280" y="5119200"/>
                  <a:ext cx="160308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Huûy coát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1920" y="5119200"/>
                  <a:ext cx="178416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476440" y="5119200"/>
                <a:ext cx="2753280" cy="524880"/>
                <a:chOff x="2476440" y="5119200"/>
                <a:chExt cx="2753280" cy="524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566440" y="5119200"/>
                  <a:ext cx="257256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ông (do nhieàu ñaïi thöïc baøo hôïp laïi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76440" y="5119200"/>
                  <a:ext cx="275328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230440" y="5119200"/>
                <a:ext cx="3448800" cy="524880"/>
                <a:chOff x="5230440" y="5119200"/>
                <a:chExt cx="3448800" cy="524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20440" y="5119200"/>
                  <a:ext cx="326808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uûy x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30440" y="5119200"/>
                  <a:ext cx="344880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1920" y="5644080"/>
                <a:ext cx="1784160" cy="524520"/>
                <a:chOff x="691920" y="5644080"/>
                <a:chExt cx="1784160" cy="5245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82280" y="564408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ña nhaân khoång lo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1920" y="564408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476440" y="5644080"/>
                <a:ext cx="2753280" cy="524520"/>
                <a:chOff x="2476440" y="5644080"/>
                <a:chExt cx="2753280" cy="524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566440" y="564408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lieân keát (do nhieàu ñaïi thöïc baøo hôïp laïi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76440" y="564408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5230440" y="5644080"/>
                <a:ext cx="3448800" cy="524520"/>
                <a:chOff x="5230440" y="5644080"/>
                <a:chExt cx="3448800" cy="5245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320440" y="564408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aét nhoû vaø tieâu huûy vaät laï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230440" y="564408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85800" y="1676520"/>
              <a:ext cx="8000640" cy="4495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800" y="380880"/>
            <a:ext cx="8001000" cy="86256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Chöùc naêng cuûa caùc teá baø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thuoäc heä thöïc baøo ñôn nha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04776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"/>
              </a:rPr>
              <a:t>SÔÏI TAÏO K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phaân töû collagen (gioáng sôïi löôùi), coù 4 loaïi: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vi sôï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keát gaén vi sôï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vi sôïi baùm gaé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sôïi löôù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 caùc a.amin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 (glycine, proline, hydroxyproline) – ñôn vò collagen (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tropocollagen) – sieâu sôïi collagen – vi sôïi collag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 caùc collagen 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I, II, III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 taïo thaønh caùc sieâu sôïi roài vi sôïi coù vaân</a:t>
            </a:r>
            <a:r>
              <a:rPr b="1" lang="en-US" sz="2000" spc="-1" strike="noStrike">
                <a:solidFill>
                  <a:srgbClr val="ffcc00"/>
                </a:solidFill>
                <a:latin typeface="VNI-Helv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809880"/>
            <a:ext cx="8534160" cy="13716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SÔÏI LÖÔÙ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collagen I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baét maøu baï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ôû cô quan taïo huyeá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5181480"/>
            <a:ext cx="8534160" cy="15242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SÔÏI CH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oxytalan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maûnh, gñ 1 (maïc treo thuyû tinh theå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elaunin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gñ 2 (tuyeán moà hoâi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elastic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gñ 3 (chieám ña soá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763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AÙC SÔÏI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40" y="-3795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NI-Times"/>
                <a:ea typeface="Times New Roman"/>
              </a:rPr>
              <a:t>Baûng 5.3. Caùc loaïi colla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28600" y="609480"/>
            <a:ext cx="8686440" cy="6019920"/>
            <a:chOff x="228600" y="609480"/>
            <a:chExt cx="8686440" cy="6019920"/>
          </a:xfrm>
        </p:grpSpPr>
        <p:grpSp>
          <p:nvGrpSpPr>
            <p:cNvPr id="293" name=""/>
            <p:cNvGrpSpPr/>
            <p:nvPr/>
          </p:nvGrpSpPr>
          <p:grpSpPr>
            <a:xfrm>
              <a:off x="236160" y="611280"/>
              <a:ext cx="8670240" cy="6015960"/>
              <a:chOff x="236160" y="611280"/>
              <a:chExt cx="8670240" cy="6015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36160" y="611280"/>
                <a:ext cx="763200" cy="398160"/>
                <a:chOff x="236160" y="611280"/>
                <a:chExt cx="763200" cy="398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8480" y="611280"/>
                  <a:ext cx="53784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Loaï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6160" y="611280"/>
                  <a:ext cx="7632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99720" y="611280"/>
                <a:ext cx="1387440" cy="398160"/>
                <a:chOff x="999720" y="611280"/>
                <a:chExt cx="1387440" cy="398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111680" y="611280"/>
                  <a:ext cx="11631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aønh phaàn  procollage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99720" y="611280"/>
                  <a:ext cx="138744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387880" y="611280"/>
                <a:ext cx="1260000" cy="398160"/>
                <a:chOff x="2387880" y="611280"/>
                <a:chExt cx="1260000" cy="398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500200" y="611280"/>
                  <a:ext cx="103464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aáu truùc  procollage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387880" y="611280"/>
                  <a:ext cx="12600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648240" y="611280"/>
                <a:ext cx="2028600" cy="398160"/>
                <a:chOff x="3648240" y="611280"/>
                <a:chExt cx="2028600" cy="398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760200" y="611280"/>
                  <a:ext cx="18039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ình aûnh döôùi KHV quang ho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648240" y="611280"/>
                  <a:ext cx="20286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77560" y="611280"/>
                <a:ext cx="1259640" cy="398160"/>
                <a:chOff x="5677560" y="611280"/>
                <a:chExt cx="1259640" cy="39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89520" y="611280"/>
                  <a:ext cx="1035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où ôû moâ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77560" y="611280"/>
                  <a:ext cx="125964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937560" y="611280"/>
                <a:ext cx="1968480" cy="398160"/>
                <a:chOff x="6937560" y="611280"/>
                <a:chExt cx="1968480" cy="398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049880" y="611280"/>
                  <a:ext cx="17431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öùc naêng ch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37560" y="611280"/>
                  <a:ext cx="196848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6160" y="1009440"/>
                <a:ext cx="8670240" cy="225360"/>
                <a:chOff x="236160" y="1009440"/>
                <a:chExt cx="8670240" cy="2253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48480" y="100944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vi sôï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6160" y="100944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6160" y="1235160"/>
                <a:ext cx="763200" cy="464760"/>
                <a:chOff x="236160" y="1235160"/>
                <a:chExt cx="763200" cy="4647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48480" y="123516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6160" y="123516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999720" y="1235160"/>
                <a:ext cx="1387440" cy="464760"/>
                <a:chOff x="999720" y="1235160"/>
                <a:chExt cx="1387440" cy="4647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111680" y="123516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II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999720" y="123516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87880" y="1235160"/>
                <a:ext cx="1260000" cy="464760"/>
                <a:chOff x="2387880" y="1235160"/>
                <a:chExt cx="1260000" cy="464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500200" y="123516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, 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87880" y="123516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648240" y="1235160"/>
                <a:ext cx="2028600" cy="464760"/>
                <a:chOff x="3648240" y="1235160"/>
                <a:chExt cx="2028600" cy="4647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760200" y="123516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y, khuùc xaï vôùi nhuoäm picrosirius, khoâng baét maøu nhuoäm ba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648240" y="123516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677560" y="1235160"/>
                <a:ext cx="1259640" cy="464760"/>
                <a:chOff x="5677560" y="1235160"/>
                <a:chExt cx="1259640" cy="464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89520" y="123516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, gaân, xöông, ngaø raêng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77560" y="123516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937560" y="1235160"/>
                <a:ext cx="1968480" cy="464760"/>
                <a:chOff x="6937560" y="1235160"/>
                <a:chExt cx="1968480" cy="464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049880" y="123516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òu löïc caêng giaõ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37560" y="123516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36160" y="1699920"/>
                <a:ext cx="763200" cy="464760"/>
                <a:chOff x="236160" y="1699920"/>
                <a:chExt cx="763200" cy="464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48480" y="169992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6160" y="169992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999720" y="1699920"/>
                <a:ext cx="1387440" cy="464760"/>
                <a:chOff x="999720" y="1699920"/>
                <a:chExt cx="1387440" cy="464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111680" y="169992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I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999720" y="169992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87880" y="1699920"/>
                <a:ext cx="1260000" cy="464760"/>
                <a:chOff x="2387880" y="1699920"/>
                <a:chExt cx="1260000" cy="4647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500200" y="169992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, 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87880" y="169992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648240" y="1699920"/>
                <a:ext cx="2028600" cy="464760"/>
                <a:chOff x="3648240" y="1699920"/>
                <a:chExt cx="2028600" cy="4647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760200" y="169992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öa, khuùc xaï,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648240" y="169992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677560" y="1699920"/>
                <a:ext cx="1259640" cy="464760"/>
                <a:chOff x="5677560" y="1699920"/>
                <a:chExt cx="1259640" cy="464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789520" y="169992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, theå k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677560" y="169992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937560" y="1699920"/>
                <a:ext cx="1968480" cy="464760"/>
                <a:chOff x="6937560" y="1699920"/>
                <a:chExt cx="1968480" cy="464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049880" y="169992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òu löïc ñeø neù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37560" y="169992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36160" y="2165040"/>
                <a:ext cx="763200" cy="597600"/>
                <a:chOff x="236160" y="2165040"/>
                <a:chExt cx="763200" cy="597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48480" y="2165040"/>
                  <a:ext cx="5378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36160" y="2165040"/>
                  <a:ext cx="7632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999720" y="2165040"/>
                <a:ext cx="1387440" cy="597600"/>
                <a:chOff x="999720" y="2165040"/>
                <a:chExt cx="1387440" cy="5976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111680" y="2165040"/>
                  <a:ext cx="11631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II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99720" y="2165040"/>
                  <a:ext cx="1387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87880" y="2165040"/>
                <a:ext cx="1260000" cy="597600"/>
                <a:chOff x="2387880" y="2165040"/>
                <a:chExt cx="1260000" cy="5976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00200" y="2165040"/>
                  <a:ext cx="10346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880" y="2165040"/>
                  <a:ext cx="12600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648240" y="2165040"/>
                <a:ext cx="2028600" cy="597600"/>
                <a:chOff x="3648240" y="2165040"/>
                <a:chExt cx="2028600" cy="597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760200" y="2165040"/>
                  <a:ext cx="18039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aûnh, khuùc xaï yeáu, aên maøu nhuoäm ba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648240" y="2165040"/>
                  <a:ext cx="20286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677560" y="2165040"/>
                <a:ext cx="1259640" cy="597600"/>
                <a:chOff x="5677560" y="2165040"/>
                <a:chExt cx="1259640" cy="5976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89520" y="2165040"/>
                  <a:ext cx="103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, cô, maïch maùu, hay keát hôïp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7560" y="2165040"/>
                  <a:ext cx="1259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937560" y="2165040"/>
                <a:ext cx="1968480" cy="597600"/>
                <a:chOff x="6937560" y="2165040"/>
                <a:chExt cx="1968480" cy="597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049880" y="2165040"/>
                  <a:ext cx="17431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aûo toàn caáu truùc caùc taïng coù theå gia taêng kích thöôù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937560" y="2165040"/>
                  <a:ext cx="19684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36160" y="2762640"/>
                <a:ext cx="763200" cy="531360"/>
                <a:chOff x="236160" y="2762640"/>
                <a:chExt cx="763200" cy="531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8480" y="2762640"/>
                  <a:ext cx="5378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36160" y="2762640"/>
                  <a:ext cx="7632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999720" y="2762640"/>
                <a:ext cx="1387440" cy="531360"/>
                <a:chOff x="999720" y="2762640"/>
                <a:chExt cx="1387440" cy="5313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11680" y="2762640"/>
                  <a:ext cx="1163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99720" y="2762640"/>
                  <a:ext cx="13874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87880" y="2762640"/>
                <a:ext cx="1260000" cy="531360"/>
                <a:chOff x="2387880" y="2762640"/>
                <a:chExt cx="1260000" cy="5313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500200" y="2762640"/>
                  <a:ext cx="10346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90 nm, ñaàu cuoái hình caà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87880" y="2762640"/>
                  <a:ext cx="12600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648240" y="2762640"/>
                <a:ext cx="2028600" cy="531360"/>
                <a:chOff x="3648240" y="2762640"/>
                <a:chExt cx="2028600" cy="5313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760200" y="2762640"/>
                  <a:ext cx="18039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sôïi collagen cuøng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48240" y="2762640"/>
                  <a:ext cx="20286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5677560" y="2762640"/>
                <a:ext cx="1259640" cy="531360"/>
                <a:chOff x="5677560" y="2762640"/>
                <a:chExt cx="1259640" cy="5313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789520" y="2762640"/>
                  <a:ext cx="10353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phoâi thai, da, xöông, nhau, oáng tieâu hoù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677560" y="2762640"/>
                  <a:ext cx="12596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937560" y="2762640"/>
                <a:ext cx="1968480" cy="531360"/>
                <a:chOff x="6937560" y="2762640"/>
                <a:chExt cx="1968480" cy="5313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49880" y="2762640"/>
                  <a:ext cx="17431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37560" y="2762640"/>
                  <a:ext cx="19684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36160" y="3294000"/>
                <a:ext cx="763200" cy="331920"/>
                <a:chOff x="236160" y="3294000"/>
                <a:chExt cx="763200" cy="331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48480" y="3294000"/>
                  <a:ext cx="5378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36160" y="3294000"/>
                  <a:ext cx="7632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999720" y="3294000"/>
                <a:ext cx="1387440" cy="331920"/>
                <a:chOff x="999720" y="3294000"/>
                <a:chExt cx="1387440" cy="3319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111680" y="3294000"/>
                  <a:ext cx="1163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XI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 (XI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99720" y="3294000"/>
                  <a:ext cx="13874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87880" y="3294000"/>
                <a:ext cx="1260000" cy="331920"/>
                <a:chOff x="2387880" y="3294000"/>
                <a:chExt cx="1260000" cy="3319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500200" y="3294000"/>
                  <a:ext cx="1034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7880" y="3294000"/>
                  <a:ext cx="12600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648240" y="3294000"/>
                <a:ext cx="2028600" cy="331920"/>
                <a:chOff x="3648240" y="3294000"/>
                <a:chExt cx="2028600" cy="3319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760200" y="3294000"/>
                  <a:ext cx="18039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ôïi collagen nhoû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648240" y="3294000"/>
                  <a:ext cx="20286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77560" y="3294000"/>
                <a:ext cx="1259640" cy="331920"/>
                <a:chOff x="5677560" y="3294000"/>
                <a:chExt cx="1259640" cy="331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789520" y="3294000"/>
                  <a:ext cx="10353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77560" y="3294000"/>
                  <a:ext cx="12596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937560" y="3294000"/>
                <a:ext cx="1968480" cy="331920"/>
                <a:chOff x="6937560" y="3294000"/>
                <a:chExt cx="1968480" cy="3319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049880" y="3294000"/>
                  <a:ext cx="17431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37560" y="3294000"/>
                  <a:ext cx="196848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36160" y="3626280"/>
                <a:ext cx="8670240" cy="225360"/>
                <a:chOff x="236160" y="3626280"/>
                <a:chExt cx="8670240" cy="2253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48480" y="362628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keát gaén vi sôï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6160" y="362628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36160" y="3851640"/>
                <a:ext cx="763200" cy="464760"/>
                <a:chOff x="236160" y="3851640"/>
                <a:chExt cx="763200" cy="464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48480" y="385164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X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160" y="385164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999720" y="3851640"/>
                <a:ext cx="1387440" cy="464760"/>
                <a:chOff x="999720" y="3851640"/>
                <a:chExt cx="1387440" cy="4647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111680" y="385164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X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IX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 (IX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99720" y="385164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387880" y="3851640"/>
                <a:ext cx="1260000" cy="464760"/>
                <a:chOff x="2387880" y="3851640"/>
                <a:chExt cx="1260000" cy="464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2500200" y="385164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200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387880" y="385164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3648240" y="3851640"/>
                <a:ext cx="2028600" cy="464760"/>
                <a:chOff x="3648240" y="3851640"/>
                <a:chExt cx="2028600" cy="464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760200" y="385164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648240" y="385164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677560" y="3851640"/>
                <a:ext cx="1259640" cy="464760"/>
                <a:chOff x="5677560" y="3851640"/>
                <a:chExt cx="1259640" cy="464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89520" y="385164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, theå k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677560" y="385164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937560" y="3851640"/>
                <a:ext cx="1968480" cy="464760"/>
                <a:chOff x="6937560" y="3851640"/>
                <a:chExt cx="1968480" cy="464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049880" y="385164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én keát caùc glycosaminoglycan; töông taùc vôùi collagen I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937560" y="385164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36160" y="4316760"/>
                <a:ext cx="763200" cy="464760"/>
                <a:chOff x="236160" y="4316760"/>
                <a:chExt cx="763200" cy="464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48480" y="431676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36160" y="431676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999720" y="4316760"/>
                <a:ext cx="1387440" cy="464760"/>
                <a:chOff x="999720" y="4316760"/>
                <a:chExt cx="1387440" cy="464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111680" y="431676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99720" y="431676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387880" y="4316760"/>
                <a:ext cx="1260000" cy="464760"/>
                <a:chOff x="2387880" y="4316760"/>
                <a:chExt cx="1260000" cy="4647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500200" y="431676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Ñaàu cuoái to, 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87880" y="431676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3648240" y="4316760"/>
                <a:ext cx="2028600" cy="464760"/>
                <a:chOff x="3648240" y="4316760"/>
                <a:chExt cx="2028600" cy="464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760200" y="431676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648240" y="431676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677560" y="4316760"/>
                <a:ext cx="1259640" cy="464760"/>
                <a:chOff x="5677560" y="4316760"/>
                <a:chExt cx="1259640" cy="464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89520" y="431676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ân vaø da tröôùc si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677560" y="431676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937560" y="4316760"/>
                <a:ext cx="1968480" cy="464760"/>
                <a:chOff x="6937560" y="4316760"/>
                <a:chExt cx="1968480" cy="4647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49880" y="431676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37560" y="431676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36160" y="4781520"/>
                <a:ext cx="763200" cy="464760"/>
                <a:chOff x="236160" y="4781520"/>
                <a:chExt cx="763200" cy="464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8480" y="478152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6160" y="478152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999720" y="4781520"/>
                <a:ext cx="1387440" cy="464760"/>
                <a:chOff x="999720" y="4781520"/>
                <a:chExt cx="1387440" cy="464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111680" y="478152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V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999720" y="478152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387880" y="4781520"/>
                <a:ext cx="1260000" cy="464760"/>
                <a:chOff x="2387880" y="4781520"/>
                <a:chExt cx="1260000" cy="464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00200" y="478152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Ñaàu cuoái to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87880" y="478152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648240" y="4781520"/>
                <a:ext cx="2028600" cy="464760"/>
                <a:chOff x="3648240" y="4781520"/>
                <a:chExt cx="2028600" cy="464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760200" y="478152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8240" y="478152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677560" y="4781520"/>
                <a:ext cx="1259640" cy="464760"/>
                <a:chOff x="5677560" y="4781520"/>
                <a:chExt cx="1259640" cy="4647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789520" y="478152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 vaø gaân tröôùc si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677560" y="478152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937560" y="4781520"/>
                <a:ext cx="1968480" cy="464760"/>
                <a:chOff x="6937560" y="4781520"/>
                <a:chExt cx="1968480" cy="464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049880" y="478152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37560" y="478152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36160" y="5246280"/>
                <a:ext cx="8670240" cy="225360"/>
                <a:chOff x="236160" y="5246280"/>
                <a:chExt cx="8670240" cy="2253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48480" y="524628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vi sôïi baùm gaé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6160" y="524628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36160" y="5472000"/>
                <a:ext cx="763200" cy="464760"/>
                <a:chOff x="236160" y="5472000"/>
                <a:chExt cx="763200" cy="4647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48480" y="547200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6160" y="547200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999720" y="5472000"/>
                <a:ext cx="1387440" cy="464760"/>
                <a:chOff x="999720" y="5472000"/>
                <a:chExt cx="1387440" cy="464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111680" y="547200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999720" y="547200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387880" y="5472000"/>
                <a:ext cx="1260000" cy="464760"/>
                <a:chOff x="2387880" y="5472000"/>
                <a:chExt cx="1260000" cy="464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500200" y="547200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450 nm, ñaàu cuoái hình caà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387880" y="547200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648240" y="5472000"/>
                <a:ext cx="2028600" cy="464760"/>
                <a:chOff x="3648240" y="5472000"/>
                <a:chExt cx="2028600" cy="464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60200" y="547200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648240" y="547200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677560" y="5472000"/>
                <a:ext cx="1259640" cy="464760"/>
                <a:chOff x="5677560" y="5472000"/>
                <a:chExt cx="1259640" cy="464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789520" y="547200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ieåu moâ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77560" y="547200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937560" y="5472000"/>
                <a:ext cx="1968480" cy="464760"/>
                <a:chOff x="6937560" y="5472000"/>
                <a:chExt cx="1968480" cy="46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049880" y="547200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én maøng ñaùy bieåu bì vaøo moâ lieân keát beân döôù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937560" y="547200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236160" y="5936760"/>
                <a:ext cx="8670240" cy="225360"/>
                <a:chOff x="236160" y="5936760"/>
                <a:chExt cx="8670240" cy="2253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48480" y="593676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löôù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6160" y="593676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36160" y="6162480"/>
                <a:ext cx="763200" cy="464760"/>
                <a:chOff x="236160" y="6162480"/>
                <a:chExt cx="763200" cy="46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48480" y="616248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36160" y="616248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999720" y="6162480"/>
                <a:ext cx="1387440" cy="464760"/>
                <a:chOff x="999720" y="6162480"/>
                <a:chExt cx="1387440" cy="464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111680" y="616248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V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99720" y="616248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387880" y="6162480"/>
                <a:ext cx="1260000" cy="464760"/>
                <a:chOff x="2387880" y="6162480"/>
                <a:chExt cx="1260000" cy="464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500200" y="616248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ình löôù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387880" y="616248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648240" y="6162480"/>
                <a:ext cx="2028600" cy="464760"/>
                <a:chOff x="3648240" y="6162480"/>
                <a:chExt cx="2028600" cy="464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760200" y="616248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648240" y="616248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677560" y="6162480"/>
                <a:ext cx="1259640" cy="464760"/>
                <a:chOff x="5677560" y="6162480"/>
                <a:chExt cx="1259640" cy="464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789520" y="616248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át caû caùc maøng ñaùy ñoâ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77560" y="616248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937560" y="6162480"/>
                <a:ext cx="1968480" cy="464760"/>
                <a:chOff x="6937560" y="6162480"/>
                <a:chExt cx="1968480" cy="4647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7049880" y="616248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aâng ñôõ caáu truùc, saøng lo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937560" y="616248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228600" y="609480"/>
              <a:ext cx="868644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8600" y="152280"/>
            <a:ext cx="868680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Revue"/>
              </a:rPr>
              <a:t>Caùc loaïi phaân töû colla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838080" y="657360"/>
            <a:ext cx="7620120" cy="46004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514600" y="5638680"/>
            <a:ext cx="426708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 ÑOÀ TOÅ CHÖÙC SÔÏI COLLAGE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11811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2590920" y="1600200"/>
            <a:ext cx="426708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HAÂN TÖÛ COLLAGE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(coù 2 chuoãi anpha 1 + 1 chuoãi anpha 2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6019920" cy="3951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209680" y="632448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collagen döôùi KHV ñieän töû xuyeâ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09680" y="617220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Aûnh vi theå sôïi collage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362480" cy="5715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52280" y="152280"/>
            <a:ext cx="457200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COLLAGEN VAØ SÔÏI CH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(nhuoäm ñoû picrosirius, KHV phaân cöïc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648320" y="3708360"/>
            <a:ext cx="4495680" cy="3002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791320" y="3048120"/>
            <a:ext cx="1828800" cy="3808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LÖÔÙ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114800" cy="27208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620120" cy="28195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495680" y="228600"/>
            <a:ext cx="44532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TEÁ BAØO – SÔÏI – CHAÁT CAÊN BAÛ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514600"/>
            <a:ext cx="81536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NGOAÏI BÌ - NOÄI BÌ - </a:t>
            </a:r>
            <a:r>
              <a:rPr b="1" lang="en-US" sz="2000" spc="-1" strike="noStrike">
                <a:solidFill>
                  <a:srgbClr val="ffcc00"/>
                </a:solidFill>
                <a:latin typeface="VNI-Helve"/>
              </a:rPr>
              <a:t>TRUNG BÌ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 </a:t>
            </a:r>
            <a:r>
              <a:rPr b="0" lang="en-US" sz="2000" spc="-1" strike="noStrike">
                <a:solidFill>
                  <a:srgbClr val="eb9f15"/>
                </a:solidFill>
                <a:latin typeface="VNI-Helve"/>
              </a:rPr>
              <a:t>(trung moâ)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429000"/>
            <a:ext cx="82296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NGUYEÂN BAØO SÔÏI =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TEÁ BAØO SÔÏI HOAÏT ÑOÄ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TEÁ BAØO SÔÏI =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TEÁ BAØO SÔÏI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KHOÂNG HOAÏT ÑOÄ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800600"/>
            <a:ext cx="8229600" cy="11430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MONO BAØO - ÑAÏI THÖÏC BAØO –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HEÄ THÖÏC BAØO ÑÔN NHA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Vari"/>
              </a:rPr>
              <a:t>(teá baøo daïng bieåu moâ, teá baøo nhaân khoång loà, teá baøo Kupffer, vi baøo ñeäm, teá baøo Langerhans, teá baøo coù gai, huûy coát baøo)</a:t>
            </a:r>
            <a:r>
              <a:rPr b="0" lang="en-US" sz="2000" spc="-1" strike="noStrike">
                <a:solidFill>
                  <a:srgbClr val="eb9f15"/>
                </a:solidFill>
                <a:latin typeface="VNI-Vari"/>
              </a:rPr>
              <a:t>…</a:t>
            </a:r>
            <a:r>
              <a:rPr b="0" lang="en-US" sz="2400" spc="-1" strike="noStrike">
                <a:solidFill>
                  <a:srgbClr val="eb9f15"/>
                </a:solidFill>
                <a:latin typeface="VNI-Va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153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VNI-Vari"/>
              </a:rPr>
              <a:t>MOÂ LIEÂN KEÁT</a:t>
            </a:r>
            <a:r>
              <a:rPr b="1" lang="en-US" sz="2800" spc="-1" strike="noStrike">
                <a:solidFill>
                  <a:srgbClr val="010199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13716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GLYCOSAMINOGLYCAN (GAG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töøng ñöôïc goïi laø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acid mucopolysaccharide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: ñöôïc taïo töø caùc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disaccharide (1 acid uronic + 1 hexoam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6699ff"/>
                </a:solidFill>
                <a:latin typeface="VNI-Helve"/>
              </a:rPr>
              <a:t>uronic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: acid glucuronic hay acid iduron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3276720"/>
            <a:ext cx="8458200" cy="167616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PROTEOGLY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1 protein loõi + 4 glycosaminoglycan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(dextran sulfate, chondroitin sulfate, keratan sulfate, heparan sulfat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hình choåi loâng vôùi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loõi laø protein + caùc glycosaminogly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5257800"/>
            <a:ext cx="8458200" cy="99072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GLYCOPROTEIN keát dính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1 protein to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+ carbohydrate (mono)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daïng sôïi chia nhaù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304920"/>
            <a:ext cx="8534160" cy="93780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HAÁT CAÊN BAÛN MOÂ LIEÂN KEÁT</a:t>
            </a:r>
            <a:r>
              <a:rPr b="1" lang="en-US" sz="2800" spc="-1" strike="noStrike">
                <a:solidFill>
                  <a:srgbClr val="eb9f15"/>
                </a:solidFill>
                <a:latin typeface="VNI-Mel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Meli"/>
              </a:rPr>
              <a:t>(3 phaân töû caáu truù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496880" y="304920"/>
            <a:ext cx="2094120" cy="62481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733920" y="1143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Proteogycan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coù 1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rotein loõi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+ nhieàu </a:t>
            </a: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GAG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glycosaminoglycan)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4800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Glycoprotein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: 1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rotein to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ôû 1 beân) +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chuoãi haït carbohydrate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monosaccharide)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AÙC LOAÏI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5181480" y="1143000"/>
            <a:ext cx="3297240" cy="44956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57200" y="5867280"/>
            <a:ext cx="35053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LK ÑAËC KHOÂNG ÑOÀNG ÑEÀU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867280"/>
            <a:ext cx="320040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LK ÑAËC ÑOÀNG ÑEÀU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4000" y="228600"/>
            <a:ext cx="3908520" cy="4457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5800" y="4952880"/>
            <a:ext cx="228600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OÂ LÖÔÙI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5105520" cy="333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4800600" y="6019920"/>
            <a:ext cx="39625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OÂ NHAØY (chaát keo Wharton)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4565520" cy="4952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647640"/>
            <a:ext cx="3535200" cy="4991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5791320"/>
            <a:ext cx="3505320" cy="99036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TEÁ BAØO SÔÏI HOAÏT ÑOÄ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Vari"/>
              </a:rPr>
              <a:t>(nhieàu ti theå, löôùi noäi baøo haït)</a:t>
            </a: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C: </a:t>
            </a:r>
            <a:r>
              <a:rPr b="1" lang="en-US" sz="1600" spc="-1" strike="noStrike">
                <a:solidFill>
                  <a:srgbClr val="eb9f15"/>
                </a:solidFill>
                <a:latin typeface="VNI-Vari"/>
              </a:rPr>
              <a:t>vi sôïi collagen ôû giöõa caùc TB sôïi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380880"/>
            <a:ext cx="3429000" cy="3812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TEÁ BAØO SÔÏI HOAÏT ÑOÄN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419076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TEÁ BAØO SÔÏI KHOÂNG HOAÏT ÑOÄNG </a:t>
            </a: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710160" cy="369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4343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68460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0"/>
            <a:ext cx="327672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ÑAÏI THÖÏC BAØ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AU TIEÂM XANH TRYPA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710240" cy="354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52880" y="2057400"/>
            <a:ext cx="342900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ÑAÏI THÖÏC BAØO DÖÔÙI KHV ÑIEÄN TÖÛ XUYEÂ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219320"/>
            <a:ext cx="8153640" cy="1600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MASTO BAØ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coù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haït tieát dò saéc </a:t>
            </a:r>
            <a:r>
              <a:rPr b="1" lang="en-US" sz="1800" spc="-1" strike="noStrike">
                <a:solidFill>
                  <a:srgbClr val="33cccc"/>
                </a:solidFill>
                <a:latin typeface="VNI-Helve"/>
              </a:rPr>
              <a:t>metachrom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Masto baøo moâ lieân keát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–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Masto baøo nieâm maïc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lieân quan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phaûn öùng quaù maãn töùc thì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,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soác phaûn veä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57200"/>
            <a:ext cx="8153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010199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35268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00600" cy="330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172200"/>
            <a:ext cx="335268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Vari"/>
              </a:rPr>
              <a:t>Masto baøo ôû MLK quanh caùc teá baøo cô vaø maïch maùu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6248520"/>
            <a:ext cx="3352680" cy="3808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Vari"/>
              </a:rPr>
              <a:t>masto baøo döôùi KHV ñieän töû </a:t>
            </a:r>
            <a:r>
              <a:rPr b="1" lang="en-US" sz="1600" spc="-1" strike="noStrike">
                <a:solidFill>
                  <a:srgbClr val="ffffff"/>
                </a:solidFill>
                <a:latin typeface="VNI-Vari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121932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TÖÔNG BAØ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nhaân hình tröùng, leäch veà 1 phía, maët ñoàng hoà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ieát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khaùng theå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3709800" cy="369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523880"/>
            <a:ext cx="8534160" cy="1600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TEÁ BAØO MÔÕ - </a:t>
            </a:r>
            <a:r>
              <a:rPr b="1" lang="en-US" sz="1600" spc="-1" strike="noStrike">
                <a:solidFill>
                  <a:srgbClr val="33cccc"/>
                </a:solidFill>
                <a:latin typeface="VNI-Helve"/>
              </a:rPr>
              <a:t>xem chöông MOÂ MÔ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eá baøo môõ 1 gioït môõ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(moâ môõ vaø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eá baøo môõ nhieàu gioït môõ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(moâ môõ naâu do coù nhieàu mao maïch maùu vaø ti theå) coù nhieàu ôû caùc ñoäng vaät nguû ñoâ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581280"/>
            <a:ext cx="8534160" cy="12956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CAÙC LOAÏI BAÏCH CAÀU – </a:t>
            </a:r>
            <a:r>
              <a:rPr b="1" lang="en-US" sz="1600" spc="-1" strike="noStrike">
                <a:solidFill>
                  <a:srgbClr val="33cccc"/>
                </a:solidFill>
                <a:latin typeface="VNI-Helve"/>
              </a:rPr>
              <a:t>xem chöông TAÏO HUYEÁT, MIEÃN DÒ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caùc loaïi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lymphoâ B, T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caùc loaïi baïch caàu aùi toan, aùi kieàm, trung tính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85880" y="923760"/>
            <a:ext cx="7572240" cy="501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09680" y="617220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CAÙC LOAÏI BAÏCH CAÀU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2:34:19Z</dcterms:created>
  <dc:creator>HUU</dc:creator>
  <dc:description/>
  <dc:language>en-US</dc:language>
  <cp:lastModifiedBy>Tuyet</cp:lastModifiedBy>
  <dcterms:modified xsi:type="dcterms:W3CDTF">2005-11-26T09:34:56Z</dcterms:modified>
  <cp:revision>28</cp:revision>
  <dc:subject/>
  <dc:title>DA</dc:title>
</cp:coreProperties>
</file>