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189-7370-45E3-9B25-9718CA0F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047-0A3F-45A5-B7DA-24597C3D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695-89A6-4C0C-99F2-CF9DFD8D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761-C1DC-4640-BBCF-215C210C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9D6F7-242D-4620-AFCD-466362E3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D6D32-CA6A-4BE6-94DB-C678BFFAB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34E2E-D540-425D-A6A2-BE936B7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8562A-B27D-4DF7-AA7B-519B1F1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65558-179C-4C62-BE2E-20383BB1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9CD8C-CFD8-47D0-AA73-760A9305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01F28-593D-43B2-9F32-0ADD5C4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C44-FB90-4715-8210-29571474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B056-D1BB-46CB-A4BE-63EA465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68F59-9AF2-4846-B9C2-32E2E1C8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0612A-BD00-4025-A767-727C5C2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7B2C6-275A-4E4C-8D48-5452F6BA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BA3F6-5F95-418C-BD02-5F4743D6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901-93CE-4932-88FA-A8967B7D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0B0-E2EE-4EAE-A952-3F703E57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17E0-4A2E-45F3-890D-B5593B7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B52-0CFE-45E7-BD21-EABAF73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0930-1BB7-47EF-86A8-569ADF0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B32-C6D2-45BC-9B04-0FE331FA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6AB-B3C4-42A7-A9DB-BAFE48BF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188C-1118-4D43-9672-8BEC16FEA5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199C-8132-4E2B-8C86-D43B8E30B5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NI-Helve"/>
              </a:rPr>
              <a:t>CHÖÔNG 5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VNI-Helve"/>
              </a:rPr>
              <a:t>MOÂ LIEÂN KEÁT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hS. BS. TRANG THÒ AÙNH TUYEÁ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3505320"/>
            <a:ext cx="3048120" cy="68580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NGUOÀN GOÁ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CAÙC TEÁ BAØO LIEÂN KEÁT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05160" y="304920"/>
            <a:ext cx="459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457200" y="914400"/>
            <a:ext cx="8152920" cy="5638680"/>
            <a:chOff x="457200" y="914400"/>
            <a:chExt cx="8152920" cy="5638680"/>
          </a:xfrm>
        </p:grpSpPr>
        <p:grpSp>
          <p:nvGrpSpPr>
            <p:cNvPr id="118" name=""/>
            <p:cNvGrpSpPr/>
            <p:nvPr/>
          </p:nvGrpSpPr>
          <p:grpSpPr>
            <a:xfrm>
              <a:off x="463320" y="917640"/>
              <a:ext cx="8139240" cy="5631120"/>
              <a:chOff x="463320" y="917640"/>
              <a:chExt cx="8139240" cy="563112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463320" y="917640"/>
                <a:ext cx="2280600" cy="486720"/>
                <a:chOff x="463320" y="917640"/>
                <a:chExt cx="2280600" cy="486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55480" y="917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99ff"/>
                      </a:solidFill>
                      <a:latin typeface="VNI-Times"/>
                      <a:ea typeface="Times New Roman"/>
                    </a:rPr>
                    <a:t>Teá baøo moâ lieân keá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63320" y="917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744280" y="917640"/>
                <a:ext cx="3577320" cy="486720"/>
                <a:chOff x="2744280" y="917640"/>
                <a:chExt cx="3577320" cy="486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836440" y="91764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99ff"/>
                      </a:solidFill>
                      <a:latin typeface="VNI-Times"/>
                      <a:ea typeface="Times New Roman"/>
                    </a:rPr>
                    <a:t>Hoaït ñoä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744280" y="91764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321960" y="917640"/>
                <a:ext cx="2280600" cy="486720"/>
                <a:chOff x="6321960" y="917640"/>
                <a:chExt cx="2280600" cy="4867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413400" y="917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699ff"/>
                      </a:solidFill>
                      <a:latin typeface="VNI-Times"/>
                      <a:ea typeface="Times New Roman"/>
                    </a:rPr>
                    <a:t>Chöùc naê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321960" y="917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3320" y="1404360"/>
                <a:ext cx="2280600" cy="764280"/>
                <a:chOff x="463320" y="1404360"/>
                <a:chExt cx="2280600" cy="764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55480" y="140436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Nguyeân baøo sôïi, nguyeân baøo suïn, taïo coát baøo, taïo men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3320" y="140436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744280" y="1404360"/>
                <a:ext cx="3577320" cy="764280"/>
                <a:chOff x="2744280" y="1404360"/>
                <a:chExt cx="3577320" cy="7642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836440" y="1404360"/>
                  <a:ext cx="3392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ùc loaïi sôïi vaø chaát caên baû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744280" y="1404360"/>
                  <a:ext cx="357732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321960" y="1404360"/>
                <a:ext cx="2280600" cy="764280"/>
                <a:chOff x="6321960" y="1404360"/>
                <a:chExt cx="2280600" cy="7642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413400" y="140436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áu truùc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21960" y="140436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63320" y="2168640"/>
                <a:ext cx="2280600" cy="486720"/>
                <a:chOff x="463320" y="2168640"/>
                <a:chExt cx="2280600" cy="486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55480" y="2168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öông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63320" y="2168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744280" y="2168640"/>
                <a:ext cx="3577320" cy="486720"/>
                <a:chOff x="2744280" y="2168640"/>
                <a:chExt cx="3577320" cy="486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836440" y="216864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K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744280" y="216864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321960" y="2168640"/>
                <a:ext cx="2280600" cy="486720"/>
                <a:chOff x="6321960" y="2168640"/>
                <a:chExt cx="2280600" cy="486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13400" y="216864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ieãn dòch 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321960" y="216864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63320" y="2655720"/>
                <a:ext cx="2280600" cy="486720"/>
                <a:chOff x="463320" y="2655720"/>
                <a:chExt cx="2280600" cy="486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55480" y="265572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Lymphoâ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63320" y="265572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744280" y="2655720"/>
                <a:ext cx="3577320" cy="486720"/>
                <a:chOff x="2744280" y="2655720"/>
                <a:chExt cx="3577320" cy="486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836440" y="265572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ùc loaïi teá baøo mieãn dòc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744280" y="265572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321960" y="2655720"/>
                <a:ext cx="2280600" cy="486720"/>
                <a:chOff x="6321960" y="2655720"/>
                <a:chExt cx="2280600" cy="486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413400" y="265572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ieãn dòch 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321960" y="265572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63320" y="3142800"/>
                <a:ext cx="2280600" cy="764280"/>
                <a:chOff x="463320" y="3142800"/>
                <a:chExt cx="2280600" cy="764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555480" y="314280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Baïch caàu öa acid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320" y="314280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744280" y="3142800"/>
                <a:ext cx="3577320" cy="764280"/>
                <a:chOff x="2744280" y="3142800"/>
                <a:chExt cx="3577320" cy="7642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836440" y="3142800"/>
                  <a:ext cx="3392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am gia phaûn öùng dò öùng vaø vaän maïch, ñieàu hoøa hoaït ñoäng cuûa masto baøo vaø quaù trình vieâm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4280" y="3142800"/>
                  <a:ext cx="357732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321960" y="3142800"/>
                <a:ext cx="2280600" cy="764280"/>
                <a:chOff x="6321960" y="3142800"/>
                <a:chExt cx="2280600" cy="764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413400" y="3142800"/>
                  <a:ext cx="2096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ieãn dòch 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21960" y="3142800"/>
                  <a:ext cx="2280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63320" y="3907080"/>
                <a:ext cx="2280600" cy="486720"/>
                <a:chOff x="463320" y="3907080"/>
                <a:chExt cx="2280600" cy="4867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55480" y="390708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Baïch caàu trung tín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3320" y="390708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744280" y="3907080"/>
                <a:ext cx="3577320" cy="486720"/>
                <a:chOff x="2744280" y="3907080"/>
                <a:chExt cx="3577320" cy="486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836440" y="3907080"/>
                  <a:ext cx="3392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öïc baøo caùc vaät laï vaø vi khuaå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44280" y="3907080"/>
                  <a:ext cx="357732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321960" y="3907080"/>
                <a:ext cx="2280600" cy="486720"/>
                <a:chOff x="6321960" y="3907080"/>
                <a:chExt cx="2280600" cy="486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413400" y="3907080"/>
                  <a:ext cx="2096640" cy="4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321960" y="3907080"/>
                  <a:ext cx="2280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63320" y="4393800"/>
                <a:ext cx="2280600" cy="903600"/>
                <a:chOff x="463320" y="4393800"/>
                <a:chExt cx="2280600" cy="9036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55480" y="4393800"/>
                  <a:ext cx="2096640" cy="90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63320" y="4393800"/>
                  <a:ext cx="2280600" cy="90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744280" y="4393800"/>
                <a:ext cx="3577320" cy="903600"/>
                <a:chOff x="2744280" y="4393800"/>
                <a:chExt cx="3577320" cy="903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836440" y="4393800"/>
                  <a:ext cx="3392640" cy="90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eá tieát cytokin vaø caùc phaân töû, thöïc baøo vaät laï vaø vi khuaån, xöû lyù vaø trình dieän khaùng nguyeân cho teá baøo khaùc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744280" y="4393800"/>
                  <a:ext cx="3577320" cy="90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321960" y="4393800"/>
                <a:ext cx="2280600" cy="903600"/>
                <a:chOff x="6321960" y="4393800"/>
                <a:chExt cx="2280600" cy="9036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413400" y="4393800"/>
                  <a:ext cx="2096640" cy="90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Phoøng veä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321960" y="4393800"/>
                  <a:ext cx="2280600" cy="903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3320" y="5297760"/>
                <a:ext cx="2280600" cy="625320"/>
                <a:chOff x="463320" y="5297760"/>
                <a:chExt cx="2280600" cy="625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5480" y="529776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Masto baøo vaø baïch caàu öa bazô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3320" y="529776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744280" y="5297760"/>
                <a:ext cx="3577320" cy="625320"/>
                <a:chOff x="2744280" y="5297760"/>
                <a:chExt cx="3577320" cy="6253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36440" y="5297760"/>
                  <a:ext cx="3392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iaûi phoùng caùc phaân töû kích hoaït quaù trình thöïc baøo (histamine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44280" y="5297760"/>
                  <a:ext cx="35773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321960" y="5297760"/>
                <a:ext cx="2280600" cy="625320"/>
                <a:chOff x="6321960" y="5297760"/>
                <a:chExt cx="2280600" cy="6253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13400" y="529776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Phoøng veä (tham gia phaûn öùng dò öùng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321960" y="529776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63320" y="5923440"/>
                <a:ext cx="2280600" cy="625320"/>
                <a:chOff x="463320" y="5923440"/>
                <a:chExt cx="2280600" cy="6253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55480" y="592344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môõ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3320" y="592344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744280" y="5923440"/>
                <a:ext cx="3577320" cy="625320"/>
                <a:chOff x="2744280" y="5923440"/>
                <a:chExt cx="3577320" cy="6253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836440" y="5923440"/>
                  <a:ext cx="3392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ích tröõ môõ trung tín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44280" y="5923440"/>
                  <a:ext cx="357732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321960" y="5923440"/>
                <a:ext cx="2280600" cy="625320"/>
                <a:chOff x="6321960" y="5923440"/>
                <a:chExt cx="2280600" cy="625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413400" y="5923440"/>
                  <a:ext cx="2096640" cy="62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ích tröõ naêng löôïng, taïo nhieät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321960" y="5923440"/>
                  <a:ext cx="2280600" cy="62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0" name=""/>
            <p:cNvSpPr/>
            <p:nvPr/>
          </p:nvSpPr>
          <p:spPr>
            <a:xfrm>
              <a:off x="457200" y="914400"/>
              <a:ext cx="8152920" cy="5638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0880" y="380880"/>
            <a:ext cx="8229600" cy="39888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9f15"/>
                </a:solidFill>
                <a:latin typeface="VNI-Revue"/>
              </a:rPr>
              <a:t>Vai troø cuûa caùc teá baøo M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685800" y="1676520"/>
            <a:ext cx="8000640" cy="4495680"/>
            <a:chOff x="685800" y="1676520"/>
            <a:chExt cx="8000640" cy="4495680"/>
          </a:xfrm>
        </p:grpSpPr>
        <p:grpSp>
          <p:nvGrpSpPr>
            <p:cNvPr id="203" name=""/>
            <p:cNvGrpSpPr/>
            <p:nvPr/>
          </p:nvGrpSpPr>
          <p:grpSpPr>
            <a:xfrm>
              <a:off x="691920" y="1679400"/>
              <a:ext cx="7987320" cy="4489200"/>
              <a:chOff x="691920" y="1679400"/>
              <a:chExt cx="7987320" cy="44892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91920" y="1679400"/>
                <a:ext cx="1784160" cy="407880"/>
                <a:chOff x="691920" y="1679400"/>
                <a:chExt cx="1784160" cy="407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82280" y="167940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Loaïi teá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1920" y="167940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476440" y="1679400"/>
                <a:ext cx="2753280" cy="407880"/>
                <a:chOff x="2476440" y="1679400"/>
                <a:chExt cx="2753280" cy="407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566440" y="167940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Vò trí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476440" y="167940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30440" y="1679400"/>
                <a:ext cx="3448800" cy="407880"/>
                <a:chOff x="5230440" y="1679400"/>
                <a:chExt cx="3448800" cy="4078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320440" y="167940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Chöùc naêng chính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30440" y="167940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91920" y="2087280"/>
                <a:ext cx="1784160" cy="407880"/>
                <a:chOff x="691920" y="2087280"/>
                <a:chExt cx="1784160" cy="4078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82280" y="208728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Mono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91920" y="208728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476440" y="2087280"/>
                <a:ext cx="2753280" cy="407880"/>
                <a:chOff x="2476440" y="2087280"/>
                <a:chExt cx="2753280" cy="407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566440" y="208728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aù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76440" y="208728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230440" y="2087280"/>
                <a:ext cx="3448800" cy="407880"/>
                <a:chOff x="5230440" y="2087280"/>
                <a:chExt cx="3448800" cy="407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320440" y="208728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caùc 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230440" y="208728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91920" y="2495520"/>
                <a:ext cx="1784160" cy="757800"/>
                <a:chOff x="691920" y="2495520"/>
                <a:chExt cx="1784160" cy="7578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82280" y="2495520"/>
                  <a:ext cx="160308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91920" y="2495520"/>
                  <a:ext cx="1784160" cy="75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2476440" y="2495520"/>
                <a:ext cx="2753280" cy="757800"/>
                <a:chOff x="2476440" y="2495520"/>
                <a:chExt cx="2753280" cy="7578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566440" y="2495520"/>
                  <a:ext cx="257256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oâ lieân keát, cô quan lymphoâ, phoåi, tuûy xöô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476440" y="2495520"/>
                  <a:ext cx="2753280" cy="75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0440" y="2495520"/>
                <a:ext cx="3448800" cy="757800"/>
                <a:chOff x="5230440" y="2495520"/>
                <a:chExt cx="3448800" cy="7578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320440" y="2495520"/>
                  <a:ext cx="3268080" cy="75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aûn xuaát cytokine, caùc chaát hoùa höôùng ñoäng vaø phaân töû coù vai troø trong quaù trình vieâm (ñeà khaùng), xöû lyù vaø trình dieän khaùng nguyeâ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230440" y="2495520"/>
                  <a:ext cx="3448800" cy="75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91920" y="3253680"/>
                <a:ext cx="1784160" cy="407880"/>
                <a:chOff x="691920" y="3253680"/>
                <a:chExt cx="1784160" cy="4078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82280" y="325368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Kupffer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91920" y="325368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476440" y="3253680"/>
                <a:ext cx="2753280" cy="407880"/>
                <a:chOff x="2476440" y="3253680"/>
                <a:chExt cx="2753280" cy="407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2566440" y="325368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n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476440" y="325368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230440" y="3253680"/>
                <a:ext cx="3448800" cy="407880"/>
                <a:chOff x="5230440" y="3253680"/>
                <a:chExt cx="3448800" cy="407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320440" y="325368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hö 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230440" y="325368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1920" y="3661560"/>
                <a:ext cx="1784160" cy="407880"/>
                <a:chOff x="691920" y="3661560"/>
                <a:chExt cx="1784160" cy="4078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2280" y="3661560"/>
                  <a:ext cx="1603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Vi baøo ñeäm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1920" y="3661560"/>
                  <a:ext cx="17841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476440" y="3661560"/>
                <a:ext cx="2753280" cy="407880"/>
                <a:chOff x="2476440" y="3661560"/>
                <a:chExt cx="2753280" cy="407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566440" y="3661560"/>
                  <a:ext cx="257256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eä thaàn kinh trung öô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476440" y="3661560"/>
                  <a:ext cx="2753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5230440" y="3661560"/>
                <a:ext cx="3448800" cy="407880"/>
                <a:chOff x="5230440" y="3661560"/>
                <a:chExt cx="3448800" cy="4078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320440" y="3661560"/>
                  <a:ext cx="32680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hö ñaïi thöïc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230440" y="3661560"/>
                  <a:ext cx="34488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91920" y="4069800"/>
                <a:ext cx="1784160" cy="524520"/>
                <a:chOff x="691920" y="4069800"/>
                <a:chExt cx="1784160" cy="524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2280" y="4069800"/>
                  <a:ext cx="1603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Langerhan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91920" y="4069800"/>
                  <a:ext cx="178416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476440" y="4069800"/>
                <a:ext cx="2753280" cy="524520"/>
                <a:chOff x="2476440" y="4069800"/>
                <a:chExt cx="2753280" cy="5245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566440" y="4069800"/>
                  <a:ext cx="257256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ieåu bì cuûa d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476440" y="4069800"/>
                  <a:ext cx="275328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230440" y="4069800"/>
                <a:ext cx="3448800" cy="524520"/>
                <a:chOff x="5230440" y="4069800"/>
                <a:chExt cx="3448800" cy="5245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320440" y="4069800"/>
                  <a:ext cx="3268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Xöû lyù vaø trình dieän khaùng nguyeâ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230440" y="4069800"/>
                  <a:ext cx="344880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91920" y="4594680"/>
                <a:ext cx="1784160" cy="524520"/>
                <a:chOff x="691920" y="4594680"/>
                <a:chExt cx="1784160" cy="5245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782280" y="4594680"/>
                  <a:ext cx="1603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Ñaïi thöïc baøo coù gai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91920" y="4594680"/>
                  <a:ext cx="178416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2476440" y="4594680"/>
                <a:ext cx="2753280" cy="524520"/>
                <a:chOff x="2476440" y="4594680"/>
                <a:chExt cx="2753280" cy="5245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566440" y="4594680"/>
                  <a:ext cx="257256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ang lymphoâ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476440" y="4594680"/>
                  <a:ext cx="275328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230440" y="4594680"/>
                <a:ext cx="3448800" cy="524520"/>
                <a:chOff x="5230440" y="4594680"/>
                <a:chExt cx="3448800" cy="5245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320440" y="4594680"/>
                  <a:ext cx="3268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Xöû lyù vaø trình dieän KN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30440" y="4594680"/>
                  <a:ext cx="344880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91920" y="5119200"/>
                <a:ext cx="1784160" cy="524880"/>
                <a:chOff x="691920" y="5119200"/>
                <a:chExt cx="1784160" cy="524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82280" y="5119200"/>
                  <a:ext cx="160308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Huûy coát baø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91920" y="5119200"/>
                  <a:ext cx="1784160" cy="52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476440" y="5119200"/>
                <a:ext cx="2753280" cy="524880"/>
                <a:chOff x="2476440" y="5119200"/>
                <a:chExt cx="2753280" cy="5248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566440" y="5119200"/>
                  <a:ext cx="257256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Xöông (do nhieàu ñaïi thöïc baøo hôïp laïi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476440" y="5119200"/>
                  <a:ext cx="2753280" cy="52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5230440" y="5119200"/>
                <a:ext cx="3448800" cy="524880"/>
                <a:chOff x="5230440" y="5119200"/>
                <a:chExt cx="3448800" cy="5248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20440" y="5119200"/>
                  <a:ext cx="3268080" cy="52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uûy xöông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230440" y="5119200"/>
                  <a:ext cx="3448800" cy="52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1920" y="5644080"/>
                <a:ext cx="1784160" cy="524520"/>
                <a:chOff x="691920" y="5644080"/>
                <a:chExt cx="1784160" cy="5245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82280" y="5644080"/>
                  <a:ext cx="1603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cc00"/>
                      </a:solidFill>
                      <a:latin typeface="VNI-Times"/>
                      <a:ea typeface="Times New Roman"/>
                    </a:rPr>
                    <a:t>Teá baøo ña nhaân khoång lo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1920" y="5644080"/>
                  <a:ext cx="178416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2476440" y="5644080"/>
                <a:ext cx="2753280" cy="524520"/>
                <a:chOff x="2476440" y="5644080"/>
                <a:chExt cx="2753280" cy="524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2566440" y="5644080"/>
                  <a:ext cx="257256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oâ lieân keát (do nhieàu ñaïi thöïc baøo hôïp laïi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76440" y="5644080"/>
                  <a:ext cx="275328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5230440" y="5644080"/>
                <a:ext cx="3448800" cy="524520"/>
                <a:chOff x="5230440" y="5644080"/>
                <a:chExt cx="3448800" cy="5245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5320440" y="5644080"/>
                  <a:ext cx="3268080" cy="52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aét nhoû vaø tieâu huûy vaät laï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230440" y="5644080"/>
                  <a:ext cx="3448800" cy="52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85800" y="1676520"/>
              <a:ext cx="8000640" cy="4495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85800" y="380880"/>
            <a:ext cx="8001000" cy="86256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9f15"/>
                </a:solidFill>
                <a:latin typeface="VNI-Revue"/>
              </a:rPr>
              <a:t>Chöùc naêng cuûa caùc teá baø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9f15"/>
                </a:solidFill>
                <a:latin typeface="VNI-Revue"/>
              </a:rPr>
              <a:t>thuoäc heä thöïc baøo ñôn nhaâ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04776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"/>
              </a:rPr>
              <a:t>SÔÏI TAÏO K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phaân töû collagen (gioáng sôïi löôùi), coù 4 loaïi: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taïo vi sôï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keát gaén vi sôï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taïo vi sôïi baùm gaé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taïo sôïi löôù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- caùc a.amin</a:t>
            </a: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 (glycine, proline, hydroxyproline) – ñôn vò collagen (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tropocollagen) – sieâu sôïi collagen – vi sôïi collage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- caùc collagen </a:t>
            </a: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I, II, III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 taïo thaønh caùc sieâu sôïi roài vi sôïi coù vaân</a:t>
            </a:r>
            <a:r>
              <a:rPr b="1" lang="en-US" sz="2000" spc="-1" strike="noStrike">
                <a:solidFill>
                  <a:srgbClr val="ffcc00"/>
                </a:solidFill>
                <a:latin typeface="VNI-Helv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3809880"/>
            <a:ext cx="8534160" cy="13716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SÔÏI LÖÔÙ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collagen I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baét maøu baï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ôû cô quan taïo huyeá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5181480"/>
            <a:ext cx="8534160" cy="152424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SÔÏI CH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sôïi oxytalan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: maûnh, gñ 1 (maïc treo thuyû tinh theå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sôïi elaunin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: gñ 2 (tuyeán moà hoâi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VNI-Helve"/>
              </a:rPr>
              <a:t>sôïi elastic</a:t>
            </a:r>
            <a:r>
              <a:rPr b="1" lang="en-US" sz="1600" spc="-1" strike="noStrike">
                <a:solidFill>
                  <a:srgbClr val="eb9f15"/>
                </a:solidFill>
                <a:latin typeface="VNI-Helve"/>
              </a:rPr>
              <a:t>: gñ 3 (chieám ña soá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763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CAÙC SÔÏI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240" y="-37958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NI-Times"/>
                <a:ea typeface="Times New Roman"/>
              </a:rPr>
              <a:t>Baûng 5.3. Caùc loaïi collag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28600" y="609480"/>
            <a:ext cx="8686440" cy="6019920"/>
            <a:chOff x="228600" y="609480"/>
            <a:chExt cx="8686440" cy="6019920"/>
          </a:xfrm>
        </p:grpSpPr>
        <p:grpSp>
          <p:nvGrpSpPr>
            <p:cNvPr id="293" name=""/>
            <p:cNvGrpSpPr/>
            <p:nvPr/>
          </p:nvGrpSpPr>
          <p:grpSpPr>
            <a:xfrm>
              <a:off x="236160" y="611280"/>
              <a:ext cx="8670240" cy="6015960"/>
              <a:chOff x="236160" y="611280"/>
              <a:chExt cx="8670240" cy="601596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36160" y="611280"/>
                <a:ext cx="763200" cy="398160"/>
                <a:chOff x="236160" y="611280"/>
                <a:chExt cx="763200" cy="3981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8480" y="611280"/>
                  <a:ext cx="53784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Loaï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36160" y="611280"/>
                  <a:ext cx="7632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999720" y="611280"/>
                <a:ext cx="1387440" cy="398160"/>
                <a:chOff x="999720" y="611280"/>
                <a:chExt cx="1387440" cy="3981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111680" y="611280"/>
                  <a:ext cx="11631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aønh phaàn  procollage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999720" y="611280"/>
                  <a:ext cx="138744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387880" y="611280"/>
                <a:ext cx="1260000" cy="398160"/>
                <a:chOff x="2387880" y="611280"/>
                <a:chExt cx="1260000" cy="3981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500200" y="611280"/>
                  <a:ext cx="103464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aáu truùc  procollage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387880" y="611280"/>
                  <a:ext cx="12600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648240" y="611280"/>
                <a:ext cx="2028600" cy="398160"/>
                <a:chOff x="3648240" y="611280"/>
                <a:chExt cx="2028600" cy="3981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760200" y="611280"/>
                  <a:ext cx="18039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ình aûnh döôùi KHV quang ho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648240" y="611280"/>
                  <a:ext cx="20286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5677560" y="611280"/>
                <a:ext cx="1259640" cy="398160"/>
                <a:chOff x="5677560" y="611280"/>
                <a:chExt cx="1259640" cy="398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5789520" y="611280"/>
                  <a:ext cx="1035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où ôû moâ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677560" y="611280"/>
                  <a:ext cx="125964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937560" y="611280"/>
                <a:ext cx="1968480" cy="398160"/>
                <a:chOff x="6937560" y="611280"/>
                <a:chExt cx="1968480" cy="398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7049880" y="611280"/>
                  <a:ext cx="17431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öùc naêng chí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37560" y="611280"/>
                  <a:ext cx="196848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36160" y="1009440"/>
                <a:ext cx="8670240" cy="225360"/>
                <a:chOff x="236160" y="1009440"/>
                <a:chExt cx="8670240" cy="2253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48480" y="100944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taïo vi sôï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36160" y="100944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36160" y="1235160"/>
                <a:ext cx="763200" cy="464760"/>
                <a:chOff x="236160" y="1235160"/>
                <a:chExt cx="763200" cy="4647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48480" y="123516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6160" y="123516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999720" y="1235160"/>
                <a:ext cx="1387440" cy="464760"/>
                <a:chOff x="999720" y="1235160"/>
                <a:chExt cx="1387440" cy="4647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111680" y="123516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 (II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999720" y="123516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2387880" y="1235160"/>
                <a:ext cx="1260000" cy="464760"/>
                <a:chOff x="2387880" y="1235160"/>
                <a:chExt cx="1260000" cy="4647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2500200" y="123516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00 nm, baêng vi sôïi 67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387880" y="123516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3648240" y="1235160"/>
                <a:ext cx="2028600" cy="464760"/>
                <a:chOff x="3648240" y="1235160"/>
                <a:chExt cx="2028600" cy="4647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760200" y="123516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y, khuùc xaï vôùi nhuoäm picrosirius, khoâng baét maøu nhuoäm ba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648240" y="123516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677560" y="1235160"/>
                <a:ext cx="1259640" cy="464760"/>
                <a:chOff x="5677560" y="1235160"/>
                <a:chExt cx="1259640" cy="4647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789520" y="123516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, gaân, xöông, ngaø raêng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677560" y="123516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6937560" y="1235160"/>
                <a:ext cx="1968480" cy="464760"/>
                <a:chOff x="6937560" y="1235160"/>
                <a:chExt cx="1968480" cy="46476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049880" y="123516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òu löïc caêng giaõ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937560" y="123516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36160" y="1699920"/>
                <a:ext cx="763200" cy="464760"/>
                <a:chOff x="236160" y="1699920"/>
                <a:chExt cx="763200" cy="4647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48480" y="169992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6160" y="169992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999720" y="1699920"/>
                <a:ext cx="1387440" cy="464760"/>
                <a:chOff x="999720" y="1699920"/>
                <a:chExt cx="1387440" cy="4647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111680" y="169992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I)}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999720" y="169992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387880" y="1699920"/>
                <a:ext cx="1260000" cy="464760"/>
                <a:chOff x="2387880" y="1699920"/>
                <a:chExt cx="1260000" cy="4647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500200" y="169992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00 nm, baêng vi sôïi 67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87880" y="169992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648240" y="1699920"/>
                <a:ext cx="2028600" cy="464760"/>
                <a:chOff x="3648240" y="1699920"/>
                <a:chExt cx="2028600" cy="4647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760200" y="169992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höa, khuùc xaï,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648240" y="169992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677560" y="1699920"/>
                <a:ext cx="1259640" cy="464760"/>
                <a:chOff x="5677560" y="1699920"/>
                <a:chExt cx="1259640" cy="464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789520" y="169992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uïn, theå kí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677560" y="169992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937560" y="1699920"/>
                <a:ext cx="1968480" cy="464760"/>
                <a:chOff x="6937560" y="1699920"/>
                <a:chExt cx="1968480" cy="464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049880" y="169992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Chòu löïc ñeø neù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937560" y="169992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36160" y="2165040"/>
                <a:ext cx="763200" cy="597600"/>
                <a:chOff x="236160" y="2165040"/>
                <a:chExt cx="763200" cy="5976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48480" y="2165040"/>
                  <a:ext cx="5378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36160" y="2165040"/>
                  <a:ext cx="7632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999720" y="2165040"/>
                <a:ext cx="1387440" cy="597600"/>
                <a:chOff x="999720" y="2165040"/>
                <a:chExt cx="1387440" cy="5976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1111680" y="2165040"/>
                  <a:ext cx="11631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II)}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999720" y="2165040"/>
                  <a:ext cx="13874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87880" y="2165040"/>
                <a:ext cx="1260000" cy="597600"/>
                <a:chOff x="2387880" y="2165040"/>
                <a:chExt cx="1260000" cy="5976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500200" y="2165040"/>
                  <a:ext cx="10346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aêng vi sôïi 67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880" y="2165040"/>
                  <a:ext cx="12600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3648240" y="2165040"/>
                <a:ext cx="2028600" cy="597600"/>
                <a:chOff x="3648240" y="2165040"/>
                <a:chExt cx="2028600" cy="597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3760200" y="2165040"/>
                  <a:ext cx="18039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aûnh, khuùc xaï yeáu, aên maøu nhuoäm ba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648240" y="2165040"/>
                  <a:ext cx="20286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677560" y="2165040"/>
                <a:ext cx="1259640" cy="597600"/>
                <a:chOff x="5677560" y="2165040"/>
                <a:chExt cx="1259640" cy="5976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89520" y="2165040"/>
                  <a:ext cx="10353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, cô, maïch maùu, hay keát hôïp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77560" y="2165040"/>
                  <a:ext cx="1259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937560" y="2165040"/>
                <a:ext cx="1968480" cy="597600"/>
                <a:chOff x="6937560" y="2165040"/>
                <a:chExt cx="1968480" cy="597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049880" y="2165040"/>
                  <a:ext cx="17431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aûo toàn caáu truùc caùc taïng coù theå gia taêng kích thöôù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937560" y="2165040"/>
                  <a:ext cx="19684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36160" y="2762640"/>
                <a:ext cx="763200" cy="531360"/>
                <a:chOff x="236160" y="2762640"/>
                <a:chExt cx="763200" cy="5313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48480" y="2762640"/>
                  <a:ext cx="53784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V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36160" y="2762640"/>
                  <a:ext cx="76320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999720" y="2762640"/>
                <a:ext cx="1387440" cy="531360"/>
                <a:chOff x="999720" y="2762640"/>
                <a:chExt cx="1387440" cy="53136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1111680" y="2762640"/>
                  <a:ext cx="11631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V)}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999720" y="2762640"/>
                  <a:ext cx="13874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87880" y="2762640"/>
                <a:ext cx="1260000" cy="531360"/>
                <a:chOff x="2387880" y="2762640"/>
                <a:chExt cx="1260000" cy="5313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500200" y="2762640"/>
                  <a:ext cx="103464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90 nm, ñaàu cuoái hình caà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87880" y="2762640"/>
                  <a:ext cx="126000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648240" y="2762640"/>
                <a:ext cx="2028600" cy="531360"/>
                <a:chOff x="3648240" y="2762640"/>
                <a:chExt cx="2028600" cy="53136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3760200" y="2762640"/>
                  <a:ext cx="18039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ïo sôïi collagen cuøng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648240" y="2762640"/>
                  <a:ext cx="202860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5677560" y="2762640"/>
                <a:ext cx="1259640" cy="531360"/>
                <a:chOff x="5677560" y="2762640"/>
                <a:chExt cx="1259640" cy="5313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789520" y="2762640"/>
                  <a:ext cx="10353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Moâ phoâi thai, da, xöông, nhau, oáng tieâu hoù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677560" y="2762640"/>
                  <a:ext cx="12596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6937560" y="2762640"/>
                <a:ext cx="1968480" cy="531360"/>
                <a:chOff x="6937560" y="2762640"/>
                <a:chExt cx="1968480" cy="5313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7049880" y="2762640"/>
                  <a:ext cx="17431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öông taùc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937560" y="2762640"/>
                  <a:ext cx="196848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36160" y="3294000"/>
                <a:ext cx="763200" cy="331920"/>
                <a:chOff x="236160" y="3294000"/>
                <a:chExt cx="763200" cy="331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48480" y="3294000"/>
                  <a:ext cx="5378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X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36160" y="3294000"/>
                  <a:ext cx="7632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999720" y="3294000"/>
                <a:ext cx="1387440" cy="331920"/>
                <a:chOff x="999720" y="3294000"/>
                <a:chExt cx="1387440" cy="3319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111680" y="3294000"/>
                  <a:ext cx="11631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X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 (XI)]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 (XI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999720" y="3294000"/>
                  <a:ext cx="13874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87880" y="3294000"/>
                <a:ext cx="1260000" cy="331920"/>
                <a:chOff x="2387880" y="3294000"/>
                <a:chExt cx="1260000" cy="3319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500200" y="3294000"/>
                  <a:ext cx="10346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300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7880" y="3294000"/>
                  <a:ext cx="12600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3648240" y="3294000"/>
                <a:ext cx="2028600" cy="331920"/>
                <a:chOff x="3648240" y="3294000"/>
                <a:chExt cx="2028600" cy="3319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760200" y="3294000"/>
                  <a:ext cx="18039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ôïi collagen nhoû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648240" y="3294000"/>
                  <a:ext cx="202860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77560" y="3294000"/>
                <a:ext cx="1259640" cy="331920"/>
                <a:chOff x="5677560" y="3294000"/>
                <a:chExt cx="1259640" cy="3319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789520" y="3294000"/>
                  <a:ext cx="103536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uïn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677560" y="3294000"/>
                  <a:ext cx="125964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937560" y="3294000"/>
                <a:ext cx="1968480" cy="331920"/>
                <a:chOff x="6937560" y="3294000"/>
                <a:chExt cx="1968480" cy="3319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049880" y="3294000"/>
                  <a:ext cx="174312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öông taùc vôùi collagen 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937560" y="3294000"/>
                  <a:ext cx="1968480" cy="33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236160" y="3626280"/>
                <a:ext cx="8670240" cy="225360"/>
                <a:chOff x="236160" y="3626280"/>
                <a:chExt cx="8670240" cy="22536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348480" y="362628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keát gaén vi sôï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36160" y="362628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236160" y="3851640"/>
                <a:ext cx="763200" cy="464760"/>
                <a:chOff x="236160" y="3851640"/>
                <a:chExt cx="763200" cy="4647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48480" y="385164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X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36160" y="385164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999720" y="3851640"/>
                <a:ext cx="1387440" cy="464760"/>
                <a:chOff x="999720" y="3851640"/>
                <a:chExt cx="1387440" cy="4647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111680" y="385164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X)]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 (IX)] 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 (IX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999720" y="385164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2387880" y="3851640"/>
                <a:ext cx="1260000" cy="464760"/>
                <a:chOff x="2387880" y="3851640"/>
                <a:chExt cx="1260000" cy="46476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2500200" y="385164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200 nm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387880" y="385164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3648240" y="3851640"/>
                <a:ext cx="2028600" cy="464760"/>
                <a:chOff x="3648240" y="3851640"/>
                <a:chExt cx="2028600" cy="46476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760200" y="385164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648240" y="385164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677560" y="3851640"/>
                <a:ext cx="1259640" cy="464760"/>
                <a:chOff x="5677560" y="3851640"/>
                <a:chExt cx="1259640" cy="4647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89520" y="385164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Suïn, theå kí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677560" y="385164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937560" y="3851640"/>
                <a:ext cx="1968480" cy="464760"/>
                <a:chOff x="6937560" y="3851640"/>
                <a:chExt cx="1968480" cy="46476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7049880" y="385164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én keát caùc glycosaminoglycan; töông taùc vôùi collagen I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937560" y="385164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236160" y="4316760"/>
                <a:ext cx="763200" cy="464760"/>
                <a:chOff x="236160" y="4316760"/>
                <a:chExt cx="763200" cy="4647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48480" y="431676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X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36160" y="431676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999720" y="4316760"/>
                <a:ext cx="1387440" cy="464760"/>
                <a:chOff x="999720" y="4316760"/>
                <a:chExt cx="1387440" cy="46476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1111680" y="431676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XI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99720" y="431676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2387880" y="4316760"/>
                <a:ext cx="1260000" cy="464760"/>
                <a:chOff x="2387880" y="4316760"/>
                <a:chExt cx="1260000" cy="4647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2500200" y="431676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Ñaàu cuoái to, töông taùc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387880" y="431676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3648240" y="4316760"/>
                <a:ext cx="2028600" cy="464760"/>
                <a:chOff x="3648240" y="4316760"/>
                <a:chExt cx="2028600" cy="4647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3760200" y="431676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648240" y="431676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677560" y="4316760"/>
                <a:ext cx="1259640" cy="464760"/>
                <a:chOff x="5677560" y="4316760"/>
                <a:chExt cx="1259640" cy="464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89520" y="431676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ân vaø da tröôùc si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677560" y="431676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937560" y="4316760"/>
                <a:ext cx="1968480" cy="464760"/>
                <a:chOff x="6937560" y="4316760"/>
                <a:chExt cx="1968480" cy="4647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49880" y="431676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öông taùc vôùi collagen 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937560" y="431676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36160" y="4781520"/>
                <a:ext cx="763200" cy="464760"/>
                <a:chOff x="236160" y="4781520"/>
                <a:chExt cx="763200" cy="464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48480" y="478152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XIV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6160" y="478152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999720" y="4781520"/>
                <a:ext cx="1387440" cy="464760"/>
                <a:chOff x="999720" y="4781520"/>
                <a:chExt cx="1387440" cy="4647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111680" y="478152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XIV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999720" y="478152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387880" y="4781520"/>
                <a:ext cx="1260000" cy="464760"/>
                <a:chOff x="2387880" y="4781520"/>
                <a:chExt cx="1260000" cy="4647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00200" y="478152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Ñaàu cuoái to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87880" y="478152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3648240" y="4781520"/>
                <a:ext cx="2028600" cy="464760"/>
                <a:chOff x="3648240" y="4781520"/>
                <a:chExt cx="2028600" cy="4647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3760200" y="478152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648240" y="478152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5677560" y="4781520"/>
                <a:ext cx="1259640" cy="464760"/>
                <a:chOff x="5677560" y="4781520"/>
                <a:chExt cx="1259640" cy="4647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5789520" y="478152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 vaø gaân tröôùc sin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677560" y="478152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937560" y="4781520"/>
                <a:ext cx="1968480" cy="464760"/>
                <a:chOff x="6937560" y="4781520"/>
                <a:chExt cx="1968480" cy="4647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049880" y="478152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937560" y="478152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36160" y="5246280"/>
                <a:ext cx="8670240" cy="225360"/>
                <a:chOff x="236160" y="5246280"/>
                <a:chExt cx="8670240" cy="2253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48480" y="524628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taïo vi sôïi baùm gaé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6160" y="524628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236160" y="5472000"/>
                <a:ext cx="763200" cy="464760"/>
                <a:chOff x="236160" y="5472000"/>
                <a:chExt cx="763200" cy="4647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348480" y="547200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VI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6160" y="547200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999720" y="5472000"/>
                <a:ext cx="1387440" cy="464760"/>
                <a:chOff x="999720" y="5472000"/>
                <a:chExt cx="1387440" cy="464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111680" y="547200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VI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3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999720" y="547200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2387880" y="5472000"/>
                <a:ext cx="1260000" cy="464760"/>
                <a:chOff x="2387880" y="5472000"/>
                <a:chExt cx="1260000" cy="4647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2500200" y="547200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Daøi 450 nm, ñaàu cuoái hình caàu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387880" y="547200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648240" y="5472000"/>
                <a:ext cx="2028600" cy="464760"/>
                <a:chOff x="3648240" y="5472000"/>
                <a:chExt cx="2028600" cy="464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60200" y="547200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648240" y="547200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5677560" y="5472000"/>
                <a:ext cx="1259640" cy="464760"/>
                <a:chOff x="5677560" y="5472000"/>
                <a:chExt cx="1259640" cy="464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789520" y="547200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Bieåu moâ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77560" y="547200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937560" y="5472000"/>
                <a:ext cx="1968480" cy="464760"/>
                <a:chOff x="6937560" y="5472000"/>
                <a:chExt cx="1968480" cy="46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7049880" y="547200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Gaén maøng ñaùy bieåu bì vaøo moâ lieân keát beân döôù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937560" y="547200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236160" y="5936760"/>
                <a:ext cx="8670240" cy="225360"/>
                <a:chOff x="236160" y="5936760"/>
                <a:chExt cx="8670240" cy="2253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48480" y="5936760"/>
                  <a:ext cx="844488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VNI-Times"/>
                    </a:rPr>
                    <a:t>Collagen taïo löôùi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6160" y="5936760"/>
                  <a:ext cx="8670240" cy="22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36160" y="6162480"/>
                <a:ext cx="763200" cy="464760"/>
                <a:chOff x="236160" y="6162480"/>
                <a:chExt cx="763200" cy="46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348480" y="6162480"/>
                  <a:ext cx="5378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b9f15"/>
                      </a:solidFill>
                      <a:latin typeface="VNI-Times"/>
                      <a:ea typeface="Times New Roman"/>
                    </a:rPr>
                    <a:t>IV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36160" y="6162480"/>
                  <a:ext cx="7632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999720" y="6162480"/>
                <a:ext cx="1387440" cy="464760"/>
                <a:chOff x="999720" y="6162480"/>
                <a:chExt cx="1387440" cy="464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1111680" y="6162480"/>
                  <a:ext cx="11631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VII)]</a:t>
                  </a:r>
                  <a:r>
                    <a:rPr b="0" lang="en-US" sz="1000" spc="-1" strike="noStrike" baseline="-30000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2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[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1 (IV)]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999720" y="6162480"/>
                  <a:ext cx="13874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2387880" y="6162480"/>
                <a:ext cx="1260000" cy="464760"/>
                <a:chOff x="2387880" y="6162480"/>
                <a:chExt cx="1260000" cy="464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2500200" y="6162480"/>
                  <a:ext cx="103464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Hình löôù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387880" y="6162480"/>
                  <a:ext cx="12600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648240" y="6162480"/>
                <a:ext cx="2028600" cy="464760"/>
                <a:chOff x="3648240" y="6162480"/>
                <a:chExt cx="2028600" cy="464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760200" y="6162480"/>
                  <a:ext cx="18039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Khoâng quan saùt ñöôïc, phaùt hieän khi nhuoäm hoùa moâ mieãn dòc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648240" y="6162480"/>
                  <a:ext cx="202860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677560" y="6162480"/>
                <a:ext cx="1259640" cy="464760"/>
                <a:chOff x="5677560" y="6162480"/>
                <a:chExt cx="1259640" cy="464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789520" y="6162480"/>
                  <a:ext cx="103536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Taát caû caùc maøng ñaùy ñoâi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677560" y="6162480"/>
                  <a:ext cx="125964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6937560" y="6162480"/>
                <a:ext cx="1968480" cy="464760"/>
                <a:chOff x="6937560" y="6162480"/>
                <a:chExt cx="1968480" cy="4647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7049880" y="6162480"/>
                  <a:ext cx="1743120" cy="46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VNI-Times"/>
                      <a:ea typeface="Times New Roman"/>
                    </a:rPr>
                    <a:t>Naâng ñôõ caáu truùc, saøng loï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937560" y="6162480"/>
                  <a:ext cx="1968480" cy="46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228600" y="609480"/>
              <a:ext cx="8686440" cy="601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28600" y="152280"/>
            <a:ext cx="8686800" cy="39888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Revue"/>
              </a:rPr>
              <a:t>Caùc loaïi phaân töû colla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838080" y="657360"/>
            <a:ext cx="7620120" cy="46004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514600" y="5638680"/>
            <a:ext cx="426708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 ÑOÀ TOÅ CHÖÙC SÔÏI COLLAGE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619760" cy="11811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2590920" y="1600200"/>
            <a:ext cx="426708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PHAÂN TÖÛ COLLAGEN 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(coù 2 chuoãi anpha 1 + 1 chuoãi anpha 2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1523880" y="2297160"/>
            <a:ext cx="6019920" cy="3951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209680" y="6324480"/>
            <a:ext cx="42674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ïi collagen döôùi KHV ñieän töû xuyeâ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09680" y="6172200"/>
            <a:ext cx="42674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Aûnh vi theå sôïi collage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362480" cy="5715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52280" y="152280"/>
            <a:ext cx="4572000" cy="6858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ÏI COLLAGEN VAØ SÔÏI CH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(nhuoäm ñoû picrosirius, KHV phaân cöïc)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4648320" y="3708360"/>
            <a:ext cx="4495680" cy="30020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791320" y="3048120"/>
            <a:ext cx="1828800" cy="3808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ÔÏI LÖÔÙ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4114800" cy="27208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914400" y="4038480"/>
            <a:ext cx="7620120" cy="28195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4"/>
          <a:stretch/>
        </p:blipFill>
        <p:spPr>
          <a:xfrm>
            <a:off x="4495680" y="228600"/>
            <a:ext cx="445320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TEÁ BAØO – SÔÏI – CHAÁT CAÊN BAÛ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514600"/>
            <a:ext cx="81536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NGOAÏI BÌ - NOÄI BÌ - </a:t>
            </a:r>
            <a:r>
              <a:rPr b="1" lang="en-US" sz="2000" spc="-1" strike="noStrike">
                <a:solidFill>
                  <a:srgbClr val="ffcc00"/>
                </a:solidFill>
                <a:latin typeface="VNI-Helve"/>
              </a:rPr>
              <a:t>TRUNG BÌ</a:t>
            </a: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  </a:t>
            </a:r>
            <a:r>
              <a:rPr b="0" lang="en-US" sz="2000" spc="-1" strike="noStrike">
                <a:solidFill>
                  <a:srgbClr val="eb9f15"/>
                </a:solidFill>
                <a:latin typeface="VNI-Helve"/>
              </a:rPr>
              <a:t>(trung moâ)</a:t>
            </a: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3429000"/>
            <a:ext cx="8229600" cy="9144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NGUYEÂN BAØO SÔÏI =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TEÁ BAØO SÔÏI HOAÏT ÑOÄ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TEÁ BAØO SÔÏI =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TEÁ BAØO SÔÏI</a:t>
            </a: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KHOÂNG HOAÏT ÑOÄ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800600"/>
            <a:ext cx="8229600" cy="11430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9f15"/>
                </a:solidFill>
                <a:latin typeface="VNI-Helve"/>
              </a:rPr>
              <a:t>MONO BAØO - ÑAÏI THÖÏC BAØO – </a:t>
            </a:r>
            <a:r>
              <a:rPr b="1" lang="en-US" sz="2000" spc="-1" strike="noStrike">
                <a:solidFill>
                  <a:srgbClr val="33cccc"/>
                </a:solidFill>
                <a:latin typeface="VNI-Helve"/>
              </a:rPr>
              <a:t>HEÄ THÖÏC BAØO ÑÔN NHAÂ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Vari"/>
              </a:rPr>
              <a:t>(teá baøo daïng bieåu moâ, teá baøo nhaân khoång loà, teá baøo Kupffer, vi baøo ñeäm, teá baøo Langerhans, teá baøo coù gai, huûy coát baøo)</a:t>
            </a:r>
            <a:r>
              <a:rPr b="0" lang="en-US" sz="2000" spc="-1" strike="noStrike">
                <a:solidFill>
                  <a:srgbClr val="eb9f15"/>
                </a:solidFill>
                <a:latin typeface="VNI-Vari"/>
              </a:rPr>
              <a:t>…</a:t>
            </a:r>
            <a:r>
              <a:rPr b="0" lang="en-US" sz="2400" spc="-1" strike="noStrike">
                <a:solidFill>
                  <a:srgbClr val="eb9f15"/>
                </a:solidFill>
                <a:latin typeface="VNI-Va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762120"/>
            <a:ext cx="815364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VNI-Vari"/>
              </a:rPr>
              <a:t>MOÂ LIEÂN KEÁT</a:t>
            </a:r>
            <a:r>
              <a:rPr b="1" lang="en-US" sz="2800" spc="-1" strike="noStrike">
                <a:solidFill>
                  <a:srgbClr val="010199"/>
                </a:solidFill>
                <a:latin typeface="VNI-Mel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137160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GLYCOSAMINOGLYCAN (GAG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töøng ñöôïc goïi laø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acid mucopolysaccharide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: ñöôïc taïo töø caùc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disaccharide (1 acid uronic + 1 hexoami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6699ff"/>
                </a:solidFill>
                <a:latin typeface="VNI-Helve"/>
              </a:rPr>
              <a:t>uronic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: acid glucuronic hay acid iduron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04920" y="3276720"/>
            <a:ext cx="8458200" cy="167616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PROTEOGLY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1 protein loõi + 4 glycosaminoglycan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(dextran sulfate, chondroitin sulfate, keratan sulfate, heparan sulfat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hình choåi loâng vôùi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loõi laø protein + caùc glycosaminoglyc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5257800"/>
            <a:ext cx="8458200" cy="99072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GLYCOPROTEIN keát dính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1 protein to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+ carbohydrate (mono)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daïng sôïi chia nhaù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304920"/>
            <a:ext cx="8534160" cy="937800"/>
          </a:xfrm>
          <a:prstGeom prst="rect">
            <a:avLst/>
          </a:prstGeom>
          <a:solidFill>
            <a:srgbClr val="ffcc00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CHAÁT CAÊN BAÛN MOÂ LIEÂN KEÁT</a:t>
            </a:r>
            <a:r>
              <a:rPr b="1" lang="en-US" sz="2800" spc="-1" strike="noStrike">
                <a:solidFill>
                  <a:srgbClr val="eb9f15"/>
                </a:solidFill>
                <a:latin typeface="VNI-Mel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Meli"/>
              </a:rPr>
              <a:t>(3 phaân töû caáu truù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496880" y="304920"/>
            <a:ext cx="2094120" cy="62481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733920" y="11430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VNI-Vari"/>
              </a:rPr>
              <a:t>Proteogycan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coù 1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protein loõi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+ nhieàu </a:t>
            </a:r>
            <a:r>
              <a:rPr b="1" lang="en-US" sz="1800" spc="-1" strike="noStrike">
                <a:solidFill>
                  <a:srgbClr val="6699ff"/>
                </a:solidFill>
                <a:latin typeface="VNI-Vari"/>
              </a:rPr>
              <a:t>GAG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(glycosaminoglycan)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480060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VNI-Vari"/>
              </a:rPr>
              <a:t>Glycoprotein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: 1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protein to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(ôû 1 beân) +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chuoãi haït carbohydrate</a:t>
            </a: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 (monosaccharide)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3049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CAÙC LOAÏI MOÂ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5857920" cy="571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3297240" cy="44956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5181480" y="1143000"/>
            <a:ext cx="3297240" cy="44956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57200" y="5867280"/>
            <a:ext cx="350532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LK ÑAËC KHOÂNG ÑOÀNG ÑEÀU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81480" y="5867280"/>
            <a:ext cx="320040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LK ÑAËC ÑOÀNG ÑEÀU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4000" y="228600"/>
            <a:ext cx="3908520" cy="4457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5800" y="4952880"/>
            <a:ext cx="228600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OÂ LÖÔÙI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4038480" y="2590920"/>
            <a:ext cx="5105520" cy="3330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4800600" y="6019920"/>
            <a:ext cx="396252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MOÂ NHAØY (chaát keo Wharton)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91120" y="1143000"/>
            <a:ext cx="4565520" cy="4952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28600" y="647640"/>
            <a:ext cx="3535200" cy="4991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5791320"/>
            <a:ext cx="3505320" cy="99036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Vari"/>
              </a:rPr>
              <a:t>TEÁ BAØO SÔÏI HOAÏT ÑOÄ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9f15"/>
                </a:solidFill>
                <a:latin typeface="VNI-Vari"/>
              </a:rPr>
              <a:t>(nhieàu ti theå, löôùi noäi baøo haït)</a:t>
            </a:r>
            <a:r>
              <a:rPr b="1" lang="en-US" sz="1600" spc="-1" strike="noStrike">
                <a:solidFill>
                  <a:srgbClr val="ffcc00"/>
                </a:solidFill>
                <a:latin typeface="VNI-Va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VNI-Vari"/>
              </a:rPr>
              <a:t>C: </a:t>
            </a:r>
            <a:r>
              <a:rPr b="1" lang="en-US" sz="1600" spc="-1" strike="noStrike">
                <a:solidFill>
                  <a:srgbClr val="eb9f15"/>
                </a:solidFill>
                <a:latin typeface="VNI-Vari"/>
              </a:rPr>
              <a:t>vi sôïi collagen ôû giöõa caùc TB sôïi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029200" y="380880"/>
            <a:ext cx="3429000" cy="38124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TEÁ BAØO SÔÏI HOAÏT ÑOÄNG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447920"/>
            <a:ext cx="419076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TEÁ BAØO SÔÏI KHOÂNG HOAÏT ÑOÄNG </a:t>
            </a: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52880" y="1066680"/>
            <a:ext cx="3710160" cy="369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43434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3684600" cy="3962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4572000"/>
            <a:ext cx="3276720" cy="6858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ÑAÏI THÖÏC BAØ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SAU TIEÂM XANH TRYPA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4710240" cy="354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52880" y="2057400"/>
            <a:ext cx="342900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ÑAÏI THÖÏC BAØO DÖÔÙI KHV ÑIEÄN TÖÛ XUYEÂN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219320"/>
            <a:ext cx="8153640" cy="1600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MASTO BAØ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coù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haït tieát dò saéc </a:t>
            </a:r>
            <a:r>
              <a:rPr b="1" lang="en-US" sz="1800" spc="-1" strike="noStrike">
                <a:solidFill>
                  <a:srgbClr val="33cccc"/>
                </a:solidFill>
                <a:latin typeface="VNI-Helve"/>
              </a:rPr>
              <a:t>metachrom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Masto baøo moâ lieân keát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–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Masto baøo nieâm maïc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lieân quan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phaûn öùng quaù maãn töùc thì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,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soác phaûn veä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57200"/>
            <a:ext cx="815364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VNI-Vari"/>
              </a:rPr>
              <a:t>TEÁ BAØO MOÂ LIEÂN KEÁT</a:t>
            </a:r>
            <a:r>
              <a:rPr b="1" lang="en-US" sz="2800" spc="-1" strike="noStrike">
                <a:solidFill>
                  <a:srgbClr val="010199"/>
                </a:solidFill>
                <a:latin typeface="VNI-Mel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335268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038480" y="2895480"/>
            <a:ext cx="4800600" cy="330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920" y="6172200"/>
            <a:ext cx="3352680" cy="6094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Vari"/>
              </a:rPr>
              <a:t>Masto baøo ôû MLK quanh caùc teá baøo cô vaø maïch maùu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6248520"/>
            <a:ext cx="3352680" cy="38088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Vari"/>
              </a:rPr>
              <a:t>masto baøo döôùi KHV ñieän töû </a:t>
            </a:r>
            <a:r>
              <a:rPr b="1" lang="en-US" sz="1600" spc="-1" strike="noStrike">
                <a:solidFill>
                  <a:srgbClr val="ffffff"/>
                </a:solidFill>
                <a:latin typeface="VNI-Vari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121932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TÖÔNG BAØ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nhaân hình tröùng, leäch veà 1 phía, maët ñoàng hoà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tieát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khaùng theå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049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TEÁ BAØO MOÂ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2895480"/>
            <a:ext cx="4496040" cy="299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04920" y="2666880"/>
            <a:ext cx="3709800" cy="3691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523880"/>
            <a:ext cx="8534160" cy="160020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TEÁ BAØO MÔÕ - </a:t>
            </a:r>
            <a:r>
              <a:rPr b="1" lang="en-US" sz="1600" spc="-1" strike="noStrike">
                <a:solidFill>
                  <a:srgbClr val="33cccc"/>
                </a:solidFill>
                <a:latin typeface="VNI-Helve"/>
              </a:rPr>
              <a:t>xem chöông MOÂ MÔ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teá baøo môõ 1 gioït môõ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(moâ môõ vaø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teá baøo môõ nhieàu gioït môõ </a:t>
            </a:r>
            <a:r>
              <a:rPr b="1" lang="en-US" sz="1800" spc="-1" strike="noStrike">
                <a:solidFill>
                  <a:srgbClr val="eb9f15"/>
                </a:solidFill>
                <a:latin typeface="VNI-Helve"/>
              </a:rPr>
              <a:t>(moâ môõ naâu do coù nhieàu mao maïch maùu vaø ti theå) coù nhieàu ôû caùc ñoäng vaät nguû ñoâ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581280"/>
            <a:ext cx="8534160" cy="1295640"/>
          </a:xfrm>
          <a:prstGeom prst="rect">
            <a:avLst/>
          </a:prstGeom>
          <a:solidFill>
            <a:srgbClr val="010199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CAÙC LOAÏI BAÏCH CAÀU – </a:t>
            </a:r>
            <a:r>
              <a:rPr b="1" lang="en-US" sz="1600" spc="-1" strike="noStrike">
                <a:solidFill>
                  <a:srgbClr val="33cccc"/>
                </a:solidFill>
                <a:latin typeface="VNI-Helve"/>
              </a:rPr>
              <a:t>xem chöông TAÏO HUYEÁT, MIEÃN DÒ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caùc loaïi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lymphoâ B, T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NI-Helve"/>
              </a:rPr>
              <a:t>-</a:t>
            </a:r>
            <a:r>
              <a:rPr b="1" lang="en-US" sz="1800" spc="-1" strike="noStrike">
                <a:solidFill>
                  <a:srgbClr val="ffcc00"/>
                </a:solidFill>
                <a:latin typeface="VNI-Helve"/>
              </a:rPr>
              <a:t> caùc loaïi baïch caàu aùi toan, aùi kieàm, trung tính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04920"/>
            <a:ext cx="8534160" cy="520560"/>
          </a:xfrm>
          <a:prstGeom prst="rect">
            <a:avLst/>
          </a:prstGeom>
          <a:solidFill>
            <a:srgbClr val="ffcc00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Vari"/>
              </a:rPr>
              <a:t>TEÁ BAØO MOÂ LIEÂN KEÁT</a:t>
            </a:r>
            <a:r>
              <a:rPr b="1" lang="en-US" sz="2800" spc="-1" strike="noStrike">
                <a:solidFill>
                  <a:srgbClr val="ffffff"/>
                </a:solidFill>
                <a:latin typeface="VNI-Meli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85880" y="923760"/>
            <a:ext cx="7572240" cy="5010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09680" y="6172200"/>
            <a:ext cx="4267440" cy="457200"/>
          </a:xfrm>
          <a:prstGeom prst="rect">
            <a:avLst/>
          </a:prstGeom>
          <a:solidFill>
            <a:srgbClr val="010199"/>
          </a:solidFill>
          <a:ln w="9360">
            <a:solidFill>
              <a:srgbClr val="eb9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NI-Vari"/>
              </a:rPr>
              <a:t>CAÙC LOAÏI BAÏCH CAÀU  </a:t>
            </a:r>
            <a:r>
              <a:rPr b="1" lang="en-US" sz="1800" spc="-1" strike="noStrike">
                <a:solidFill>
                  <a:srgbClr val="ffffff"/>
                </a:solidFill>
                <a:latin typeface="VNI-Va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02:34:19Z</dcterms:created>
  <dc:creator>HUU</dc:creator>
  <dc:description/>
  <dc:language>en-US</dc:language>
  <cp:lastModifiedBy>Tuyet</cp:lastModifiedBy>
  <dcterms:modified xsi:type="dcterms:W3CDTF">2005-11-26T09:34:56Z</dcterms:modified>
  <cp:revision>28</cp:revision>
  <dc:subject/>
  <dc:title>DA</dc:title>
</cp:coreProperties>
</file>