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550-87D1-4C28-8587-AC374547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932-F051-4B69-A877-2BEF7AD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CA3-709E-492F-80B6-B18AE669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650-77A2-422B-8053-14147F31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4C6-1363-44D2-8B4F-5B99E11D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EDF-CDF0-47C2-899A-F52E102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21B-B05E-4F73-B778-69C58ED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BC4-30D2-4F35-BEE8-68E6483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9B4-C2B3-4FF9-8374-94BDEDD7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1C9-2420-4EA8-A461-56D5FD4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029-9CA4-4BE9-A519-48C59AF3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825-612C-4567-A361-0C05D47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B6DC2-E161-4A59-8214-77C501ED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EB793-16AD-42C7-86A8-C7DA8F45C08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46:21Z</dcterms:created>
  <dc:creator>최봉수</dc:creator>
  <dc:description/>
  <dc:language>en-US</dc:language>
  <cp:lastModifiedBy>군만두 맛있다</cp:lastModifiedBy>
  <dcterms:modified xsi:type="dcterms:W3CDTF">2023-07-10T07:34:41Z</dcterms:modified>
  <cp:revision>2</cp:revision>
  <dc:subject/>
  <dc:title>슬라이드 1</dc:title>
</cp:coreProperties>
</file>