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7E3-93C1-4996-BD74-958B35CE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C71-0599-4E2F-9619-94CAFB22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F4D-36E4-42EA-848B-C60CA14E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C5E-8C9F-49B8-9259-0B630138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EC9-0981-4852-8167-60E3FF7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719-2231-4BD0-B130-54C82970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E13-1A3C-443C-9F37-1AA2A09C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7F4-6F4C-4BCB-BBB5-E2AC082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7C3-6600-4B96-893A-7E4B6A5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A8C-9354-4035-8DF5-12003FF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69B-FADF-47A1-8F15-18C43B7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83E-0B26-4AE5-A449-A798A75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83CAF-F676-43E9-ABFA-AD29CDE54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F70C6-06D6-4F2D-A469-0AA1315FB4E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46:21Z</dcterms:created>
  <dc:creator>최봉수</dc:creator>
  <dc:description/>
  <dc:language>en-US</dc:language>
  <cp:lastModifiedBy>군만두 맛있다</cp:lastModifiedBy>
  <dcterms:modified xsi:type="dcterms:W3CDTF">2023-07-10T07:34:41Z</dcterms:modified>
  <cp:revision>2</cp:revision>
  <dc:subject/>
  <dc:title>슬라이드 1</dc:title>
</cp:coreProperties>
</file>