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8.jpeg" ContentType="image/jpeg"/>
  <Override PartName="/ppt/media/image30.gif" ContentType="image/gif"/>
  <Override PartName="/ppt/media/image1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9.gif" ContentType="image/gi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B22-96BD-432F-BF5A-7F2D3A52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6F5-C202-4363-AAF0-F9300683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F76-62FB-468D-9633-B0E20230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CA9-7186-49DF-A549-40FA3566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9BB7-E373-45CF-95ED-ECD167F3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439D-C132-4B90-AC9D-FAAEC192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460-4BA2-4887-8F94-7441A9B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C483-169E-4BB0-873E-E4005B9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490-9196-4633-8462-7494B2F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67C4-332A-4281-820F-320D2007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6C46-15A7-4303-B600-09E83B5A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EA8-7601-4D07-88AE-252776C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18A4-F28E-4B3E-AE44-6995CB9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5AA0-9618-4D8C-9E14-660D249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0385-0E30-4F1F-A6D2-6747768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8EA9-83A9-46E0-BC68-172FFAC6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EFA0-0701-4F65-8EAB-BFF6EACE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322-D7AC-4073-8ADE-ED1F0660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40E-AA4D-41DC-ACBB-0E91AF3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9EF-3BAE-4973-91BF-FA3936D5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14C-B1CD-4A97-A40A-F6F027BA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59E-7E5A-4B3A-8BEB-F0E6C65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F04-CBEA-4EBC-8D6F-7EE5B6A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A41-CC63-48D9-B9FB-642DB93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61EF-E1D1-4228-8A0A-68FAA04DFEE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D4C0-E289-47A7-9DBA-AC97CD3F29F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3791160" cy="5676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852480"/>
            <a:ext cx="7200720" cy="5221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5832360" cy="5010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200720" cy="5029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208160"/>
            <a:ext cx="7201080" cy="391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3500640" cy="5256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1333440"/>
            <a:ext cx="7129440" cy="4054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272360" cy="4805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4762440" cy="3990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624360" cy="4971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305320" cy="575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368600" cy="604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3903840" cy="605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191280" cy="4260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6840360" cy="513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5616720" cy="4564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3301920" cy="537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6984720" cy="5238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8:04:33Z</dcterms:created>
  <dc:creator/>
  <dc:description/>
  <dc:language>en-US</dc:language>
  <cp:lastModifiedBy>Smets</cp:lastModifiedBy>
  <dcterms:modified xsi:type="dcterms:W3CDTF">2009-11-14T07:08:49Z</dcterms:modified>
  <cp:revision>5</cp:revision>
  <dc:subject/>
  <dc:title>Erstaunliches</dc:title>
</cp:coreProperties>
</file>