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9EB7-FE00-417E-A2C2-7B056FDB4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80F-07BF-4ECB-BCC5-7FB4BE52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3895-017F-411D-9709-2F54EDBF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50A2-B45A-4A37-A689-9D3ED1D1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1914-2411-4BF3-8A06-85AE59FF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B143-3DAC-4FA4-81F2-9347B58F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2288-CAE3-481B-B80B-E0DC604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8AF9-AFD5-490E-A01F-B3C21C9E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6330-3576-45F2-AB85-DD47DF7A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EA3-C1D8-4D3B-934B-2659FC9DD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F45-B6A3-4CCC-918A-A40F884B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6AF-59DB-47D2-AEC9-E38E2C7F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BE79-BFEE-45F4-A165-955AC98C01F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01:22:16Z</dcterms:created>
  <dc:creator>All user</dc:creator>
  <dc:description/>
  <dc:language>en-US</dc:language>
  <cp:lastModifiedBy>jseo7@ad.brown.edu</cp:lastModifiedBy>
  <dcterms:modified xsi:type="dcterms:W3CDTF">2021-03-11T05:44:32Z</dcterms:modified>
  <cp:revision>23</cp:revision>
  <dc:subject/>
  <dc:title>슬라이드 1</dc:title>
</cp:coreProperties>
</file>