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74C5-AA6E-430B-923C-DE5241862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B874-AF47-49DE-AD29-B8D267E1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D6AB-F822-4FE6-9DCF-C332D7BF2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A759-7BB8-4888-AFF1-0F511C509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B4FA-07BD-4071-AACE-D3F88AF1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4441-FE4E-4FE8-85B6-B49A6140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710C-651B-4FA2-A432-A922EFEF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976D-43AD-40E4-8392-25CF57AA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0827-97A1-4AAF-96BD-3960091D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B944-4189-42F9-9ACB-C77A4D77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8CAB-6BE7-4CDF-A27E-D3010984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4BEE-F5B6-4547-9A0A-CEB4F5B8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1E8B-28E8-4F6F-9D2D-E282A21585D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jseo7@ad.brown.edu</cp:lastModifiedBy>
  <dcterms:modified xsi:type="dcterms:W3CDTF">2021-03-11T05:44:32Z</dcterms:modified>
  <cp:revision>23</cp:revision>
  <dc:subject/>
  <dc:title>슬라이드 1</dc:title>
</cp:coreProperties>
</file>