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3A2-7522-49B4-9568-DB117940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AE6-0C72-4673-A7E6-486CB40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D73-3C88-4C5B-BCAB-21850A65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496-4B9D-4EC7-A049-08A55AF7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BE1-47A0-4190-B853-75D5495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7B0-2D14-4250-B78A-27AA5B51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2C2-F69F-4B87-9313-1E7C91A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836-ECA2-43AB-BF83-92C5A9AF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F53-FFD0-4D0B-BA45-0E541CF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70C-9889-4B88-A5B2-D5C6B5C0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A57-9535-4794-A172-240020A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2F5-6520-47A3-9AB3-3AA3681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7BC09-D152-4389-A196-771E5CE1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373D0-9F39-4C4B-A522-1A30ED1BA96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7:17:00Z</dcterms:created>
  <dc:creator>최봉수</dc:creator>
  <dc:description/>
  <dc:language>en-US</dc:language>
  <cp:lastModifiedBy>군만두 맛있다</cp:lastModifiedBy>
  <dcterms:modified xsi:type="dcterms:W3CDTF">2023-07-12T04:01:55Z</dcterms:modified>
  <cp:revision>3</cp:revision>
  <dc:subject/>
  <dc:title>슬라이드 1</dc:title>
</cp:coreProperties>
</file>