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A26A-CC16-441D-89FD-8966AF567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FE3F-1681-4F74-BCB1-210766ADA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7091-3BB3-4715-90C7-F3949535D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B378-A112-41A2-87E5-D0705986E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A6DF-F541-432E-BE15-614D02CC4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F3BA-748F-4107-9B17-664403053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BB1B-52C5-41C0-89D1-BC6239665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581C-259D-4276-B881-CF35E4E7C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CD34-6A1E-4192-B009-8C8C02F5A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ABA0-2EFD-47F2-BEDD-144E0AB4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B8ED-D640-4EBC-8554-82DF36CA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7F99-B172-4E00-9FB5-D0EC3F27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F207C3-2B3D-4C8D-9858-55F3B35D28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1CCBF5-E959-4F2B-B4B3-D9BA002FD0BF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5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7:17:00Z</dcterms:created>
  <dc:creator>최봉수</dc:creator>
  <dc:description/>
  <dc:language>en-US</dc:language>
  <cp:lastModifiedBy>군만두 맛있다</cp:lastModifiedBy>
  <dcterms:modified xsi:type="dcterms:W3CDTF">2023-07-12T04:01:55Z</dcterms:modified>
  <cp:revision>3</cp:revision>
  <dc:subject/>
  <dc:title>슬라이드 1</dc:title>
</cp:coreProperties>
</file>