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F92C-00A3-4216-8D62-68D1F23D2F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EAB9-9E28-404D-B47D-8099128E47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6BC4-0803-444E-883B-FE0EBD0B0C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0960" y="353808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08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9200" y="99072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096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08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9200" y="3538080"/>
            <a:ext cx="280836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960" y="228600"/>
            <a:ext cx="8722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353808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09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990720"/>
            <a:ext cx="42562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0960" y="3538080"/>
            <a:ext cx="8722080" cy="2325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960" y="990720"/>
            <a:ext cx="8722080" cy="4876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>
              <a:spcBef>
                <a:spcPts val="774"/>
              </a:spcBef>
              <a:buClr>
                <a:srgbClr val="000000"/>
              </a:buClr>
              <a:buSzPct val="90000"/>
              <a:buFont typeface="Wingdings" charset="2"/>
              <a:buChar char="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81080" indent="-181080"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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81080" indent="-181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ÔLE TEST &amp; ME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0320" y="6019920"/>
            <a:ext cx="465264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DP_F  Formation LAN  - </a:t>
            </a:r>
            <a:fld id="{3CEBF597-7B66-490B-8358-920CEC0DEB71}" type="slidenum">
              <a:rPr b="1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l et confidentiel pour usage strictement in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762120"/>
            <a:ext cx="8861760" cy="7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CA_Q" descr=""/>
          <p:cNvPicPr/>
          <p:nvPr/>
        </p:nvPicPr>
        <p:blipFill>
          <a:blip r:embed="rId2"/>
          <a:stretch/>
        </p:blipFill>
        <p:spPr>
          <a:xfrm>
            <a:off x="7516800" y="6019920"/>
            <a:ext cx="147492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874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eaux Informatiques et Téléco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6480" y="139068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700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EXE TECHNIQ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901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1001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SEAUX CÂB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07600" y="4639320"/>
            <a:ext cx="46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Jean-Yves FAB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Chef de produit Hyperfréqu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095560" y="23612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Fibre Multi-mo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62,5/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79920" y="3822840"/>
            <a:ext cx="4419360" cy="914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9920" y="4017960"/>
            <a:ext cx="441936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69880" y="3822840"/>
            <a:ext cx="990720" cy="9144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6800" y="4005360"/>
            <a:ext cx="585720" cy="547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97080" y="4206960"/>
            <a:ext cx="1440" cy="23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657520" y="3897360"/>
            <a:ext cx="1440" cy="842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7680" y="4124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5760" y="4097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2,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0200" y="5005440"/>
            <a:ext cx="564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ueur d ’onde : 850nm ou 130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lications : Réseaux locaux -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710160" y="4033800"/>
            <a:ext cx="91584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19640" y="4021200"/>
            <a:ext cx="91620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939000" y="4021200"/>
            <a:ext cx="915840" cy="519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7160" y="4022640"/>
            <a:ext cx="595080" cy="517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34040" y="4022640"/>
            <a:ext cx="817560" cy="542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53400" y="4035600"/>
            <a:ext cx="384120" cy="20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2600" y="151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ibre Optique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33720" y="236124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 des câbles en fonction de la Caté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4114800"/>
            <a:ext cx="7721640" cy="457200"/>
          </a:xfrm>
          <a:custGeom>
            <a:avLst/>
            <a:gdLst>
              <a:gd name="textAreaLeft" fmla="*/ 0 w 7721640"/>
              <a:gd name="textAreaRight" fmla="*/ 7722000 w 7721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3" y="0"/>
                </a:lnTo>
                <a:lnTo>
                  <a:pt x="21600" y="10800"/>
                </a:lnTo>
                <a:lnTo>
                  <a:pt x="20823" y="21600"/>
                </a:lnTo>
                <a:lnTo>
                  <a:pt x="0" y="21600"/>
                </a:lnTo>
                <a:lnTo>
                  <a:pt x="777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00a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72560" y="379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62880" y="3848040"/>
            <a:ext cx="0" cy="71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1632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65800" y="3353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5/5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216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18600" y="335340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53920" y="411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26200" y="4113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TP-STP-S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23160" y="412488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4704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59920" y="4704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1440" y="47041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05640" y="47041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760" y="5426640"/>
            <a:ext cx="85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**Les normes Cat 6 et 7 sont à l ’état de projet --&gt; F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0960" y="28440"/>
            <a:ext cx="8722080" cy="1292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9200" y="69480"/>
            <a:ext cx="8077320" cy="738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rmes de câblages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88920" y="1254240"/>
            <a:ext cx="1516320" cy="1812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14640" y="1260360"/>
            <a:ext cx="1866960" cy="1870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638760" y="1158840"/>
            <a:ext cx="1778040" cy="2040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84960" y="3167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N 501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1560" y="3168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M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ISO 118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14880" y="3168720"/>
            <a:ext cx="19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EIA/TIA 5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0960" y="4015080"/>
            <a:ext cx="5644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C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6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D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5/5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lasse 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00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0000" y="483516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* EN 50173 = ISO 118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6360" y="156960"/>
            <a:ext cx="8076960" cy="561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rmes d’application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466920" y="2670480"/>
            <a:ext cx="75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2,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5,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Base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6 MHz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Base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000BaseT (GigaEthernet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6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528960" y="1747800"/>
            <a:ext cx="1800" cy="350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1840" y="2696040"/>
            <a:ext cx="2523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ken-Ring 4M, 16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TM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49360" y="2143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13240" y="1735200"/>
            <a:ext cx="7920" cy="35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6760" y="192240"/>
            <a:ext cx="8077320" cy="527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1536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89240" y="1295640"/>
            <a:ext cx="615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câb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sistance de bou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ngueur et Temps de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turn-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tén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EXT et PS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LFEXT et PSELF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CR et PSA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1440" y="52200"/>
            <a:ext cx="8076960" cy="11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24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âb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31200" y="257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utp" descr=""/>
          <p:cNvPicPr/>
          <p:nvPr/>
        </p:nvPicPr>
        <p:blipFill>
          <a:blip r:embed="rId1"/>
          <a:stretch/>
        </p:blipFill>
        <p:spPr>
          <a:xfrm>
            <a:off x="1906560" y="180828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188360" y="181116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97360" y="189684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3760" y="5694480"/>
            <a:ext cx="505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00240" y="5439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91600" y="5389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86840" y="146880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 selon EIA568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47120" y="227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utp" descr=""/>
          <p:cNvPicPr/>
          <p:nvPr/>
        </p:nvPicPr>
        <p:blipFill>
          <a:blip r:embed="rId1"/>
          <a:stretch/>
        </p:blipFill>
        <p:spPr>
          <a:xfrm>
            <a:off x="2022480" y="151128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51960" y="152676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43640" y="162396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56600" y="257652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56600" y="3516480"/>
            <a:ext cx="161640" cy="49500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32840" y="444348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0880" y="518040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eur max : 40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ISO1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2200" y="-44640"/>
            <a:ext cx="8076960" cy="1353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istance de bou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51536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utp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211880" y="246204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24840" y="341460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24840" y="435456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01080" y="5281560"/>
            <a:ext cx="16164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8" y="0"/>
                </a:moveTo>
                <a:cubicBezTo>
                  <a:pt x="55" y="40"/>
                  <a:pt x="102" y="80"/>
                  <a:pt x="101" y="132"/>
                </a:cubicBezTo>
                <a:cubicBezTo>
                  <a:pt x="100" y="184"/>
                  <a:pt x="9" y="259"/>
                  <a:pt x="0" y="3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12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ésistance de bouc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6520" y="2878920"/>
            <a:ext cx="6303960" cy="32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uvais contacts au niveau des conn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0" y="244620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9880" y="2305080"/>
            <a:ext cx="600120" cy="63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47040" y="214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utp" descr=""/>
          <p:cNvPicPr/>
          <p:nvPr/>
        </p:nvPicPr>
        <p:blipFill>
          <a:blip r:embed="rId1"/>
          <a:stretch/>
        </p:blipFill>
        <p:spPr>
          <a:xfrm>
            <a:off x="1870200" y="174960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451880" y="1395000"/>
            <a:ext cx="32688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3200" y="543600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eur max : 100m  (ISO11801 Cat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5120" y="87120"/>
            <a:ext cx="8077320" cy="11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ongueur et Temps de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20920" y="2109960"/>
            <a:ext cx="462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19360" y="3036960"/>
            <a:ext cx="2300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579760" y="2815920"/>
            <a:ext cx="12204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03600" y="279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90640" y="3051000"/>
            <a:ext cx="64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370240" y="3063960"/>
            <a:ext cx="20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41960" y="2815920"/>
            <a:ext cx="122400" cy="25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65800" y="2790720"/>
            <a:ext cx="0" cy="26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53200" y="3051000"/>
            <a:ext cx="64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932440" y="3063960"/>
            <a:ext cx="20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61560" y="2808720"/>
            <a:ext cx="29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112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ongueur et délai de propag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6520" y="3036600"/>
            <a:ext cx="6303960" cy="29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09800" y="24462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2320" y="2156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nexe Techniq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200" y="2000160"/>
            <a:ext cx="8794800" cy="314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Architecture des réseaux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Connectiqu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Câbl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Norm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amètres de tests / Origines des non conformité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675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39080" y="110412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7538760" y="4579920"/>
            <a:ext cx="160200" cy="679320"/>
            <a:chOff x="7538760" y="4579920"/>
            <a:chExt cx="160200" cy="679320"/>
          </a:xfrm>
        </p:grpSpPr>
        <p:sp>
          <p:nvSpPr>
            <p:cNvPr id="283" name=""/>
            <p:cNvSpPr/>
            <p:nvPr/>
          </p:nvSpPr>
          <p:spPr>
            <a:xfrm>
              <a:off x="7637400" y="45799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38760" y="46908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39120" y="47653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64320" y="48639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64320" y="49878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626240" y="50860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6240" y="51638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38760" y="3652920"/>
            <a:ext cx="160200" cy="679320"/>
            <a:chOff x="7538760" y="3652920"/>
            <a:chExt cx="160200" cy="679320"/>
          </a:xfrm>
        </p:grpSpPr>
        <p:sp>
          <p:nvSpPr>
            <p:cNvPr id="291" name=""/>
            <p:cNvSpPr/>
            <p:nvPr/>
          </p:nvSpPr>
          <p:spPr>
            <a:xfrm>
              <a:off x="7637400" y="36529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38760" y="37638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39120" y="38383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564320" y="39369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4320" y="40608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26240" y="41590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6240" y="42368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984320" y="4344840"/>
            <a:ext cx="160200" cy="679320"/>
            <a:chOff x="1984320" y="4344840"/>
            <a:chExt cx="160200" cy="679320"/>
          </a:xfrm>
        </p:grpSpPr>
        <p:sp>
          <p:nvSpPr>
            <p:cNvPr id="299" name=""/>
            <p:cNvSpPr/>
            <p:nvPr/>
          </p:nvSpPr>
          <p:spPr>
            <a:xfrm>
              <a:off x="2082960" y="43448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984320" y="445572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4320" y="453024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009520" y="462888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09880" y="475272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071440" y="485100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1800" y="49287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6" name="utp" descr=""/>
          <p:cNvPicPr/>
          <p:nvPr/>
        </p:nvPicPr>
        <p:blipFill>
          <a:blip r:embed="rId1"/>
          <a:stretch/>
        </p:blipFill>
        <p:spPr>
          <a:xfrm>
            <a:off x="2181240" y="165888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421160" y="532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676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EXT et PS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05000" y="175896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490760" y="158580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7800" y="1573200"/>
            <a:ext cx="44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24200" y="156060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24200" y="168408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77800" y="214308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90760" y="2316240"/>
            <a:ext cx="44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935000" y="213048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24200" y="2117880"/>
            <a:ext cx="30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66480" y="2433240"/>
            <a:ext cx="925560" cy="757800"/>
            <a:chOff x="1266480" y="2433240"/>
            <a:chExt cx="925560" cy="757800"/>
          </a:xfrm>
        </p:grpSpPr>
        <p:sp>
          <p:nvSpPr>
            <p:cNvPr id="319" name=""/>
            <p:cNvSpPr/>
            <p:nvPr/>
          </p:nvSpPr>
          <p:spPr>
            <a:xfrm flipH="1" rot="10800000">
              <a:off x="1266480" y="2607840"/>
              <a:ext cx="395280" cy="38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50800" y="3003480"/>
              <a:ext cx="0" cy="1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0000" y="317808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883880" y="3054240"/>
              <a:ext cx="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3880" y="3054240"/>
              <a:ext cx="2224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437840" y="2433240"/>
              <a:ext cx="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50800" y="243540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95040" y="243360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3880" y="263376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1361880" y="2649600"/>
              <a:ext cx="1983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851200" y="2139840"/>
            <a:ext cx="236520" cy="49716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9960" y="5145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060560" y="3963960"/>
                <a:ext cx="72738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7626240" y="1709640"/>
            <a:ext cx="160200" cy="679320"/>
            <a:chOff x="7626240" y="1709640"/>
            <a:chExt cx="160200" cy="679320"/>
          </a:xfrm>
        </p:grpSpPr>
        <p:sp>
          <p:nvSpPr>
            <p:cNvPr id="333" name=""/>
            <p:cNvSpPr/>
            <p:nvPr/>
          </p:nvSpPr>
          <p:spPr>
            <a:xfrm>
              <a:off x="7724880" y="17096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6240" y="182052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6240" y="189504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51440" y="199368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51800" y="211752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713360" y="221580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13720" y="22935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613280" y="2674800"/>
            <a:ext cx="160200" cy="679320"/>
            <a:chOff x="7613280" y="2674800"/>
            <a:chExt cx="160200" cy="679320"/>
          </a:xfrm>
        </p:grpSpPr>
        <p:sp>
          <p:nvSpPr>
            <p:cNvPr id="341" name=""/>
            <p:cNvSpPr/>
            <p:nvPr/>
          </p:nvSpPr>
          <p:spPr>
            <a:xfrm>
              <a:off x="7711920" y="26748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613280" y="27856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13640" y="28602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638840" y="29588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38840" y="30826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700760" y="31809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00760" y="32587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7840" y="69480"/>
            <a:ext cx="8077320" cy="121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EXT et PS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49560" y="2843280"/>
            <a:ext cx="23652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51120" y="4032000"/>
            <a:ext cx="56214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s des RJ45 ou d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11200" y="2116080"/>
            <a:ext cx="1516320" cy="1905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33880" y="33750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9760" y="245736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712520" y="4416480"/>
            <a:ext cx="160200" cy="679320"/>
            <a:chOff x="1712520" y="4416480"/>
            <a:chExt cx="160200" cy="679320"/>
          </a:xfrm>
        </p:grpSpPr>
        <p:sp>
          <p:nvSpPr>
            <p:cNvPr id="357" name=""/>
            <p:cNvSpPr/>
            <p:nvPr/>
          </p:nvSpPr>
          <p:spPr>
            <a:xfrm>
              <a:off x="1811160" y="44164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712520" y="45273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2880" y="46018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738080" y="47005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8080" y="48243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800000" y="49226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0000" y="50004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625400" y="3662280"/>
            <a:ext cx="160200" cy="679320"/>
            <a:chOff x="1625400" y="3662280"/>
            <a:chExt cx="160200" cy="679320"/>
          </a:xfrm>
        </p:grpSpPr>
        <p:sp>
          <p:nvSpPr>
            <p:cNvPr id="365" name=""/>
            <p:cNvSpPr/>
            <p:nvPr/>
          </p:nvSpPr>
          <p:spPr>
            <a:xfrm>
              <a:off x="1724040" y="36622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1625400" y="37731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25760" y="38476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1650960" y="39463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0960" y="40701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12880" y="41684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12880" y="42462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242120" y="3784680"/>
            <a:ext cx="160200" cy="679320"/>
            <a:chOff x="7242120" y="3784680"/>
            <a:chExt cx="160200" cy="679320"/>
          </a:xfrm>
        </p:grpSpPr>
        <p:sp>
          <p:nvSpPr>
            <p:cNvPr id="373" name=""/>
            <p:cNvSpPr/>
            <p:nvPr/>
          </p:nvSpPr>
          <p:spPr>
            <a:xfrm>
              <a:off x="7340760" y="37846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242120" y="38955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42120" y="39700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267320" y="40687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67680" y="41925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29240" y="42908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9600" y="43686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utp" descr=""/>
          <p:cNvPicPr/>
          <p:nvPr/>
        </p:nvPicPr>
        <p:blipFill>
          <a:blip r:embed="rId1"/>
          <a:stretch/>
        </p:blipFill>
        <p:spPr>
          <a:xfrm>
            <a:off x="1859040" y="1792440"/>
            <a:ext cx="5367240" cy="3446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098960" y="546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FEXT et PSELF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82800" y="1892160"/>
            <a:ext cx="395280" cy="384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168560" y="1719000"/>
            <a:ext cx="0" cy="16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55600" y="170640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1640" y="169380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601640" y="1817280"/>
            <a:ext cx="222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55600" y="2276640"/>
            <a:ext cx="0" cy="17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68560" y="2449440"/>
            <a:ext cx="44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12800" y="226368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1640" y="2251080"/>
            <a:ext cx="30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265880" y="2679120"/>
            <a:ext cx="925560" cy="757080"/>
            <a:chOff x="7265880" y="2679120"/>
            <a:chExt cx="925560" cy="757080"/>
          </a:xfrm>
        </p:grpSpPr>
        <p:sp>
          <p:nvSpPr>
            <p:cNvPr id="393" name=""/>
            <p:cNvSpPr/>
            <p:nvPr/>
          </p:nvSpPr>
          <p:spPr>
            <a:xfrm rot="10800000">
              <a:off x="7796160" y="2854080"/>
              <a:ext cx="395280" cy="38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07120" y="3248640"/>
              <a:ext cx="0" cy="16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571880" y="342396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574040" y="329976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51560" y="3299400"/>
              <a:ext cx="2224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8020080" y="2679840"/>
              <a:ext cx="0" cy="17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562880" y="268128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62880" y="2679120"/>
              <a:ext cx="0" cy="1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265880" y="287964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897680" y="2895120"/>
              <a:ext cx="198360" cy="27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529000" y="2273400"/>
            <a:ext cx="313056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360" y="5240520"/>
            <a:ext cx="85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95360" y="4062240"/>
                <a:ext cx="8163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FEX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7304040" y="1843200"/>
            <a:ext cx="160200" cy="679320"/>
            <a:chOff x="7304040" y="1843200"/>
            <a:chExt cx="160200" cy="679320"/>
          </a:xfrm>
        </p:grpSpPr>
        <p:sp>
          <p:nvSpPr>
            <p:cNvPr id="407" name=""/>
            <p:cNvSpPr/>
            <p:nvPr/>
          </p:nvSpPr>
          <p:spPr>
            <a:xfrm>
              <a:off x="7402680" y="18432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304040" y="195408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04040" y="202860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29240" y="212724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29600" y="225108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391160" y="234936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1520" y="24271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242120" y="4726080"/>
            <a:ext cx="160200" cy="679320"/>
            <a:chOff x="7242120" y="4726080"/>
            <a:chExt cx="160200" cy="679320"/>
          </a:xfrm>
        </p:grpSpPr>
        <p:sp>
          <p:nvSpPr>
            <p:cNvPr id="415" name=""/>
            <p:cNvSpPr/>
            <p:nvPr/>
          </p:nvSpPr>
          <p:spPr>
            <a:xfrm>
              <a:off x="7340760" y="47260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242120" y="48369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42120" y="49114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267320" y="50101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67680" y="51339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329240" y="52322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29600" y="53100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614240" y="2697120"/>
            <a:ext cx="160200" cy="679320"/>
            <a:chOff x="1614240" y="2697120"/>
            <a:chExt cx="160200" cy="679320"/>
          </a:xfrm>
        </p:grpSpPr>
        <p:sp>
          <p:nvSpPr>
            <p:cNvPr id="423" name=""/>
            <p:cNvSpPr/>
            <p:nvPr/>
          </p:nvSpPr>
          <p:spPr>
            <a:xfrm>
              <a:off x="1712880" y="26971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614240" y="28080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14600" y="28825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639800" y="29811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9800" y="31050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01720" y="32032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01720" y="32810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13064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LFEXT et PSELF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60680" y="2830680"/>
            <a:ext cx="3130560" cy="496800"/>
          </a:xfrm>
          <a:custGeom>
            <a:avLst/>
            <a:gdLst/>
            <a:ahLst/>
            <a:rect l="l" t="t" r="r" b="b"/>
            <a:pathLst>
              <a:path w="1972" h="313">
                <a:moveTo>
                  <a:pt x="0" y="25"/>
                </a:moveTo>
                <a:cubicBezTo>
                  <a:pt x="299" y="12"/>
                  <a:pt x="598" y="0"/>
                  <a:pt x="927" y="48"/>
                </a:cubicBezTo>
                <a:cubicBezTo>
                  <a:pt x="1256" y="96"/>
                  <a:pt x="1777" y="270"/>
                  <a:pt x="1972" y="3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51120" y="4032000"/>
            <a:ext cx="56214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ages des RJ45 ou d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69880" y="2104920"/>
            <a:ext cx="1128960" cy="2035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9040" y="2116080"/>
            <a:ext cx="1128600" cy="203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33880" y="33750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51080" y="2421000"/>
            <a:ext cx="43524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644480" y="3602160"/>
            <a:ext cx="160200" cy="679320"/>
            <a:chOff x="1644480" y="3602160"/>
            <a:chExt cx="160200" cy="679320"/>
          </a:xfrm>
        </p:grpSpPr>
        <p:sp>
          <p:nvSpPr>
            <p:cNvPr id="441" name=""/>
            <p:cNvSpPr/>
            <p:nvPr/>
          </p:nvSpPr>
          <p:spPr>
            <a:xfrm>
              <a:off x="1743120" y="36021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644480" y="371304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4480" y="378756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1669680" y="388620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70040" y="401004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731600" y="410832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31960" y="41860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655640" y="4516560"/>
            <a:ext cx="160200" cy="679320"/>
            <a:chOff x="1655640" y="4516560"/>
            <a:chExt cx="160200" cy="679320"/>
          </a:xfrm>
        </p:grpSpPr>
        <p:sp>
          <p:nvSpPr>
            <p:cNvPr id="449" name=""/>
            <p:cNvSpPr/>
            <p:nvPr/>
          </p:nvSpPr>
          <p:spPr>
            <a:xfrm>
              <a:off x="1754280" y="45165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655640" y="462744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55640" y="470196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680840" y="480060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81200" y="492444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742760" y="502272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43120" y="51004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148160" y="4703760"/>
            <a:ext cx="160200" cy="679320"/>
            <a:chOff x="7148160" y="4703760"/>
            <a:chExt cx="160200" cy="679320"/>
          </a:xfrm>
        </p:grpSpPr>
        <p:sp>
          <p:nvSpPr>
            <p:cNvPr id="457" name=""/>
            <p:cNvSpPr/>
            <p:nvPr/>
          </p:nvSpPr>
          <p:spPr>
            <a:xfrm>
              <a:off x="7246800" y="47037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148160" y="481464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48520" y="488916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173720" y="498780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73720" y="511164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235640" y="520992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5640" y="52876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186320" y="3726000"/>
            <a:ext cx="160200" cy="679320"/>
            <a:chOff x="7186320" y="3726000"/>
            <a:chExt cx="160200" cy="679320"/>
          </a:xfrm>
        </p:grpSpPr>
        <p:sp>
          <p:nvSpPr>
            <p:cNvPr id="465" name=""/>
            <p:cNvSpPr/>
            <p:nvPr/>
          </p:nvSpPr>
          <p:spPr>
            <a:xfrm>
              <a:off x="7284960" y="3726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186320" y="38368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86680" y="39114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211880" y="40100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11880" y="41338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273800" y="42321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73800" y="4309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utp" descr=""/>
          <p:cNvPicPr/>
          <p:nvPr/>
        </p:nvPicPr>
        <p:blipFill>
          <a:blip r:embed="rId1"/>
          <a:stretch/>
        </p:blipFill>
        <p:spPr>
          <a:xfrm>
            <a:off x="1827360" y="17445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067280" y="541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72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ttén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50760" y="184464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136520" y="167148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23920" y="165888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69960" y="164628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69960" y="1769760"/>
            <a:ext cx="222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3920" y="222876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36520" y="24019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581120" y="221616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69960" y="2203560"/>
            <a:ext cx="30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7221600" y="1677600"/>
            <a:ext cx="925560" cy="757800"/>
            <a:chOff x="7221600" y="1677600"/>
            <a:chExt cx="925560" cy="757800"/>
          </a:xfrm>
        </p:grpSpPr>
        <p:sp>
          <p:nvSpPr>
            <p:cNvPr id="485" name=""/>
            <p:cNvSpPr/>
            <p:nvPr/>
          </p:nvSpPr>
          <p:spPr>
            <a:xfrm rot="10800000">
              <a:off x="7751880" y="1852200"/>
              <a:ext cx="395280" cy="38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62840" y="2247840"/>
              <a:ext cx="0" cy="16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527600" y="2422440"/>
              <a:ext cx="44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29760" y="2298600"/>
              <a:ext cx="0" cy="13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07280" y="2298600"/>
              <a:ext cx="2224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975800" y="1677600"/>
              <a:ext cx="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518600" y="1679760"/>
              <a:ext cx="44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18600" y="167796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221600" y="1878120"/>
              <a:ext cx="30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853400" y="1893960"/>
              <a:ext cx="1983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51000" y="5193000"/>
            <a:ext cx="84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387440" y="3998880"/>
                <a:ext cx="617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suré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jecté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 pai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2398680" y="2252520"/>
            <a:ext cx="4489560" cy="198720"/>
          </a:xfrm>
          <a:custGeom>
            <a:avLst/>
            <a:gdLst>
              <a:gd name="textAreaLeft" fmla="*/ 0 w 4489560"/>
              <a:gd name="textAreaRight" fmla="*/ 4489920 w 44895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8" y="0"/>
                </a:lnTo>
                <a:lnTo>
                  <a:pt x="21600" y="10800"/>
                </a:lnTo>
                <a:lnTo>
                  <a:pt x="202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68240" y="2611440"/>
            <a:ext cx="160200" cy="679320"/>
            <a:chOff x="1668240" y="2611440"/>
            <a:chExt cx="160200" cy="679320"/>
          </a:xfrm>
        </p:grpSpPr>
        <p:sp>
          <p:nvSpPr>
            <p:cNvPr id="499" name=""/>
            <p:cNvSpPr/>
            <p:nvPr/>
          </p:nvSpPr>
          <p:spPr>
            <a:xfrm>
              <a:off x="1766880" y="26114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668240" y="272232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68600" y="279684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693800" y="289548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93800" y="301932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755720" y="311760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5720" y="31953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223040" y="2747880"/>
            <a:ext cx="160200" cy="679320"/>
            <a:chOff x="7223040" y="2747880"/>
            <a:chExt cx="160200" cy="679320"/>
          </a:xfrm>
        </p:grpSpPr>
        <p:sp>
          <p:nvSpPr>
            <p:cNvPr id="507" name=""/>
            <p:cNvSpPr/>
            <p:nvPr/>
          </p:nvSpPr>
          <p:spPr>
            <a:xfrm>
              <a:off x="7321680" y="27478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223040" y="28587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23040" y="29332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248240" y="30319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48600" y="31557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310160" y="32540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0520" y="33318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90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ttén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62040" y="2857680"/>
            <a:ext cx="4489560" cy="198360"/>
          </a:xfrm>
          <a:custGeom>
            <a:avLst/>
            <a:gdLst>
              <a:gd name="textAreaLeft" fmla="*/ 0 w 4489560"/>
              <a:gd name="textAreaRight" fmla="*/ 4489920 w 4489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48" y="0"/>
                </a:lnTo>
                <a:lnTo>
                  <a:pt x="21600" y="10800"/>
                </a:lnTo>
                <a:lnTo>
                  <a:pt x="2024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51120" y="3157200"/>
            <a:ext cx="5621400" cy="29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es conn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16360" y="242244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33680" y="2246400"/>
            <a:ext cx="776160" cy="78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13064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3,5,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CR et PSAC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53880" y="4300560"/>
            <a:ext cx="84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14320" y="2735280"/>
                <a:ext cx="7707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X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rimé en dB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ur chaque combinaison de pair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4361040" y="36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utp" descr=""/>
          <p:cNvPicPr/>
          <p:nvPr/>
        </p:nvPicPr>
        <p:blipFill>
          <a:blip r:embed="rId1"/>
          <a:stretch/>
        </p:blipFill>
        <p:spPr>
          <a:xfrm>
            <a:off x="2089080" y="169380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3290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107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2840" y="1793880"/>
            <a:ext cx="395280" cy="384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398600" y="1620720"/>
            <a:ext cx="0" cy="16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86000" y="1608120"/>
            <a:ext cx="44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32040" y="1595520"/>
            <a:ext cx="0" cy="13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832040" y="171900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86000" y="2178000"/>
            <a:ext cx="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98600" y="235116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843200" y="2165400"/>
            <a:ext cx="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32040" y="2152800"/>
            <a:ext cx="30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280" y="5142240"/>
            <a:ext cx="83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4 Balayages en fréquence de 1 à 16,  100,  250 ou 7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22680" y="1695600"/>
            <a:ext cx="3170160" cy="544320"/>
          </a:xfrm>
          <a:custGeom>
            <a:avLst/>
            <a:gdLst/>
            <a:ahLst/>
            <a:rect l="l" t="t" r="r" b="b"/>
            <a:pathLst>
              <a:path w="1997" h="343">
                <a:moveTo>
                  <a:pt x="0" y="0"/>
                </a:moveTo>
                <a:cubicBezTo>
                  <a:pt x="996" y="53"/>
                  <a:pt x="1993" y="106"/>
                  <a:pt x="1995" y="163"/>
                </a:cubicBezTo>
                <a:cubicBezTo>
                  <a:pt x="1997" y="220"/>
                  <a:pt x="354" y="303"/>
                  <a:pt x="15" y="3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82240" y="309924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turn loss = Mesure de la réfl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7534080" y="1744560"/>
            <a:ext cx="160200" cy="679320"/>
            <a:chOff x="7534080" y="1744560"/>
            <a:chExt cx="160200" cy="679320"/>
          </a:xfrm>
        </p:grpSpPr>
        <p:sp>
          <p:nvSpPr>
            <p:cNvPr id="542" name=""/>
            <p:cNvSpPr/>
            <p:nvPr/>
          </p:nvSpPr>
          <p:spPr>
            <a:xfrm>
              <a:off x="7632720" y="174456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534080" y="185544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34440" y="192996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559640" y="202860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559640" y="215244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621560" y="225072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21560" y="232848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522920" y="2709720"/>
            <a:ext cx="160200" cy="679320"/>
            <a:chOff x="7522920" y="2709720"/>
            <a:chExt cx="160200" cy="679320"/>
          </a:xfrm>
        </p:grpSpPr>
        <p:sp>
          <p:nvSpPr>
            <p:cNvPr id="550" name=""/>
            <p:cNvSpPr/>
            <p:nvPr/>
          </p:nvSpPr>
          <p:spPr>
            <a:xfrm>
              <a:off x="7621560" y="270972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522920" y="282060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23280" y="289512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548480" y="299376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548480" y="311760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610400" y="321588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10400" y="329364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522920" y="3637080"/>
            <a:ext cx="160200" cy="679320"/>
            <a:chOff x="7522920" y="3637080"/>
            <a:chExt cx="160200" cy="679320"/>
          </a:xfrm>
        </p:grpSpPr>
        <p:sp>
          <p:nvSpPr>
            <p:cNvPr id="558" name=""/>
            <p:cNvSpPr/>
            <p:nvPr/>
          </p:nvSpPr>
          <p:spPr>
            <a:xfrm>
              <a:off x="7621560" y="36370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522920" y="374796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23280" y="382248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548480" y="392112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48480" y="404496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610400" y="414324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10400" y="42210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7499160" y="4589640"/>
            <a:ext cx="160200" cy="679320"/>
            <a:chOff x="7499160" y="4589640"/>
            <a:chExt cx="160200" cy="679320"/>
          </a:xfrm>
        </p:grpSpPr>
        <p:sp>
          <p:nvSpPr>
            <p:cNvPr id="566" name=""/>
            <p:cNvSpPr/>
            <p:nvPr/>
          </p:nvSpPr>
          <p:spPr>
            <a:xfrm>
              <a:off x="7597800" y="458964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499160" y="470052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499520" y="477504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524720" y="487368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24720" y="499752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586640" y="509580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86640" y="517356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795320" y="2610000"/>
            <a:ext cx="160200" cy="679320"/>
            <a:chOff x="1795320" y="2610000"/>
            <a:chExt cx="160200" cy="679320"/>
          </a:xfrm>
        </p:grpSpPr>
        <p:sp>
          <p:nvSpPr>
            <p:cNvPr id="574" name=""/>
            <p:cNvSpPr/>
            <p:nvPr/>
          </p:nvSpPr>
          <p:spPr>
            <a:xfrm>
              <a:off x="1893960" y="2610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1795320" y="272088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279540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820520" y="289404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20880" y="301788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882440" y="311616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82800" y="3193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782720" y="3487680"/>
            <a:ext cx="160200" cy="679320"/>
            <a:chOff x="1782720" y="3487680"/>
            <a:chExt cx="160200" cy="679320"/>
          </a:xfrm>
        </p:grpSpPr>
        <p:sp>
          <p:nvSpPr>
            <p:cNvPr id="582" name=""/>
            <p:cNvSpPr/>
            <p:nvPr/>
          </p:nvSpPr>
          <p:spPr>
            <a:xfrm>
              <a:off x="1881360" y="348768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782720" y="3598560"/>
              <a:ext cx="9864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82720" y="3673080"/>
              <a:ext cx="13680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807920" y="3771720"/>
              <a:ext cx="13500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8280" y="3895560"/>
              <a:ext cx="11124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869840" y="3993840"/>
              <a:ext cx="601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70200" y="407160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769760" y="4464000"/>
            <a:ext cx="160200" cy="679320"/>
            <a:chOff x="1769760" y="4464000"/>
            <a:chExt cx="160200" cy="679320"/>
          </a:xfrm>
        </p:grpSpPr>
        <p:sp>
          <p:nvSpPr>
            <p:cNvPr id="590" name=""/>
            <p:cNvSpPr/>
            <p:nvPr/>
          </p:nvSpPr>
          <p:spPr>
            <a:xfrm>
              <a:off x="1868400" y="4464000"/>
              <a:ext cx="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769760" y="4574880"/>
              <a:ext cx="9828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70120" y="4649400"/>
              <a:ext cx="136440" cy="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795320" y="4748040"/>
              <a:ext cx="134640" cy="11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95320" y="4871880"/>
              <a:ext cx="110880" cy="9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857240" y="4970160"/>
              <a:ext cx="5976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57240" y="5047920"/>
              <a:ext cx="0" cy="9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utp" descr=""/>
          <p:cNvPicPr/>
          <p:nvPr/>
        </p:nvPicPr>
        <p:blipFill>
          <a:blip r:embed="rId1"/>
          <a:stretch/>
        </p:blipFill>
        <p:spPr>
          <a:xfrm>
            <a:off x="1890720" y="2349360"/>
            <a:ext cx="5367240" cy="34466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120" y="12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amètres de tes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t 5E,6,7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23960" y="2351160"/>
            <a:ext cx="3170520" cy="544320"/>
          </a:xfrm>
          <a:custGeom>
            <a:avLst/>
            <a:gdLst/>
            <a:ahLst/>
            <a:rect l="l" t="t" r="r" b="b"/>
            <a:pathLst>
              <a:path w="1997" h="343">
                <a:moveTo>
                  <a:pt x="0" y="0"/>
                </a:moveTo>
                <a:cubicBezTo>
                  <a:pt x="996" y="53"/>
                  <a:pt x="1993" y="106"/>
                  <a:pt x="1995" y="163"/>
                </a:cubicBezTo>
                <a:cubicBezTo>
                  <a:pt x="1997" y="220"/>
                  <a:pt x="354" y="303"/>
                  <a:pt x="15" y="3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0339400">
            <a:off x="3095280" y="23670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NON CO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51120" y="3060000"/>
            <a:ext cx="5621400" cy="36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ractéristique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e écra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ayon de courbure trop fa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2400" y="2433600"/>
            <a:ext cx="434880" cy="376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rminologie : Les Me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91880" y="2199960"/>
            <a:ext cx="8721720" cy="2522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NEXT = Near End Cross Talk = Paradiaphoni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ELFEXT = NEXT croisé = Télédiaphoni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ACR = Attenuation to Crosstalk Ratio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PS = Power Sum (sur toutes les paires)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350532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Câb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rch" descr=""/>
          <p:cNvPicPr/>
          <p:nvPr/>
        </p:nvPicPr>
        <p:blipFill>
          <a:blip r:embed="rId1"/>
          <a:stretch/>
        </p:blipFill>
        <p:spPr>
          <a:xfrm>
            <a:off x="2305080" y="944640"/>
            <a:ext cx="440856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67480" y="35053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â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934920" y="69480"/>
            <a:ext cx="7391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rchitecture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22080" cy="533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rminologie : Les suppor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0920" y="2514240"/>
            <a:ext cx="7893000" cy="1824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U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Unshielded Twisted Pai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F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 Foiled Twisted Pair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Bef>
                <a:spcPts val="774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Câble STP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100" spc="-1" strike="noStrike">
                <a:solidFill>
                  <a:srgbClr val="000000"/>
                </a:solidFill>
                <a:latin typeface="Arial"/>
              </a:rPr>
              <a:t> Shielded Twisted Pair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86696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Câb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Bef>
                <a:spcPts val="499"/>
              </a:spcBef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2000" spc="-1" strike="noStrike">
                <a:solidFill>
                  <a:srgbClr val="618ffd"/>
                </a:solidFill>
                <a:latin typeface="Arial"/>
              </a:rPr>
              <a:t>horizon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186696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âb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823680" y="52200"/>
            <a:ext cx="7391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rchitecture réseau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hub" descr=""/>
          <p:cNvPicPr/>
          <p:nvPr/>
        </p:nvPicPr>
        <p:blipFill>
          <a:blip r:embed="rId1"/>
          <a:stretch/>
        </p:blipFill>
        <p:spPr>
          <a:xfrm>
            <a:off x="4876920" y="133344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3" name="hub" descr=""/>
          <p:cNvPicPr/>
          <p:nvPr/>
        </p:nvPicPr>
        <p:blipFill>
          <a:blip r:embed="rId2"/>
          <a:stretch/>
        </p:blipFill>
        <p:spPr>
          <a:xfrm>
            <a:off x="4876920" y="2400480"/>
            <a:ext cx="847440" cy="583920"/>
          </a:xfrm>
          <a:prstGeom prst="rect">
            <a:avLst/>
          </a:prstGeom>
          <a:ln w="0">
            <a:noFill/>
          </a:ln>
        </p:spPr>
      </p:pic>
      <p:pic>
        <p:nvPicPr>
          <p:cNvPr id="64" name="hub" descr=""/>
          <p:cNvPicPr/>
          <p:nvPr/>
        </p:nvPicPr>
        <p:blipFill>
          <a:blip r:embed="rId3"/>
          <a:stretch/>
        </p:blipFill>
        <p:spPr>
          <a:xfrm>
            <a:off x="4876920" y="346716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hub" descr=""/>
          <p:cNvPicPr/>
          <p:nvPr/>
        </p:nvPicPr>
        <p:blipFill>
          <a:blip r:embed="rId4"/>
          <a:stretch/>
        </p:blipFill>
        <p:spPr>
          <a:xfrm>
            <a:off x="4876920" y="4533840"/>
            <a:ext cx="8474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SERVER1C" descr=""/>
          <p:cNvPicPr/>
          <p:nvPr/>
        </p:nvPicPr>
        <p:blipFill>
          <a:blip r:embed="rId5"/>
          <a:stretch/>
        </p:blipFill>
        <p:spPr>
          <a:xfrm>
            <a:off x="7162920" y="4686480"/>
            <a:ext cx="596880" cy="1066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1523520" y="209556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23880" y="316224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00200" y="430524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18116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00200" y="544824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tation" descr=""/>
          <p:cNvPicPr/>
          <p:nvPr/>
        </p:nvPicPr>
        <p:blipFill>
          <a:blip r:embed="rId6"/>
          <a:stretch/>
        </p:blipFill>
        <p:spPr>
          <a:xfrm>
            <a:off x="1676520" y="110484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station" descr=""/>
          <p:cNvPicPr/>
          <p:nvPr/>
        </p:nvPicPr>
        <p:blipFill>
          <a:blip r:embed="rId7"/>
          <a:stretch/>
        </p:blipFill>
        <p:spPr>
          <a:xfrm>
            <a:off x="1676520" y="163836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4" name="station" descr=""/>
          <p:cNvPicPr/>
          <p:nvPr/>
        </p:nvPicPr>
        <p:blipFill>
          <a:blip r:embed="rId8"/>
          <a:stretch/>
        </p:blipFill>
        <p:spPr>
          <a:xfrm>
            <a:off x="1676520" y="21718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station" descr=""/>
          <p:cNvPicPr/>
          <p:nvPr/>
        </p:nvPicPr>
        <p:blipFill>
          <a:blip r:embed="rId9"/>
          <a:stretch/>
        </p:blipFill>
        <p:spPr>
          <a:xfrm>
            <a:off x="1676520" y="270504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6" name="station" descr=""/>
          <p:cNvPicPr/>
          <p:nvPr/>
        </p:nvPicPr>
        <p:blipFill>
          <a:blip r:embed="rId10"/>
          <a:stretch/>
        </p:blipFill>
        <p:spPr>
          <a:xfrm>
            <a:off x="1676520" y="323856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7" name="station" descr=""/>
          <p:cNvPicPr/>
          <p:nvPr/>
        </p:nvPicPr>
        <p:blipFill>
          <a:blip r:embed="rId11"/>
          <a:stretch/>
        </p:blipFill>
        <p:spPr>
          <a:xfrm>
            <a:off x="1676520" y="37720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8" name="station" descr=""/>
          <p:cNvPicPr/>
          <p:nvPr/>
        </p:nvPicPr>
        <p:blipFill>
          <a:blip r:embed="rId12"/>
          <a:stretch/>
        </p:blipFill>
        <p:spPr>
          <a:xfrm>
            <a:off x="1676520" y="4457880"/>
            <a:ext cx="457200" cy="407880"/>
          </a:xfrm>
          <a:prstGeom prst="rect">
            <a:avLst/>
          </a:prstGeom>
          <a:ln w="0">
            <a:noFill/>
          </a:ln>
        </p:spPr>
      </p:pic>
      <p:pic>
        <p:nvPicPr>
          <p:cNvPr id="79" name="station" descr=""/>
          <p:cNvPicPr/>
          <p:nvPr/>
        </p:nvPicPr>
        <p:blipFill>
          <a:blip r:embed="rId13"/>
          <a:stretch/>
        </p:blipFill>
        <p:spPr>
          <a:xfrm>
            <a:off x="1676520" y="4991040"/>
            <a:ext cx="457200" cy="407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38680" y="156204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638680" y="3924360"/>
            <a:ext cx="16765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8640" y="1562040"/>
            <a:ext cx="1440" cy="380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53722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ERVER2C" descr=""/>
          <p:cNvPicPr/>
          <p:nvPr/>
        </p:nvPicPr>
        <p:blipFill>
          <a:blip r:embed="rId14"/>
          <a:stretch/>
        </p:blipFill>
        <p:spPr>
          <a:xfrm>
            <a:off x="7086600" y="3162240"/>
            <a:ext cx="746280" cy="114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2514240" y="1562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14600" y="133308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07880" y="133200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514240" y="171468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714680"/>
            <a:ext cx="0" cy="15228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09320" y="186696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514240" y="262908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514600" y="240012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7880" y="239868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240" y="27813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781360"/>
            <a:ext cx="0" cy="15228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09320" y="293364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14240" y="36957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346680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07880" y="346536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14240" y="3848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3848040"/>
            <a:ext cx="0" cy="15264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00068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83876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4609800"/>
            <a:ext cx="0" cy="2286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07880" y="4608360"/>
            <a:ext cx="30636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240" y="4991040"/>
            <a:ext cx="24382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991040"/>
            <a:ext cx="0" cy="15264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320" y="5143680"/>
            <a:ext cx="30492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3160" y="4539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92400" y="42789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rveur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2400" y="53506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erveur n°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4040" y="53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nectiqu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mod2" descr=""/>
          <p:cNvPicPr/>
          <p:nvPr/>
        </p:nvPicPr>
        <p:blipFill>
          <a:blip r:embed="rId1"/>
          <a:stretch/>
        </p:blipFill>
        <p:spPr>
          <a:xfrm>
            <a:off x="533520" y="1704960"/>
            <a:ext cx="4114800" cy="4353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477120" y="52862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J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5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oste" descr=""/>
          <p:cNvPicPr/>
          <p:nvPr/>
        </p:nvPicPr>
        <p:blipFill>
          <a:blip r:embed="rId2"/>
          <a:stretch/>
        </p:blipFill>
        <p:spPr>
          <a:xfrm>
            <a:off x="5943600" y="27716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00600" y="140004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RJ45" descr=""/>
          <p:cNvPicPr/>
          <p:nvPr/>
        </p:nvPicPr>
        <p:blipFill>
          <a:blip r:embed="rId3"/>
          <a:stretch/>
        </p:blipFill>
        <p:spPr>
          <a:xfrm>
            <a:off x="5932440" y="1565280"/>
            <a:ext cx="2438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J45" descr=""/>
          <p:cNvPicPr/>
          <p:nvPr/>
        </p:nvPicPr>
        <p:blipFill>
          <a:blip r:embed="rId1"/>
          <a:srcRect l="5876" t="19752" r="5876" b="11117"/>
          <a:stretch/>
        </p:blipFill>
        <p:spPr>
          <a:xfrm>
            <a:off x="1530360" y="370188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mod2" descr=""/>
          <p:cNvPicPr/>
          <p:nvPr/>
        </p:nvPicPr>
        <p:blipFill>
          <a:blip r:embed="rId2"/>
          <a:stretch/>
        </p:blipFill>
        <p:spPr>
          <a:xfrm>
            <a:off x="6788160" y="4311720"/>
            <a:ext cx="1162080" cy="1228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83040" y="4768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hub" descr=""/>
          <p:cNvPicPr/>
          <p:nvPr/>
        </p:nvPicPr>
        <p:blipFill>
          <a:blip r:embed="rId3"/>
          <a:stretch/>
        </p:blipFill>
        <p:spPr>
          <a:xfrm>
            <a:off x="6559560" y="1873080"/>
            <a:ext cx="1533600" cy="1057320"/>
          </a:xfrm>
          <a:prstGeom prst="rect">
            <a:avLst/>
          </a:prstGeom>
          <a:ln w="0">
            <a:noFill/>
          </a:ln>
        </p:spPr>
      </p:pic>
      <p:pic>
        <p:nvPicPr>
          <p:cNvPr id="123" name="station" descr=""/>
          <p:cNvPicPr/>
          <p:nvPr/>
        </p:nvPicPr>
        <p:blipFill>
          <a:blip r:embed="rId4"/>
          <a:stretch/>
        </p:blipFill>
        <p:spPr>
          <a:xfrm>
            <a:off x="768240" y="1492200"/>
            <a:ext cx="160020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2444760" y="2482920"/>
            <a:ext cx="4038480" cy="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5440" y="354960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139840" y="26352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06920" y="2558880"/>
            <a:ext cx="152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RJ45_r" descr=""/>
          <p:cNvPicPr/>
          <p:nvPr/>
        </p:nvPicPr>
        <p:blipFill>
          <a:blip r:embed="rId5"/>
          <a:srcRect l="11764" t="19755" r="5882" b="11108"/>
          <a:stretch/>
        </p:blipFill>
        <p:spPr>
          <a:xfrm>
            <a:off x="6864480" y="377820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483240" y="362592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3240" y="454032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6880" y="40068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2680" y="3701880"/>
            <a:ext cx="129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J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1360" y="-36720"/>
            <a:ext cx="7772400" cy="14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nectique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27560" y="1015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0200" y="20260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âble Cui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00560" y="4068720"/>
            <a:ext cx="4408200" cy="2057400"/>
            <a:chOff x="4300560" y="4068720"/>
            <a:chExt cx="4408200" cy="2057400"/>
          </a:xfrm>
        </p:grpSpPr>
        <p:graphicFrame>
          <p:nvGraphicFramePr>
            <p:cNvPr id="137" name=""/>
            <p:cNvGraphicFramePr/>
            <p:nvPr/>
          </p:nvGraphicFramePr>
          <p:xfrm>
            <a:off x="4300560" y="4068720"/>
            <a:ext cx="2276280" cy="20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0560" y="4068720"/>
                      <a:ext cx="22762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7473600" y="4406760"/>
              <a:ext cx="12351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S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Écran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r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143400" y="5106960"/>
              <a:ext cx="11430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686560" y="5640480"/>
              <a:ext cx="1752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0240" y="4192560"/>
            <a:ext cx="3657960" cy="1809720"/>
            <a:chOff x="390240" y="4192560"/>
            <a:chExt cx="3657960" cy="1809720"/>
          </a:xfrm>
        </p:grpSpPr>
        <p:graphicFrame>
          <p:nvGraphicFramePr>
            <p:cNvPr id="143" name=""/>
            <p:cNvGraphicFramePr/>
            <p:nvPr/>
          </p:nvGraphicFramePr>
          <p:xfrm>
            <a:off x="2104920" y="4192560"/>
            <a:ext cx="1943280" cy="180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04920" y="4192560"/>
                      <a:ext cx="194328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390240" y="4490280"/>
              <a:ext cx="119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S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Tres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1760" y="5335560"/>
              <a:ext cx="10666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2120" y="142452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ifférentes compositions de câ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4960" y="68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 Cuivre</a:t>
            </a:r>
            <a:br>
              <a:rPr sz="20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1880" y="1982880"/>
            <a:ext cx="3330000" cy="1809720"/>
            <a:chOff x="641880" y="1982880"/>
            <a:chExt cx="3330000" cy="1809720"/>
          </a:xfrm>
        </p:grpSpPr>
        <p:graphicFrame>
          <p:nvGraphicFramePr>
            <p:cNvPr id="150" name=""/>
            <p:cNvGraphicFramePr/>
            <p:nvPr/>
          </p:nvGraphicFramePr>
          <p:xfrm>
            <a:off x="2028960" y="1982880"/>
            <a:ext cx="1942920" cy="180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28960" y="1982880"/>
                      <a:ext cx="194292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641880" y="2613600"/>
              <a:ext cx="7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ahoma"/>
                </a:rPr>
                <a:t>U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7240" y="1982880"/>
            <a:ext cx="4377960" cy="1809720"/>
            <a:chOff x="4467240" y="1982880"/>
            <a:chExt cx="4377960" cy="1809720"/>
          </a:xfrm>
        </p:grpSpPr>
        <p:graphicFrame>
          <p:nvGraphicFramePr>
            <p:cNvPr id="154" name=""/>
            <p:cNvGraphicFramePr/>
            <p:nvPr/>
          </p:nvGraphicFramePr>
          <p:xfrm>
            <a:off x="4467240" y="1982880"/>
            <a:ext cx="1942920" cy="1809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67240" y="1982880"/>
                      <a:ext cx="194292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 flipH="1">
              <a:off x="6219360" y="28972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8160" y="2126520"/>
              <a:ext cx="1697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FTP (ScT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Écr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410080" y="3505320"/>
          <a:ext cx="19432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505320"/>
                    <a:ext cx="19432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98040" y="2877480"/>
            <a:ext cx="2361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S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cran par p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42670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048120" y="4647960"/>
            <a:ext cx="2895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3600" y="1980000"/>
            <a:ext cx="57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s différentes compositions de câ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960" y="209160"/>
            <a:ext cx="8722080" cy="572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5320" y="120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2480" bIns="424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âbl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tituants de la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55400" y="2361240"/>
            <a:ext cx="38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ibr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Mono-mod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(9/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09880"/>
            <a:ext cx="4419720" cy="914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4191120"/>
            <a:ext cx="44197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809880"/>
            <a:ext cx="990720" cy="9144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3440" y="4191120"/>
            <a:ext cx="152640" cy="152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44880" y="4268880"/>
            <a:ext cx="4922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40880" y="4194000"/>
            <a:ext cx="1800" cy="23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01320" y="3884760"/>
            <a:ext cx="1800" cy="842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1840" y="4112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25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960" y="407412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9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120" y="5005440"/>
            <a:ext cx="85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ongueur d ’onde : 1310nm or 155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lications : grandes longueurs &gt; 15 km, Boucle local,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200" y="2095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ibre Optique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Constituants de la lia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0:43:58Z</dcterms:created>
  <dc:creator>Olivier BUTLER</dc:creator>
  <dc:description/>
  <dc:language>en-US</dc:language>
  <cp:lastModifiedBy>pitoizet</cp:lastModifiedBy>
  <cp:lastPrinted>2001-02-07T09:16:59Z</cp:lastPrinted>
  <dcterms:modified xsi:type="dcterms:W3CDTF">2005-03-29T09:05:31Z</dcterms:modified>
  <cp:revision>77</cp:revision>
  <dc:subject/>
  <dc:title>Ligne Télécom</dc:title>
</cp:coreProperties>
</file>