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E4B-19A6-4C20-B5E6-4C821F47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BBF-5467-47A5-A6EE-4D92685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3C8-4CED-44B5-B4E2-B8D42A9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191-E7D8-4820-9EF6-FE4A0BC1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967-0392-4A67-A11E-CD7E5D0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3AB-8FCF-4DAA-AA4E-6ACB95A3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CCA-9640-466A-B589-047FB2E2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52C-67D3-499F-887D-B97DD155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462-7681-40F0-941F-188CFEE4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AC1-6619-44AD-8982-BD417C8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73F-D74F-4E7C-9950-33F62C2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5C9-D7A5-49A9-957B-53562CC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C1E9-0E91-4109-BA42-30414A9682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09:12Z</dcterms:modified>
  <cp:revision>25</cp:revision>
  <dc:subject/>
  <dc:title>슬라이드 1</dc:title>
</cp:coreProperties>
</file>