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DE0-D1BE-45A1-8344-A3CEC4CC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C8D-6DA3-4315-9CCB-26508B7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296-3F65-45D0-A776-AD05EAE6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C4E-18F1-4869-A3CA-592F0AD7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54F-73EB-4572-AF84-6F838A8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000-6E70-430A-B999-89B81AB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D0-6510-421A-87C4-07FEC130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61E-7BFA-46E8-8674-B0A957D2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2DA-DC54-429A-BA1F-49A6AF2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2C1-39B3-4F03-988A-D09B8BE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A28-27FD-490F-BFD0-F03F690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8F4-E19F-48B6-A77C-71A52EE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674-18E8-4B88-9CA1-80C75D2495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09:12Z</dcterms:modified>
  <cp:revision>25</cp:revision>
  <dc:subject/>
  <dc:title>슬라이드 1</dc:title>
</cp:coreProperties>
</file>