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4E5-2F15-4388-B28B-6E953C2E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ECC-DAEA-4A57-878E-B812C98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5BD-8A40-49D6-9415-C1CF4E83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AB6-F87F-43B7-AB4E-B9867E2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D014-9396-4AD6-B66E-798FDDC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256-2187-420B-8976-6B33F77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FFF-69BF-48B5-879D-BA22F52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554-4C4E-4671-AB32-DD93EE33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624-1D6E-4D6E-B56C-15DC8BB7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95-144E-4ADC-9CE0-ECA23CF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E5D-57BD-4690-B7A5-981D2BA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D6F-23B4-403D-A109-120C478C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B883-517F-4EA6-B121-BC1D61804828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3FD-340B-40E4-BA84-81E2A73B0C8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457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57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57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57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57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457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57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457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0:11:38Z</dcterms:created>
  <dc:creator>최봉수</dc:creator>
  <dc:description/>
  <dc:language>en-US</dc:language>
  <cp:lastModifiedBy>맛있다 군만두</cp:lastModifiedBy>
  <dcterms:modified xsi:type="dcterms:W3CDTF">2023-07-13T09:46:55Z</dcterms:modified>
  <cp:revision>4</cp:revision>
  <dc:subject/>
  <dc:title>슬라이드 1</dc:title>
</cp:coreProperties>
</file>