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94D0-BECE-4D82-9274-45BC72D03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4D59-5074-4831-9AA5-4AC2AD00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6B7C-D185-4774-BA25-D2D14BD5E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62F6-CBA2-4A83-A91C-0522B8651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5B35-EDA9-4C8A-A6BA-A39134A3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6BF8-B75A-4C97-BB68-268131F5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26F9-968D-4B9B-9E5A-D9A1FBFC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BCE2-2844-450E-9B5D-DCEACB8F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177D-4887-4755-A1F8-B502C76F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050F-A7A1-4810-92A2-0CF13BC5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637E-E9CC-47BD-9A2F-8841F46A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D07E-A668-4C6F-8910-3CE230CC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9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9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5E40-D981-49E6-8BB9-B921090C7630}" type="slidenum">
              <a:rPr b="0" lang="ko-KR" sz="9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245520" y="477036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40C2-2CE5-4F22-86EE-F85C928A3B49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457-1-1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44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47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50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53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457-1-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57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60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63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66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457-2-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70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73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76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79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457-2-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83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86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89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92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457-3-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96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99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102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105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457-3-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109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112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115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118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457-4-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122" name="Picture 6" descr="button21"/>
            <p:cNvPicPr/>
            <p:nvPr/>
          </p:nvPicPr>
          <p:blipFill>
            <a:blip r:embed="rId2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125" name="Picture 9" descr="button21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128" name="Picture 12" descr="button21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131" name="Picture 15" descr="button21"/>
            <p:cNvPicPr/>
            <p:nvPr/>
          </p:nvPicPr>
          <p:blipFill>
            <a:blip r:embed="rId9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457-4-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135" name="Picture 6" descr="button21"/>
            <p:cNvPicPr/>
            <p:nvPr/>
          </p:nvPicPr>
          <p:blipFill>
            <a:blip r:embed="rId2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138" name="Picture 9" descr="button21"/>
            <p:cNvPicPr/>
            <p:nvPr/>
          </p:nvPicPr>
          <p:blipFill>
            <a:blip r:embed="rId3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141" name="Picture 12" descr="button21"/>
            <p:cNvPicPr/>
            <p:nvPr/>
          </p:nvPicPr>
          <p:blipFill>
            <a:blip r:embed="rId4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144" name="Picture 15" descr="button21"/>
            <p:cNvPicPr/>
            <p:nvPr/>
          </p:nvPicPr>
          <p:blipFill>
            <a:blip r:embed="rId5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0:11:38Z</dcterms:created>
  <dc:creator>최봉수</dc:creator>
  <dc:description/>
  <dc:language>en-US</dc:language>
  <cp:lastModifiedBy>맛있다 군만두</cp:lastModifiedBy>
  <dcterms:modified xsi:type="dcterms:W3CDTF">2023-07-13T09:46:55Z</dcterms:modified>
  <cp:revision>4</cp:revision>
  <dc:subject/>
  <dc:title>슬라이드 1</dc:title>
</cp:coreProperties>
</file>