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09D-217C-4F7B-90B0-216AEC3E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C87-8387-4D5E-BD22-768BF070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3F8-15BA-4F44-87C7-EA6CE098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F1A-9069-4C80-8F7E-D2712CDC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DEB4-3B42-41E7-BE1B-0C955F80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C017-4120-4E01-9542-0595C0F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99F2-4F90-4901-AF9F-277E0C94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2BB8-16BB-41E8-82D8-97AB9E16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022B-5213-41A5-97B4-96D55DF4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07F1-DCE3-4EB9-B995-07424392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DBE5-A8BF-4011-A5B6-99917C95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EE9-7E2D-43EB-9995-0529E01A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DB35-F934-4C9E-8EE8-26A6649E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F19E-B5DE-4A91-A8C6-F50E1809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E2E8-E70C-4F27-B33C-6343F883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90FA-E45B-42A2-A503-5868C1DC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63F4-7115-4760-AD4D-960EC3BE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799-4C6D-499A-A3E1-FC7C5F54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D15-E5DA-42CA-B7C1-9C67D735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E93-FEA1-48C6-9EA6-841A6603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7D3-6DA1-4390-9D99-BE7AC6DB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CCF-6BBA-4887-9E73-BF96C72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508-318D-4F24-BEF6-E8A669FD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215-72B3-423C-A418-4DA3F0E7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332F-5A57-42D8-800D-8FA3256C8D95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647D-7314-4D8C-92BC-A554E5F75E00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POLLUTION, MANAGEMENT ENVIRONNEMENTAL ET DEVELOPPEMENT DURABLE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Djamel Abdennasser SALEM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8129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ROSION DES SOL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762120" y="1447920"/>
            <a:ext cx="8458200" cy="32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00"/>
                </a:solidFill>
                <a:latin typeface="Arial"/>
              </a:rPr>
              <a:t>Habitations en danger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00"/>
                </a:solidFill>
                <a:latin typeface="Arial"/>
              </a:rPr>
              <a:t>L'érosion met en danger les habitations construites près des rivages ou des berges. 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6172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9240" y="990720"/>
            <a:ext cx="5715000" cy="441936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5248440" y="685800"/>
            <a:ext cx="388620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ollution d'une riviè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a pollution des cours d'eau par des produits chimiqu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809720"/>
            <a:ext cx="7391520" cy="451476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990720" y="609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Marée noire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advTm="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ROISSANCE DEMOGRAPHIQU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82880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oissance quasi exponentiell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800:  900 mill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950: 2,5 milliard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989: 5 milliard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025: 8 milliard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pression de Paul Ehlich en 1968 « La BOMBE P »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VELOPPEMENT DURABL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82880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992 (Sommet de la Terre)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férence des Nations Unis de RIO DE JANEIR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68 pay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jets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ngements climatiqu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biodiversité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protection des Forê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VELOPPEMENT DURABL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82880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tte réunion, très médiatisée, a eu bien peu de résultats concrets intéressant la conservation de la nature et les multiples problèmes liés à la dégradation de l'environnement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volonté de ne pas aborder des problèmes tels que ceux qui sont liés à la croissance démographique est une des raisons de ce semi-échec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700"/>
              </a:spcAft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VELOPPEMENT DURABL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82880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solution réside peut-être dans un ensemble de concepts et de propositions qui constituent le développement durable,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FR" sz="3200" spc="-1" strike="noStrike">
                <a:solidFill>
                  <a:srgbClr val="000000"/>
                </a:solidFill>
                <a:latin typeface="MS Reference 1"/>
                <a:ea typeface="MS Reference 1"/>
              </a:rPr>
              <a:t>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ment qui répond aux besoins du présent sans compromettre la capacité des générations futures de répondre aux leurs</a:t>
            </a:r>
            <a:r>
              <a:rPr b="0" lang="fr-FR" sz="3200" spc="-1" strike="noStrike">
                <a:solidFill>
                  <a:srgbClr val="000000"/>
                </a:solidFill>
                <a:latin typeface="MS Reference 1"/>
                <a:ea typeface="MS Reference 1"/>
              </a:rPr>
              <a:t>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» (définition de l'ONU en 1987)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VELOPPEMENT DURABL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96056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s'agit de trouver les moyens d'éviter une croissance destructrice de l'environneme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issance démographiqu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ll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in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SOLUTIONS ET TECHNIQU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ecyclage du papier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205760" cy="6405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0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6858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Nettoyage d'une plage mazoutée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Traitement des Eaux Usés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76320">
            <a:solidFill>
              <a:srgbClr val="366b1b"/>
            </a:solidFill>
            <a:miter/>
          </a:ln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ECHNIQU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49408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oi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Management / Les Normes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ficat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LA LOI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82880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oi N° 83.03 du 25 février 1983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'objet visé n'a pas été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anque de textes d'applicat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aiblesse de l'exercice de la puissance publiqu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aiblesse de la pression de l'opinion publiqu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18916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1970-1975: Philosophie anti-gaspillage (réunion de Stockholm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Plan d ’action en Europ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Premières politiques d ’entreprises (IBM et Philips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18916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1975-1985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Tchernoby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18916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975-1985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écouverte su trou de l ’ozon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ccident chimique de BHOP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18916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985-1992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rotocole de Montré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Réduction d ’utilisation des CFC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990: 137 états signent à Genève le loi sur la pollution atmosphériqu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ancement du concept « Développement Durable »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41776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EVELOPPEMENT DURABLE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naître l ’état de l ’environneme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rogress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ppliquer la NORME ISO 14000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90512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A NORME ISO 14000 a pour objectif d ’aider les organismes à mettre en œuvre un SME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lle est compatible avec le concept de développement durabl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lle s ’adapte à différents types d ’organisation, de société et de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ulture 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lle tient compte et s ’adapte à leurs besoi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9532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143000" y="380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ECHARGE PUBLIQU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90512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 SME inclut 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structures de l ’organisation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activités de planification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responsabilités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pratiques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procédures et procédés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ressources notamment humaines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4114800" cy="44956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429000" y="990720"/>
            <a:ext cx="5486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00"/>
                </a:solidFill>
                <a:latin typeface="Arial"/>
              </a:rPr>
              <a:t>POLLUTION DE L ’AI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3300"/>
                </a:solidFill>
                <a:latin typeface="Arial"/>
              </a:rPr>
              <a:t>surpopulation</a:t>
            </a: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3300"/>
                </a:solidFill>
                <a:latin typeface="Arial"/>
              </a:rPr>
              <a:t>industries nombreus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3300"/>
                </a:solidFill>
                <a:latin typeface="Arial"/>
              </a:rPr>
              <a:t>transports collectifs insuffisamment développés</a:t>
            </a: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MPACT DE L ’HOMM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52388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euplement: Près de six milliards d ’homm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oins croissants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s cultivabl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ières premièr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d ’énergie…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odification et destruction du milieu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centration des populations dans les villes (pollution de l ’air, de l ’eau…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FFET DE SER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267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9096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129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UCHE D ’OZON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1523880"/>
            <a:ext cx="83818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pluies acides se forment lorsque les oxydes de </a:t>
            </a: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soufr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t d'</a:t>
            </a: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azot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s'associent à l'humidité de l'air pour libérer de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'acide sulfuriqu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t de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'acide nitriqu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qui sont ensuite transportés très loin de leur source avant d'être précipités par les pluies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129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LUIES ACID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3244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129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OLLUTION LOCALISE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2120" y="1447920"/>
            <a:ext cx="9372600" cy="45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00"/>
                </a:solidFill>
                <a:latin typeface="Arial"/>
              </a:rPr>
              <a:t>Épandage de pesticide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003300"/>
                </a:solidFill>
                <a:latin typeface="Arial"/>
              </a:rPr>
              <a:t>Le produit insecticide détruit les doryphores, coléoptères particulièrement nuisibles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003300"/>
                </a:solidFill>
                <a:latin typeface="Arial"/>
              </a:rPr>
              <a:t>En revanche, il pollue aussi le sol et les eaux souterraines. 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624816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21:20:38Z</dcterms:created>
  <dc:creator>Client</dc:creator>
  <dc:description/>
  <dc:language>en-US</dc:language>
  <cp:lastModifiedBy>Salem</cp:lastModifiedBy>
  <dcterms:modified xsi:type="dcterms:W3CDTF">2002-12-24T04:29:33Z</dcterms:modified>
  <cp:revision>13</cp:revision>
  <dc:subject/>
  <dc:title>ENVIRONNEMENT</dc:title>
</cp:coreProperties>
</file>