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A8BC-5084-43D3-9F5E-142E7544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064B-9C1F-4E50-B570-D39353A9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930F-9167-4083-A3D6-9AA9AA21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0D1-9440-4953-BD25-3E45A76C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E851-DC0D-43C2-94D7-8B8CDF9A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83A3-D04A-4081-B744-5AA82B28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9EA4-1375-493F-8633-0C4B591D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8412-B4D7-4F18-B000-8BA766C1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9ECB-7E3D-4F28-9DD5-5FE0313F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1C31-D49C-4185-AF7A-ABFDF50C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A312-34AB-4DD9-867F-CB260675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F917-F720-4B0B-B52F-99C5D4F1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856D-D73F-4FCD-84FE-AF06AFB0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CE07-8738-4519-B57D-ED67578E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35CF-F2E6-4756-8352-6D6B1761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EB07-FCED-40C8-A509-78788BD3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F76B-19FA-4FD9-B48A-97C06AE6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3CAE-7E89-49C7-B921-490E8D7D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353B-A40D-45B9-8449-94075018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E830-ABB7-4043-A32D-F4E416CE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E50A-31ED-4D93-9F10-D2D4A3B7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3CDF-6911-4B80-AE9D-4901FC5A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B879-5715-4AD7-A3A2-00B01482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B502-8E92-440B-B694-E3DF9947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18EB-A3E0-4F38-85CD-D7F611623EF7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04ED-A309-4645-885D-09F772923B80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00"/>
                </a:solidFill>
                <a:latin typeface="Times New Roman"/>
              </a:rPr>
              <a:t>POLLUTION, MANAGEMENT ENVIRONNEMENTAL ET DEVELOPPEMENT DURABLE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Djamel Abdennasser SALEM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812960" y="34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ROSION DES SOL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762120" y="1447920"/>
            <a:ext cx="8458200" cy="32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3300"/>
                </a:solidFill>
                <a:latin typeface="Arial"/>
              </a:rPr>
              <a:t>Habitations en danger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00"/>
                </a:solidFill>
                <a:latin typeface="Arial"/>
              </a:rPr>
              <a:t>L'érosion met en danger les habitations construites près des rivages ou des berges. 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86800" cy="61722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9240" y="990720"/>
            <a:ext cx="5715000" cy="441936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5248440" y="685800"/>
            <a:ext cx="3886200" cy="17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Pollution d'une rivièr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La pollution des cours d'eau par des produits chimique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1809720"/>
            <a:ext cx="7391520" cy="451476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990720" y="6094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Marée noire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advTm="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ROISSANCE DEMOGRAPHIQU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828800"/>
            <a:ext cx="77724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roissance quasi exponentiell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800:  900 million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950: 2,5 milliard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989: 5 milliard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025: 8 milliard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pression de Paul Ehlich en 1968 « La BOMBE P »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EVELOPPEMENT DURABL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828800"/>
            <a:ext cx="77724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992 (Sommet de la Terre)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férence des Nations Unis de RIO DE JANEIRO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68 pay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ujets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hangements climatiqu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biodiversité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protection des Forêt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EVELOPPEMENT DURABL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828800"/>
            <a:ext cx="77724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ette réunion, très médiatisée, a eu bien peu de résultats concrets intéressant la conservation de la nature et les multiples problèmes liés à la dégradation de l'environnement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volonté de ne pas aborder des problèmes tels que ceux qui sont liés à la croissance démographique est une des raisons de ce semi-échec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Aft>
                <a:spcPts val="700"/>
              </a:spcAft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EVELOPPEMENT DURABL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828800"/>
            <a:ext cx="77724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solution réside peut-être dans un ensemble de concepts et de propositions qui constituent le développement durable,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FR" sz="3200" spc="-1" strike="noStrike">
                <a:solidFill>
                  <a:srgbClr val="000000"/>
                </a:solidFill>
                <a:latin typeface="MS Reference 1"/>
                <a:ea typeface="MS Reference 1"/>
              </a:rPr>
              <a:t>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ment qui répond aux besoins du présent sans compromettre la capacité des générations futures de répondre aux leurs</a:t>
            </a:r>
            <a:r>
              <a:rPr b="0" lang="fr-FR" sz="3200" spc="-1" strike="noStrike">
                <a:solidFill>
                  <a:srgbClr val="000000"/>
                </a:solidFill>
                <a:latin typeface="MS Reference 1"/>
                <a:ea typeface="MS Reference 1"/>
              </a:rPr>
              <a:t>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» (définition de l'ONU en 1987)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EVELOPPEMENT DURABL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960560"/>
            <a:ext cx="77724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s'agit de trouver les moyens d'éviter une croissance destructrice de l'environneme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issance démographiqu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ell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in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SOLUTIONS ET TECHNIQU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5335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Recyclage du papier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76320"/>
            <a:ext cx="7205760" cy="6405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advTm="0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8600" y="6858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Nettoyage d'une plage mazoutée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533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Traitement des Eaux Usés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76320">
            <a:solidFill>
              <a:srgbClr val="366b1b"/>
            </a:solidFill>
            <a:miter/>
          </a:ln>
        </p:spPr>
      </p:pic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ECHNIQUE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494080"/>
            <a:ext cx="77724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oi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Management / Les Normes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ificatio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LA LOI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828800"/>
            <a:ext cx="77724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oi N° 83.03 du 25 février 1983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'objet visé n'a pas été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manque de textes d'applicatio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aiblesse de l'exercice de la puissance publiqu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aiblesse de la pression de l'opinion publiqu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YSTEME DE MANAGEMENT ENVIRONNEMENTAL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2189160"/>
            <a:ext cx="84582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00"/>
                </a:solidFill>
                <a:latin typeface="Arial"/>
              </a:rPr>
              <a:t>1970-1975: Philosophie anti-gaspillage (réunion de Stockholm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00"/>
                </a:solidFill>
                <a:latin typeface="Arial"/>
              </a:rPr>
              <a:t>Plan d ’action en Europ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00"/>
                </a:solidFill>
                <a:latin typeface="Arial"/>
              </a:rPr>
              <a:t>Premières politiques d ’entreprises (IBM et Philips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YSTEME DE MANAGEMENT ENVIRONNEMENTAL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189160"/>
            <a:ext cx="84582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00"/>
                </a:solidFill>
                <a:latin typeface="Arial"/>
              </a:rPr>
              <a:t>1975-1985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00"/>
                </a:solidFill>
                <a:latin typeface="Arial"/>
              </a:rPr>
              <a:t>Tchernoby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47712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YSTEME DE MANAGEMENT ENVIRONNEMENTAL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189160"/>
            <a:ext cx="84582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1975-1985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écouverte su trou de l ’ozon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ccident chimique de BHOP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655344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YSTEME DE MANAGEMENT ENVIRONNEMENTAL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2189160"/>
            <a:ext cx="84582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1985-1992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Protocole de Montré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Réduction d ’utilisation des CFC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1990: 137 états signent à Genève le loi sur la pollution atmosphériqu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ancement du concept « Développement Durable »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YSTEME DE MANAGEMENT ENVIRONNEMENTAL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2417760"/>
            <a:ext cx="84582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EVELOPPEMENT DURABLE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onnaître l ’état de l ’environneme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Progress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ppliquer la NORME ISO 14000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YSTEME DE MANAGEMENT ENVIRONNEMENTAL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905120"/>
            <a:ext cx="84582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A NORME ISO 14000 a pour objectif d ’aider les organismes à mettre en œuvre un SME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Elle est compatible avec le concept de développement durabl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Elle s ’adapte à différents types d ’organisation, de société et de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ulture 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Elle tient compte et s ’adapte à leurs besoin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458200" cy="495324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143000" y="3808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DECHARGE PUBLIQU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YSTEME DE MANAGEMENT ENVIRONNEMENTAL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905120"/>
            <a:ext cx="84582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e SME inclut 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es structures de l ’organisation;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es activités de planification;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es responsabilités;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es pratiques;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es procédures et procédés;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Les ressources notamment humaines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320" y="457200"/>
            <a:ext cx="4114800" cy="449568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3429000" y="990720"/>
            <a:ext cx="54864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00"/>
                </a:solidFill>
                <a:latin typeface="Arial"/>
              </a:rPr>
              <a:t>POLLUTION DE L ’AI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3300"/>
                </a:solidFill>
                <a:latin typeface="Arial"/>
              </a:rPr>
              <a:t>surpopulation</a:t>
            </a:r>
            <a:r>
              <a:rPr b="0" lang="fr-FR" sz="3200" spc="-1" strike="noStrike">
                <a:solidFill>
                  <a:srgbClr val="0033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3300"/>
                </a:solidFill>
                <a:latin typeface="Arial"/>
              </a:rPr>
              <a:t>industries nombreus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3300"/>
                </a:solidFill>
                <a:latin typeface="Arial"/>
              </a:rPr>
              <a:t>transports collectifs insuffisamment développés</a:t>
            </a:r>
            <a:r>
              <a:rPr b="0" lang="fr-FR" sz="3200" spc="-1" strike="noStrike">
                <a:solidFill>
                  <a:srgbClr val="0033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IMPACT DE L ’HOMM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523880"/>
            <a:ext cx="777240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euplement: Près de six milliards d ’homm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oins croissants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s cultivabl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ières premièr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 d ’énergie…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Modification et destruction du milieu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SzPct val="3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oncentration des populations dans les villes (pollution de l ’air, de l ’eau…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FFET DE SERR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4267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5790960" cy="4572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12960" y="34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OUCHE D ’OZON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1523880"/>
            <a:ext cx="838188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pluies acides se forment lorsque les oxydes de </a:t>
            </a:r>
            <a:r>
              <a:rPr b="1" lang="fr-FR" sz="3600" spc="-1" strike="noStrike">
                <a:solidFill>
                  <a:srgbClr val="800000"/>
                </a:solidFill>
                <a:latin typeface="Arial"/>
              </a:rPr>
              <a:t>soufre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et d'</a:t>
            </a:r>
            <a:r>
              <a:rPr b="1" lang="fr-FR" sz="3600" spc="-1" strike="noStrike">
                <a:solidFill>
                  <a:srgbClr val="800000"/>
                </a:solidFill>
                <a:latin typeface="Arial"/>
              </a:rPr>
              <a:t>azote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s'associent à l'humidité de l'air pour libérer de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'acide sulfurique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et de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'acide nitrique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qui sont ensuite transportés très loin de leur source avant d'être précipités par les pluies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12960" y="34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PLUIES ACIDE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81880" cy="632448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812960" y="34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POLLUTION LOCALISEE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2120" y="1447920"/>
            <a:ext cx="9372600" cy="45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3300"/>
                </a:solidFill>
                <a:latin typeface="Arial"/>
              </a:rPr>
              <a:t>Épandage de pesticides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fr-FR" sz="4000" spc="-1" strike="noStrike">
                <a:solidFill>
                  <a:srgbClr val="003300"/>
                </a:solidFill>
                <a:latin typeface="Arial"/>
              </a:rPr>
              <a:t>Le produit insecticide détruit les doryphores, coléoptères particulièrement nuisibles.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fr-FR" sz="4000" spc="-1" strike="noStrike">
                <a:solidFill>
                  <a:srgbClr val="003300"/>
                </a:solidFill>
                <a:latin typeface="Arial"/>
              </a:rPr>
              <a:t>En revanche, il pollue aussi le sol et les eaux souterraines. 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05560" cy="624816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3T21:20:38Z</dcterms:created>
  <dc:creator>Client</dc:creator>
  <dc:description/>
  <dc:language>en-US</dc:language>
  <cp:lastModifiedBy>Salem</cp:lastModifiedBy>
  <dcterms:modified xsi:type="dcterms:W3CDTF">2002-12-24T04:29:33Z</dcterms:modified>
  <cp:revision>13</cp:revision>
  <dc:subject/>
  <dc:title>ENVIRONNEMENT</dc:title>
</cp:coreProperties>
</file>