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D94-B894-4D4B-B4E7-80782F4D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C24-9787-40AE-A202-1D0F772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033-6F4C-481C-A6A4-6383C617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2DC-8772-46C5-BB1C-20E5E126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87D-BA71-4223-B43D-08FDD1C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FD5-3C72-42F7-B391-212B505B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CCF-3F70-4654-94EA-D4EB495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F1E-3F05-4801-A38D-C0104EA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EFF-7BA3-4641-802B-8EA52D63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755-8BFF-4C5C-B9C5-C8236BE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739-0FE0-483F-90B6-14D9E0C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32B-E4D4-437F-9797-E65DC31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0F5-A410-4B01-9DA6-DC6F5AF3D8C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4.xml"/><Relationship Id="rId7" Type="http://schemas.openxmlformats.org/officeDocument/2006/relationships/image" Target="../media/image6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896760"/>
            <a:ext cx="9144000" cy="669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 لي راعي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لا يعوزني شي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ن سرت في الوادي     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دي ظلال الموت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9144000" cy="7698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لا أخافُ أبدا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دام لي راعي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أخاف أبداً            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دمتُ مع يسـو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4920" y="825480"/>
            <a:ext cx="9144000" cy="8703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روحك إملأني سرور  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اعدني كي أمشي في النو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حفظني من كل الشرور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ي نفسي يايسو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-10008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73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825480"/>
            <a:ext cx="9144000" cy="669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ي واثقٌ برب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سط ضيقي يُعزين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ن يوما ضعفت نفس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و دوماُ يقوين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فلا أخاف أب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ن روحك إم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إنى و اثق برب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رب لى راع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3:29:02Z</dcterms:created>
  <dc:creator>Kamel</dc:creator>
  <dc:description/>
  <dc:language>en-US</dc:language>
  <cp:lastModifiedBy>Sp2</cp:lastModifiedBy>
  <dcterms:modified xsi:type="dcterms:W3CDTF">2008-08-31T10:16:50Z</dcterms:modified>
  <cp:revision>43</cp:revision>
  <dc:subject/>
  <dc:title>No Slide Title</dc:title>
</cp:coreProperties>
</file>