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013-2775-4BC3-B75B-842BB658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68F-35DE-4589-B23D-4FD0A906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898-AFC4-4F2C-BA0E-10C35F30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697-BCC8-4749-9FA0-C6BE4E35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487-15E5-4DF6-92D2-622A22A9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B7B-B6FB-42F5-9D62-A37B25A7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426-CFBE-4174-8D58-000A3A4F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FCC-CBFA-47E3-A715-53F14F2D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05A-443F-4618-B5D7-FC141C3E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3A7-C65E-4625-867A-91F0307F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BE9-E596-4441-9B55-69123F71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148-AFE7-469B-8E27-B819178D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9298-5842-4421-9190-D359ED3CFF0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image" Target="../media/image6.jpeg"/><Relationship Id="rId6" Type="http://schemas.openxmlformats.org/officeDocument/2006/relationships/slide" Target="slide4.xml"/><Relationship Id="rId7" Type="http://schemas.openxmlformats.org/officeDocument/2006/relationships/image" Target="../media/image6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7.jpeg"/><Relationship Id="rId10" Type="http://schemas.openxmlformats.org/officeDocument/2006/relationships/slide" Target="slide1.xm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896760"/>
            <a:ext cx="9144000" cy="669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 لي راعي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لا يعوزني شي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ن سرت في الوادي         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دي ظلال الموت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981000"/>
            <a:ext cx="9144000" cy="7698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لا أخافُ أبداً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دام لي راعي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لا أخاف أبداً                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دمتُ مع يسـو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4428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4920" y="825480"/>
            <a:ext cx="9144000" cy="8703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روحك إملأني سرور    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اعدني كي أمشي في النور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حفظني من كل الشرور 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جي نفسي يايسو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-10008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73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360" y="825480"/>
            <a:ext cx="9144000" cy="669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ني واثقٌ برب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سط ضيقي يُعزين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ن يوما ضعفت نفسي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و دوماُ يقوين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4428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فلا أخاف أبد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من روحك إم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إنى و اثق برب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92">
            <a:hlinkClick r:id="rId8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الرب لى راع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13:29:02Z</dcterms:created>
  <dc:creator>Kamel</dc:creator>
  <dc:description/>
  <dc:language>en-US</dc:language>
  <cp:lastModifiedBy>Sp2</cp:lastModifiedBy>
  <dcterms:modified xsi:type="dcterms:W3CDTF">2008-08-31T10:16:50Z</dcterms:modified>
  <cp:revision>43</cp:revision>
  <dc:subject/>
  <dc:title>No Slide Title</dc:title>
</cp:coreProperties>
</file>