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175-0EBD-4B4A-B610-5CBBA95D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101-F212-45AF-91E1-BE5A505E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F97-E0A9-462E-A074-556EBEA5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D51-0083-41BA-9FFF-20802F9F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DA7-09E6-4668-B87C-BCDA6E14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6AE-4157-4EB4-9816-E908330D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41D-1141-4F6E-A175-ECD50180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D85-953E-4CC8-8894-141099B2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79F-C700-476E-9CAC-A1E6D071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25D-1AD6-4872-97C5-BC85ED58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D28-EDF2-4EFE-98DC-6BC1B34A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0DC-BC6B-4BBC-8315-B3C16D29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483F-5E28-4E42-A3BE-D86025E63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509720"/>
            <a:ext cx="6265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660066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23080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ubheading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25T19:20:18Z</dcterms:modified>
  <cp:revision>856</cp:revision>
  <dc:subject/>
  <dc:title>Diapositiva 1</dc:title>
</cp:coreProperties>
</file>