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B99E6-E764-4DC4-83D7-153C3BDC8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9D76B-D5F0-459E-A977-224B1777F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0771D-58AC-40D8-8CB8-9A2D5160E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E0486-EB24-4A5B-AE31-FDDC9A5D1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DDFD6-F73D-459D-93CA-7532B2093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CC74C-EFFF-4310-9F5E-2129EC845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3215D-D7CD-4289-920D-6C56995EB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C5DC9-A53C-4403-B31A-DEE0DD705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821FA-F08E-4152-B294-4EA72FE8C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37C5D-3FF5-4238-9542-60609477E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217C6-6DF5-4DF7-99CF-23A5A8B1B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774D7-BD69-4312-8761-E0CFC7866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77853-E42D-402A-863D-29FBCF6624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3640" y="4509720"/>
            <a:ext cx="62658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4400" spc="-1" strike="noStrike">
                <a:solidFill>
                  <a:srgbClr val="660066"/>
                </a:solidFill>
                <a:latin typeface="Arial"/>
              </a:rPr>
              <a:t>Presentation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5230800"/>
            <a:ext cx="345744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66"/>
                </a:solidFill>
                <a:latin typeface="Arial"/>
              </a:rPr>
              <a:t>Subheading goe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2-01-25T19:20:18Z</dcterms:modified>
  <cp:revision>856</cp:revision>
  <dc:subject/>
  <dc:title>Diapositiva 1</dc:title>
</cp:coreProperties>
</file>