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9C0-21EF-487D-9140-F6C5AA5C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562-3F18-464E-B8F9-494B240B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C49-17A2-4ACC-8F80-018B98E9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09A-B839-48A1-8DAD-03E9DE52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CBB-FECE-4C94-A254-464E577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2E7-0317-4E65-8025-F6BBAF54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FA0-66A2-415A-B6FB-6561D73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8F1-5B08-4FD8-BE21-1272B51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6408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59B-E540-455B-9EEA-88D5394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41D-FD82-4B05-9651-BD6E9FF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780-F9F8-406C-BFF6-DBB33AA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4EC-2486-493A-AB33-B7D5224E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8822-0D29-4FD2-8BE6-2E18857EF9F5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42555D3-480B-4C8A-A175-42E30F29A170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varkom.avi" descr=""/>
          <p:cNvPicPr/>
          <p:nvPr/>
        </p:nvPicPr>
        <p:blipFill>
          <a:blip r:embed="rId2"/>
          <a:stretch/>
        </p:blipFill>
        <p:spPr>
          <a:xfrm>
            <a:off x="7667640" y="289080"/>
            <a:ext cx="1152360" cy="618840"/>
          </a:xfrm>
          <a:prstGeom prst="rect">
            <a:avLst/>
          </a:prstGeom>
          <a:ln w="0">
            <a:noFill/>
          </a:ln>
        </p:spPr>
      </p:pic>
      <p:sp>
        <p:nvSpPr>
          <p:cNvPr id="6" name="Line 15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" name="Picture 16" descr="logosttt"/>
          <p:cNvPicPr/>
          <p:nvPr/>
        </p:nvPicPr>
        <p:blipFill>
          <a:blip r:embed="rId3"/>
          <a:stretch/>
        </p:blipFill>
        <p:spPr>
          <a:xfrm>
            <a:off x="179280" y="260280"/>
            <a:ext cx="57636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15A-CFA9-4CF0-B5FB-05071408EBA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124080" y="624528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652A5E22-92CE-4B4B-A1FB-3186CDF6D972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89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Text Box 60"/>
          <p:cNvSpPr/>
          <p:nvPr/>
        </p:nvSpPr>
        <p:spPr>
          <a:xfrm>
            <a:off x="716040" y="1243080"/>
            <a:ext cx="538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onvolusi dua fungs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tode Konvolus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samaan Integr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stem Persamaan Diferens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ungsi Periodi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Konvolu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4D8-3708-44E6-A69F-6F4D5D98ACF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3B310945-F2A0-4FBA-A995-26687AC1B1BF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813240" y="12430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hingga konvolusi antara u(t) dan h(t) adala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16" name="Object 15"/>
          <p:cNvGraphicFramePr/>
          <p:nvPr/>
        </p:nvGraphicFramePr>
        <p:xfrm>
          <a:off x="1160640" y="1720800"/>
          <a:ext cx="22129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1720800"/>
                    <a:ext cx="22129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Group 3"/>
          <p:cNvGrpSpPr/>
          <p:nvPr/>
        </p:nvGrpSpPr>
        <p:grpSpPr>
          <a:xfrm>
            <a:off x="1357200" y="3143160"/>
            <a:ext cx="3312720" cy="2000160"/>
            <a:chOff x="1357200" y="3143160"/>
            <a:chExt cx="3312720" cy="2000160"/>
          </a:xfrm>
        </p:grpSpPr>
        <p:sp>
          <p:nvSpPr>
            <p:cNvPr id="419" name="Rectangle 4"/>
            <p:cNvSpPr/>
            <p:nvPr/>
          </p:nvSpPr>
          <p:spPr>
            <a:xfrm>
              <a:off x="2326320" y="468324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0" name="Line 5"/>
            <p:cNvSpPr/>
            <p:nvPr/>
          </p:nvSpPr>
          <p:spPr>
            <a:xfrm>
              <a:off x="2033280" y="3318840"/>
              <a:ext cx="0" cy="17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1" name="Line 6"/>
            <p:cNvSpPr/>
            <p:nvPr/>
          </p:nvSpPr>
          <p:spPr>
            <a:xfrm flipV="1">
              <a:off x="1469520" y="4680000"/>
              <a:ext cx="27626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3948840" y="465912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1357200" y="405252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1567440" y="467388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3143160" y="407232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-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3054960" y="4676760"/>
              <a:ext cx="72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2604240" y="4688640"/>
              <a:ext cx="72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 flipV="1">
              <a:off x="2484000" y="4204080"/>
              <a:ext cx="45036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1357200" y="314316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(t)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0" name="Rectangle 16"/>
            <p:cNvSpPr/>
            <p:nvPr/>
          </p:nvSpPr>
          <p:spPr>
            <a:xfrm>
              <a:off x="2098800" y="407232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>
              <a:off x="248400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1999440" y="4204440"/>
              <a:ext cx="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934720" y="4204440"/>
              <a:ext cx="45072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93472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>
              <a:off x="338544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3B0-B6EF-4BE8-B836-DAA2148E12F0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FBC0D55-B1B8-4783-82DA-43C8E460D302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Metode Konvolu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92120" y="1164240"/>
            <a:ext cx="38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isal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f(t)) = F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g(t)) = G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h(t)) = H(s) d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 (s) = F(s) G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63400" y="2924280"/>
                <a:ext cx="3864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Rectangle 7"/>
          <p:cNvSpPr/>
          <p:nvPr/>
        </p:nvSpPr>
        <p:spPr>
          <a:xfrm>
            <a:off x="350280" y="346284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Unicode MS"/>
              </a:rPr>
              <a:t>Contoh : Tentukan invers dari :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8"/>
              <p:cNvSpPr txBox="1"/>
              <p:nvPr/>
            </p:nvSpPr>
            <p:spPr>
              <a:xfrm>
                <a:off x="563400" y="3854520"/>
                <a:ext cx="2017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Text Box 10"/>
          <p:cNvSpPr/>
          <p:nvPr/>
        </p:nvSpPr>
        <p:spPr>
          <a:xfrm>
            <a:off x="405000" y="4581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ktorkan penyebut dari H(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1"/>
              <p:cNvSpPr txBox="1"/>
              <p:nvPr/>
            </p:nvSpPr>
            <p:spPr>
              <a:xfrm>
                <a:off x="636480" y="5157720"/>
                <a:ext cx="2303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Rectangle 14"/>
          <p:cNvSpPr/>
          <p:nvPr/>
        </p:nvSpPr>
        <p:spPr>
          <a:xfrm>
            <a:off x="4732560" y="43264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vers dari H(s)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3"/>
              <p:cNvSpPr txBox="1"/>
              <p:nvPr/>
            </p:nvSpPr>
            <p:spPr>
              <a:xfrm>
                <a:off x="4668840" y="1197000"/>
                <a:ext cx="12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Rectangle 16"/>
          <p:cNvSpPr/>
          <p:nvPr/>
        </p:nvSpPr>
        <p:spPr>
          <a:xfrm flipV="1">
            <a:off x="4500720" y="3005280"/>
            <a:ext cx="439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5"/>
              <p:cNvSpPr txBox="1"/>
              <p:nvPr/>
            </p:nvSpPr>
            <p:spPr>
              <a:xfrm>
                <a:off x="4668840" y="2060640"/>
                <a:ext cx="15843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Text Box 17"/>
          <p:cNvSpPr/>
          <p:nvPr/>
        </p:nvSpPr>
        <p:spPr>
          <a:xfrm>
            <a:off x="5963400" y="1341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6323760" y="220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6598080" y="13413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(t) =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6931080" y="21337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t) =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590000" y="32479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unakan metod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56" name="AutoShape 22"/>
          <p:cNvCxnSpPr>
            <a:stCxn id="455" idx="3"/>
          </p:cNvCxnSpPr>
          <p:nvPr/>
        </p:nvCxnSpPr>
        <p:spPr>
          <a:xfrm flipH="1" flipV="1">
            <a:off x="4426920" y="3117600"/>
            <a:ext cx="2421720" cy="329040"/>
          </a:xfrm>
          <a:prstGeom prst="bentConnector3">
            <a:avLst>
              <a:gd name="adj1" fmla="val -9440"/>
            </a:avLst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57" name="Text Box 24"/>
          <p:cNvSpPr/>
          <p:nvPr/>
        </p:nvSpPr>
        <p:spPr>
          <a:xfrm>
            <a:off x="4690800" y="490392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(t) = f(t) * g(t) = t * sin t =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C14-233A-4A4E-A809-AC91CEEEFA53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B8AC637-AE36-4998-A73D-46EE5737C109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tukan konvolusi dari dua fungsi beriku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1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2 dan 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U(t-2) 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u(t-2) dan 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unakan metode konvolusi untuk menentukan invers dari fungsi berikut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1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2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+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s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(s+1)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+4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BF9C-42A7-4F91-A1BB-795F366AECCC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D0BD2581-6850-489D-9A89-C51278911A4C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Persamaan Integral # 1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008360" y="97524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ntuk persamaan integral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1293840" y="1463760"/>
                <a:ext cx="3098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9" name="Rectangle 8"/>
          <p:cNvSpPr/>
          <p:nvPr/>
        </p:nvSpPr>
        <p:spPr>
          <a:xfrm>
            <a:off x="1004400" y="21736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ungsi f(t) dan g(t) diberik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AutoShape 9"/>
          <p:cNvSpPr/>
          <p:nvPr/>
        </p:nvSpPr>
        <p:spPr>
          <a:xfrm rot="16200000">
            <a:off x="6118920" y="1232640"/>
            <a:ext cx="1657440" cy="2592360"/>
          </a:xfrm>
          <a:prstGeom prst="wedgeEllipseCallout">
            <a:avLst>
              <a:gd name="adj1" fmla="val 32375"/>
              <a:gd name="adj2" fmla="val -130222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Unicode MS"/>
              </a:rPr>
              <a:t>Konvolusi antara g(t) dan y(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1805760" y="3162600"/>
            <a:ext cx="3024360" cy="459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y(t) = f(t) + g(t) * y(t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116000" y="43689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olusi persamaan integral y(t)  dicari dengan mengambil TL pada kedua rua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2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81" name="AutoShape 29"/>
          <p:cNvCxnSpPr>
            <a:endCxn id="471" idx="3"/>
          </p:cNvCxnSpPr>
          <p:nvPr/>
        </p:nvCxnSpPr>
        <p:spPr>
          <a:xfrm>
            <a:off x="4392360" y="1872720"/>
            <a:ext cx="408600" cy="1520280"/>
          </a:xfrm>
          <a:prstGeom prst="bentConnector3">
            <a:avLst>
              <a:gd name="adj1" fmla="val 155996"/>
            </a:avLst>
          </a:prstGeom>
          <a:ln w="28440">
            <a:solidFill>
              <a:srgbClr val="ff9900"/>
            </a:solidFill>
            <a:prstDash val="dash"/>
            <a:miter/>
            <a:tailEnd len="med" type="triangle" w="med"/>
          </a:ln>
        </p:spPr>
      </p:cxnSp>
      <p:sp>
        <p:nvSpPr>
          <p:cNvPr id="482" name="Rectangle 3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D1E-965C-47E9-8608-24913E028ADC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2730DC0F-BDA4-47B7-AE00-9C67C4A2052B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Persamaan Integr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1112040" y="11844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saik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1"/>
              <p:cNvSpPr txBox="1"/>
              <p:nvPr/>
            </p:nvSpPr>
            <p:spPr>
              <a:xfrm>
                <a:off x="1187280" y="1628640"/>
                <a:ext cx="3384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0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3"/>
              <p:cNvSpPr txBox="1"/>
              <p:nvPr/>
            </p:nvSpPr>
            <p:spPr>
              <a:xfrm>
                <a:off x="4643280" y="1700280"/>
                <a:ext cx="3384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1258920" y="2490840"/>
                <a:ext cx="280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7"/>
              <p:cNvSpPr txBox="1"/>
              <p:nvPr/>
            </p:nvSpPr>
            <p:spPr>
              <a:xfrm>
                <a:off x="1258920" y="3284640"/>
                <a:ext cx="3097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9"/>
              <p:cNvSpPr txBox="1"/>
              <p:nvPr/>
            </p:nvSpPr>
            <p:spPr>
              <a:xfrm>
                <a:off x="5435640" y="3284640"/>
                <a:ext cx="2592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1"/>
              <p:cNvSpPr txBox="1"/>
              <p:nvPr/>
            </p:nvSpPr>
            <p:spPr>
              <a:xfrm>
                <a:off x="1332000" y="4149720"/>
                <a:ext cx="2663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6"/>
              <p:cNvSpPr txBox="1"/>
              <p:nvPr/>
            </p:nvSpPr>
            <p:spPr>
              <a:xfrm>
                <a:off x="4140360" y="4149720"/>
                <a:ext cx="2376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27"/>
          <p:cNvSpPr/>
          <p:nvPr/>
        </p:nvSpPr>
        <p:spPr>
          <a:xfrm>
            <a:off x="1298880" y="511020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(t) = cosh 2t – ½ sinh 2t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4664160" y="34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EFB-D641-4E00-B56A-41D3E884446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EB46D6C0-CC51-49BA-A9C6-0CD5E38BEB3B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Persamaan Integr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241560" y="10159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oh selesaik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1"/>
              <p:cNvSpPr txBox="1"/>
              <p:nvPr/>
            </p:nvSpPr>
            <p:spPr>
              <a:xfrm>
                <a:off x="404640" y="1403280"/>
                <a:ext cx="3006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3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3"/>
              <p:cNvSpPr txBox="1"/>
              <p:nvPr/>
            </p:nvSpPr>
            <p:spPr>
              <a:xfrm>
                <a:off x="468360" y="3068640"/>
                <a:ext cx="2951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5"/>
              <p:cNvSpPr txBox="1"/>
              <p:nvPr/>
            </p:nvSpPr>
            <p:spPr>
              <a:xfrm>
                <a:off x="468360" y="3645000"/>
                <a:ext cx="2879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7"/>
              <p:cNvSpPr txBox="1"/>
              <p:nvPr/>
            </p:nvSpPr>
            <p:spPr>
              <a:xfrm>
                <a:off x="466560" y="4365720"/>
                <a:ext cx="2737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9"/>
              <p:cNvSpPr txBox="1"/>
              <p:nvPr/>
            </p:nvSpPr>
            <p:spPr>
              <a:xfrm>
                <a:off x="755640" y="5059440"/>
                <a:ext cx="2376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4067280" y="1268280"/>
                <a:ext cx="2449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3"/>
              <p:cNvSpPr txBox="1"/>
              <p:nvPr/>
            </p:nvSpPr>
            <p:spPr>
              <a:xfrm>
                <a:off x="4608360" y="3068640"/>
                <a:ext cx="270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Rectangle 2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25"/>
              <p:cNvSpPr txBox="1"/>
              <p:nvPr/>
            </p:nvSpPr>
            <p:spPr>
              <a:xfrm>
                <a:off x="4284720" y="4005360"/>
                <a:ext cx="3311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2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7"/>
              <p:cNvSpPr txBox="1"/>
              <p:nvPr/>
            </p:nvSpPr>
            <p:spPr>
              <a:xfrm>
                <a:off x="395280" y="2205000"/>
                <a:ext cx="3240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9" name="Rectangle 3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9"/>
              <p:cNvSpPr txBox="1"/>
              <p:nvPr/>
            </p:nvSpPr>
            <p:spPr>
              <a:xfrm>
                <a:off x="4572000" y="2208240"/>
                <a:ext cx="31687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7003-836A-4E9B-95C4-1E06FFBF1743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2347936-BF79-4DBC-95BC-2A892E1A0C7C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unakan metode konvolusi untuk menyelesaikan persamaan integral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1811160" y="2825640"/>
                <a:ext cx="3505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1660680" y="3789360"/>
                <a:ext cx="48560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1631880" y="1881360"/>
                <a:ext cx="2352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2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0"/>
              <p:cNvSpPr txBox="1"/>
              <p:nvPr/>
            </p:nvSpPr>
            <p:spPr>
              <a:xfrm>
                <a:off x="1635120" y="4903920"/>
                <a:ext cx="53132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636B-F459-4BE9-BB44-8C112CE3CA27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4A8DAD24-BE7F-4ECC-84A4-57517219D8F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55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istem Persamaan Diferensi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466560" y="105264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ntuk SPD dari PD orde dua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17240" y="2276640"/>
            <a:ext cx="34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ngan nilai awal diberika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68360" y="2628000"/>
            <a:ext cx="799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 Unicode MS"/>
              </a:rPr>
              <a:t>Solusi SPD dicari dengan  mentransformasikan setiap PD sehingga  didapatkan bentuk SPL yang diselesaikan dengan metode Cramm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1332000" y="4005360"/>
            <a:ext cx="6696000" cy="2016000"/>
          </a:xfrm>
          <a:prstGeom prst="wedgeRoundRectCallout">
            <a:avLst>
              <a:gd name="adj1" fmla="val 46537"/>
              <a:gd name="adj2" fmla="val -78976"/>
              <a:gd name="adj3" fmla="val 16667"/>
            </a:avLst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PL :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x + by = 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x + ey = f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lusi (Crammer)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1"/>
              <p:cNvSpPr txBox="1"/>
              <p:nvPr/>
            </p:nvSpPr>
            <p:spPr>
              <a:xfrm>
                <a:off x="4140360" y="407664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7" name="Text Box 12"/>
          <p:cNvSpPr/>
          <p:nvPr/>
        </p:nvSpPr>
        <p:spPr>
          <a:xfrm>
            <a:off x="566640" y="1484280"/>
            <a:ext cx="2830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”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+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”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+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4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A16-3125-4F07-AA3C-6DE15A04551B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F081068-CE26-441B-8A8A-FC93ADB2BE5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SPD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755640" y="2205000"/>
                <a:ext cx="230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y rSub { size 8{1} }  - 4e rSup { size 8{t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3" name="Rectangle 4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755640" y="1628640"/>
                <a:ext cx="237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y rSub { size 8{1} } +3y rSub { size 8{2} } 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5" name="Text Box 6"/>
          <p:cNvSpPr/>
          <p:nvPr/>
        </p:nvSpPr>
        <p:spPr>
          <a:xfrm>
            <a:off x="621360" y="12682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lesaik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7"/>
              <p:cNvSpPr txBox="1"/>
              <p:nvPr/>
            </p:nvSpPr>
            <p:spPr>
              <a:xfrm>
                <a:off x="755640" y="3976560"/>
                <a:ext cx="324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8"/>
              <p:cNvSpPr txBox="1"/>
              <p:nvPr/>
            </p:nvSpPr>
            <p:spPr>
              <a:xfrm>
                <a:off x="755640" y="5157720"/>
                <a:ext cx="3384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9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70" name="AutoShape 11"/>
          <p:cNvCxnSpPr/>
          <p:nvPr/>
        </p:nvCxnSpPr>
        <p:spPr>
          <a:xfrm flipH="1" flipV="1" rot="10800000">
            <a:off x="755280" y="1891080"/>
            <a:ext cx="2160" cy="1699560"/>
          </a:xfrm>
          <a:prstGeom prst="bentConnector3">
            <a:avLst>
              <a:gd name="adj1" fmla="val -14400000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571" name="AutoShape 12"/>
          <p:cNvCxnSpPr/>
          <p:nvPr/>
        </p:nvCxnSpPr>
        <p:spPr>
          <a:xfrm>
            <a:off x="3060720" y="2454120"/>
            <a:ext cx="2736000" cy="2426400"/>
          </a:xfrm>
          <a:prstGeom prst="bentConnector3">
            <a:avLst>
              <a:gd name="adj1" fmla="val 152928"/>
            </a:avLst>
          </a:prstGeom>
          <a:ln w="28440">
            <a:solidFill>
              <a:srgbClr val="cc3300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2" name="Object 13"/>
              <p:cNvSpPr txBox="1"/>
              <p:nvPr/>
            </p:nvSpPr>
            <p:spPr>
              <a:xfrm>
                <a:off x="755640" y="2781360"/>
                <a:ext cx="4753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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15"/>
              <p:cNvSpPr txBox="1"/>
              <p:nvPr/>
            </p:nvSpPr>
            <p:spPr>
              <a:xfrm>
                <a:off x="755640" y="3357720"/>
                <a:ext cx="5616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7"/>
              <p:cNvSpPr txBox="1"/>
              <p:nvPr/>
            </p:nvSpPr>
            <p:spPr>
              <a:xfrm>
                <a:off x="792000" y="4581360"/>
                <a:ext cx="500400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 Box 18"/>
          <p:cNvSpPr/>
          <p:nvPr/>
        </p:nvSpPr>
        <p:spPr>
          <a:xfrm>
            <a:off x="4702320" y="40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4722840" y="53370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FC1-5698-4F5D-846A-41D55EA2D64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23C314E8-7FFE-4A38-B00A-44C80AEF1AAA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SPD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8"/>
              <p:cNvSpPr txBox="1"/>
              <p:nvPr/>
            </p:nvSpPr>
            <p:spPr>
              <a:xfrm>
                <a:off x="689040" y="1916280"/>
                <a:ext cx="3090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0"/>
              <p:cNvSpPr txBox="1"/>
              <p:nvPr/>
            </p:nvSpPr>
            <p:spPr>
              <a:xfrm>
                <a:off x="611280" y="1268280"/>
                <a:ext cx="30240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Rectangle 10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4029480" y="3367800"/>
            <a:ext cx="19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) = ….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6"/>
              <p:cNvSpPr txBox="1"/>
              <p:nvPr/>
            </p:nvSpPr>
            <p:spPr>
              <a:xfrm>
                <a:off x="684360" y="2852640"/>
                <a:ext cx="2520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8"/>
              <p:cNvSpPr txBox="1"/>
              <p:nvPr/>
            </p:nvSpPr>
            <p:spPr>
              <a:xfrm>
                <a:off x="755640" y="4437000"/>
                <a:ext cx="277020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Rectangle 21"/>
          <p:cNvSpPr/>
          <p:nvPr/>
        </p:nvSpPr>
        <p:spPr>
          <a:xfrm>
            <a:off x="3851280" y="5096520"/>
            <a:ext cx="22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) = ….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32"/>
              <p:cNvSpPr txBox="1"/>
              <p:nvPr/>
            </p:nvSpPr>
            <p:spPr>
              <a:xfrm>
                <a:off x="4716360" y="1341360"/>
                <a:ext cx="35276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 Unicode MS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cari invers TL menggunakan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persamaan integral dengan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SPD dg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970-A1E4-4BEA-ABC3-98CAF08BAE81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DD3BF4D-A462-4003-9CE4-93469859FB6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451-FE84-4855-A8C6-AEA3DC46AEF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9262EBF1-8890-484D-8157-069B9900544C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saikan SPD berikut 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4"/>
              <p:cNvSpPr txBox="1"/>
              <p:nvPr/>
            </p:nvSpPr>
            <p:spPr>
              <a:xfrm>
                <a:off x="1838160" y="1424160"/>
                <a:ext cx="4256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1800360" y="2408400"/>
                <a:ext cx="4427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2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8"/>
              <p:cNvSpPr txBox="1"/>
              <p:nvPr/>
            </p:nvSpPr>
            <p:spPr>
              <a:xfrm>
                <a:off x="1757520" y="3357720"/>
                <a:ext cx="45432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4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0"/>
              <p:cNvSpPr txBox="1"/>
              <p:nvPr/>
            </p:nvSpPr>
            <p:spPr>
              <a:xfrm>
                <a:off x="1727280" y="4340160"/>
                <a:ext cx="61578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y rSub { size 8{2} } =`</m:t>
                            </m:r>
                            <m: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</m:t>
                            </m:r>
                            <m:r>
                              <m:t xml:space="preserve">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t;y rSub { size 8{2} }  rSup { size 8{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D88-EA2A-41F7-A4B3-8E1481A28A06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33D04C97-936D-481A-AAD5-B4F08B5FAB5E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Fungsi Periodik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79280" y="1019520"/>
            <a:ext cx="417672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ungsi f(t) disebut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ungsi periodi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bila terdapat konstanta p real  positif sehingga berlaku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( t + p ) = f ( t ) untuk setiap 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 p ( terkecil ) dise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Period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dari f(t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5"/>
              <p:cNvSpPr txBox="1"/>
              <p:nvPr/>
            </p:nvSpPr>
            <p:spPr>
              <a:xfrm>
                <a:off x="250920" y="3068640"/>
                <a:ext cx="3313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3" name="Rectangle 6"/>
          <p:cNvSpPr/>
          <p:nvPr/>
        </p:nvSpPr>
        <p:spPr>
          <a:xfrm>
            <a:off x="250920" y="400572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Unicode MS"/>
              </a:rPr>
              <a:t>Contoh : Tentukan TL dari fungsi f(t) = 5 t yang dipandang periodik dengan periode p = 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8"/>
              <p:cNvSpPr txBox="1"/>
              <p:nvPr/>
            </p:nvSpPr>
            <p:spPr>
              <a:xfrm>
                <a:off x="395280" y="5013360"/>
                <a:ext cx="3384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9"/>
              <p:cNvSpPr txBox="1"/>
              <p:nvPr/>
            </p:nvSpPr>
            <p:spPr>
              <a:xfrm>
                <a:off x="4500720" y="1125360"/>
                <a:ext cx="41036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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7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1"/>
              <p:cNvSpPr txBox="1"/>
              <p:nvPr/>
            </p:nvSpPr>
            <p:spPr>
              <a:xfrm>
                <a:off x="4334040" y="2543040"/>
                <a:ext cx="45511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9" name="AutoShape 12"/>
          <p:cNvSpPr/>
          <p:nvPr/>
        </p:nvSpPr>
        <p:spPr>
          <a:xfrm>
            <a:off x="5003640" y="3641760"/>
            <a:ext cx="3672000" cy="1220400"/>
          </a:xfrm>
          <a:prstGeom prst="wedgeRoundRectCallout">
            <a:avLst>
              <a:gd name="adj1" fmla="val -77967"/>
              <a:gd name="adj2" fmla="val 71347"/>
              <a:gd name="adj3" fmla="val 16667"/>
            </a:avLst>
          </a:prstGeom>
          <a:solidFill>
            <a:srgbClr val="00008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Gunakan integral Parsi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 = 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du = d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v =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-s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d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v = -1/s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-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4"/>
              <p:cNvSpPr txBox="1"/>
              <p:nvPr/>
            </p:nvSpPr>
            <p:spPr>
              <a:xfrm>
                <a:off x="5076720" y="5013360"/>
                <a:ext cx="3456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2" name="AutoShape 15"/>
          <p:cNvSpPr/>
          <p:nvPr/>
        </p:nvSpPr>
        <p:spPr>
          <a:xfrm>
            <a:off x="2556000" y="5013360"/>
            <a:ext cx="143964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Teorema Nilai Awal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A5B4-F976-4E8C-B0B3-802AF31ADB2C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4816174-3571-4A71-B44E-752AFA421CA0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1135080" y="15001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ika  L(f(t) = F(s) , 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28" name="Object 8"/>
          <p:cNvGraphicFramePr/>
          <p:nvPr/>
        </p:nvGraphicFramePr>
        <p:xfrm>
          <a:off x="2487600" y="2130480"/>
          <a:ext cx="22986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2130480"/>
                    <a:ext cx="2298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Box 8"/>
          <p:cNvSpPr/>
          <p:nvPr/>
        </p:nvSpPr>
        <p:spPr>
          <a:xfrm>
            <a:off x="1225080" y="300024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31" name="Object 8"/>
          <p:cNvGraphicFramePr/>
          <p:nvPr/>
        </p:nvGraphicFramePr>
        <p:xfrm>
          <a:off x="1822320" y="3444840"/>
          <a:ext cx="3486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3444840"/>
                    <a:ext cx="348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Box 10"/>
          <p:cNvSpPr/>
          <p:nvPr/>
        </p:nvSpPr>
        <p:spPr>
          <a:xfrm>
            <a:off x="1200960" y="43959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34" name="Object 8"/>
          <p:cNvGraphicFramePr/>
          <p:nvPr/>
        </p:nvGraphicFramePr>
        <p:xfrm>
          <a:off x="1425600" y="5000760"/>
          <a:ext cx="44924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5600" y="5000760"/>
                    <a:ext cx="4492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Teorema Nilai Akhir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E25-AF2F-402E-B5AB-B18D09863A10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FAED95A7-B818-4B9B-B41D-A4EA1419680A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1135440" y="15001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ika  L(f(t) = F(s)  d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41" name="Object 8"/>
          <p:cNvGraphicFramePr/>
          <p:nvPr/>
        </p:nvGraphicFramePr>
        <p:xfrm>
          <a:off x="2371680" y="2143080"/>
          <a:ext cx="25322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2143080"/>
                    <a:ext cx="2532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8"/>
          <p:cNvGraphicFramePr/>
          <p:nvPr/>
        </p:nvGraphicFramePr>
        <p:xfrm>
          <a:off x="4397400" y="1531800"/>
          <a:ext cx="10857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7400" y="1531800"/>
                    <a:ext cx="10857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TextBox 9"/>
          <p:cNvSpPr/>
          <p:nvPr/>
        </p:nvSpPr>
        <p:spPr>
          <a:xfrm>
            <a:off x="5561280" y="15001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a  ma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TextBox 10"/>
          <p:cNvSpPr/>
          <p:nvPr/>
        </p:nvSpPr>
        <p:spPr>
          <a:xfrm>
            <a:off x="1225080" y="300024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47" name="Object 8"/>
          <p:cNvGraphicFramePr/>
          <p:nvPr/>
        </p:nvGraphicFramePr>
        <p:xfrm>
          <a:off x="1371600" y="3444840"/>
          <a:ext cx="34862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444840"/>
                    <a:ext cx="348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8"/>
          <p:cNvGraphicFramePr/>
          <p:nvPr/>
        </p:nvGraphicFramePr>
        <p:xfrm>
          <a:off x="1357200" y="4519440"/>
          <a:ext cx="495792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4519440"/>
                    <a:ext cx="495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36F-C27F-46F8-81EA-C14524897BCC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35AA063F-995C-4F9E-BF72-66AAE4FEE151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 fungsi periodik beriku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ngan periode p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pada daerah [-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] </a:t>
            </a: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dan tentukan transformasi Laplaceny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+1  ( 0 &lt; t &lt;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 fungsi berikut yang diberikan dengan f(t+2) = f(t) dan tentukan transformasi Laplace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4"/>
              <p:cNvSpPr txBox="1"/>
              <p:nvPr/>
            </p:nvSpPr>
            <p:spPr>
              <a:xfrm>
                <a:off x="1512720" y="2765520"/>
                <a:ext cx="3117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1476360" y="4638600"/>
                <a:ext cx="266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1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1476360" y="5419800"/>
                <a:ext cx="2808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03C2-F06C-4103-B246-2BF05CCF2C70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C3876B3F-6DE7-4D7B-91F7-2E44B8F8A5E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Rectangle 4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4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1168560" y="119700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onvolusi dari fungsi f(t) dan g(t) didefinisikan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0" name="Object 52"/>
          <p:cNvGraphicFramePr/>
          <p:nvPr/>
        </p:nvGraphicFramePr>
        <p:xfrm>
          <a:off x="1271520" y="1571760"/>
          <a:ext cx="48006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571760"/>
                    <a:ext cx="48006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54"/>
          <p:cNvSpPr/>
          <p:nvPr/>
        </p:nvSpPr>
        <p:spPr>
          <a:xfrm>
            <a:off x="1193400" y="4440240"/>
            <a:ext cx="492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fat Konvolusi :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g = g * f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 komuta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( g + h ) = f * g + f * h ( distribu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 f * g ) * h = f * ( g * h ) ( asosia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0 = 0 * f = 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Rectangle 57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Rectangle 6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6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Rectangle 7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Rectangle 7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09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Konvolusi Dua Fung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63" name="TextBox 63"/>
          <p:cNvSpPr/>
          <p:nvPr/>
        </p:nvSpPr>
        <p:spPr>
          <a:xfrm>
            <a:off x="1285920" y="27860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ri sifat kausaliti dari  input f(t) dan impuls respon g(t) ( f(t) = 0, t &lt;0 dan g(t-x) = 0, x &gt; t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64" name="Object 52"/>
          <p:cNvGraphicFramePr/>
          <p:nvPr/>
        </p:nvGraphicFramePr>
        <p:xfrm>
          <a:off x="1413000" y="3487680"/>
          <a:ext cx="4174920" cy="10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3000" y="3487680"/>
                    <a:ext cx="41749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344-E753-4CE4-A0F8-EF7213463B21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D60E3FD3-966E-4B75-8138-A66976DC3A70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210" name="AutoShape 43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211" name="Rectangle 4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Rectangle 46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1116000" y="134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f(t) * g (t) bila f(t) = t   ; g(t) = sin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4"/>
              <p:cNvSpPr txBox="1"/>
              <p:nvPr/>
            </p:nvSpPr>
            <p:spPr>
              <a:xfrm>
                <a:off x="1258920" y="1916280"/>
                <a:ext cx="38178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Rectangle 5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6"/>
              <p:cNvSpPr txBox="1"/>
              <p:nvPr/>
            </p:nvSpPr>
            <p:spPr>
              <a:xfrm>
                <a:off x="2484360" y="2997360"/>
                <a:ext cx="23036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1" name="Rectangle 57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58"/>
              <p:cNvSpPr txBox="1"/>
              <p:nvPr/>
            </p:nvSpPr>
            <p:spPr>
              <a:xfrm>
                <a:off x="5003640" y="2924280"/>
                <a:ext cx="2448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Rectangle 5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Rectangle 6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61"/>
              <p:cNvSpPr txBox="1"/>
              <p:nvPr/>
            </p:nvSpPr>
            <p:spPr>
              <a:xfrm>
                <a:off x="2556000" y="4076640"/>
                <a:ext cx="3960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  <m:m>
                      <m:mr>
                        <m:e>
                          <m:r>
                            <m:t xml:space="preserve">t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6" name="Rectangle 6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2556000" y="4965840"/>
                <a:ext cx="165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6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Rectangle 6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09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B4D-42D5-4DEB-8E8D-242F7370BDE9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39CA2C12-F99B-480C-BCE4-E4C90AA7F6B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000080" y="100008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konvolusi dari x(t) dan h(t) ji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7" name="Object 15"/>
          <p:cNvGraphicFramePr/>
          <p:nvPr/>
        </p:nvGraphicFramePr>
        <p:xfrm>
          <a:off x="1130400" y="1693800"/>
          <a:ext cx="2039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693800"/>
                    <a:ext cx="2039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5"/>
          <p:cNvGraphicFramePr/>
          <p:nvPr/>
        </p:nvGraphicFramePr>
        <p:xfrm>
          <a:off x="3857760" y="1650960"/>
          <a:ext cx="20397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1650960"/>
                    <a:ext cx="2039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125360" y="2643120"/>
          <a:ext cx="40896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5360" y="2643120"/>
                    <a:ext cx="40896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6"/>
          <p:cNvGrpSpPr/>
          <p:nvPr/>
        </p:nvGrpSpPr>
        <p:grpSpPr>
          <a:xfrm>
            <a:off x="1314360" y="3500280"/>
            <a:ext cx="7400880" cy="2356920"/>
            <a:chOff x="1314360" y="3500280"/>
            <a:chExt cx="7400880" cy="2356920"/>
          </a:xfrm>
        </p:grpSpPr>
        <p:grpSp>
          <p:nvGrpSpPr>
            <p:cNvPr id="245" name="Group 7"/>
            <p:cNvGrpSpPr/>
            <p:nvPr/>
          </p:nvGrpSpPr>
          <p:grpSpPr>
            <a:xfrm>
              <a:off x="1314360" y="3528360"/>
              <a:ext cx="2039040" cy="2328840"/>
              <a:chOff x="1314360" y="3528360"/>
              <a:chExt cx="2039040" cy="2328840"/>
            </a:xfrm>
          </p:grpSpPr>
          <p:sp>
            <p:nvSpPr>
              <p:cNvPr id="246" name="Rectangle 8"/>
              <p:cNvSpPr/>
              <p:nvPr/>
            </p:nvSpPr>
            <p:spPr>
              <a:xfrm>
                <a:off x="2323440" y="53262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7" name="Line 9"/>
              <p:cNvSpPr/>
              <p:nvPr/>
            </p:nvSpPr>
            <p:spPr>
              <a:xfrm>
                <a:off x="2050200" y="3733200"/>
                <a:ext cx="0" cy="20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V="1">
                <a:off x="1461240" y="5326200"/>
                <a:ext cx="1684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9" name="Rectangle 11"/>
              <p:cNvSpPr/>
              <p:nvPr/>
            </p:nvSpPr>
            <p:spPr>
              <a:xfrm>
                <a:off x="1314360" y="3528360"/>
                <a:ext cx="8409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x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2680920" y="53262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1" name="Rectangle 13"/>
              <p:cNvSpPr/>
              <p:nvPr/>
            </p:nvSpPr>
            <p:spPr>
              <a:xfrm>
                <a:off x="1419120" y="45900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2" name="Rectangle 14"/>
              <p:cNvSpPr/>
              <p:nvPr/>
            </p:nvSpPr>
            <p:spPr>
              <a:xfrm>
                <a:off x="1376280" y="5326200"/>
                <a:ext cx="67356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3" name="Line 15"/>
              <p:cNvSpPr/>
              <p:nvPr/>
            </p:nvSpPr>
            <p:spPr>
              <a:xfrm>
                <a:off x="2050200" y="4878720"/>
                <a:ext cx="4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2470680" y="487872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5" name="Line 17"/>
              <p:cNvSpPr/>
              <p:nvPr/>
            </p:nvSpPr>
            <p:spPr>
              <a:xfrm>
                <a:off x="1615680" y="528084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>
                <a:off x="2470680" y="52938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2036160" y="4871160"/>
                <a:ext cx="5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58" name="Group 20"/>
            <p:cNvGrpSpPr/>
            <p:nvPr/>
          </p:nvGrpSpPr>
          <p:grpSpPr>
            <a:xfrm>
              <a:off x="3311640" y="3500280"/>
              <a:ext cx="2594160" cy="2328840"/>
              <a:chOff x="3311640" y="3500280"/>
              <a:chExt cx="2594160" cy="2328840"/>
            </a:xfrm>
          </p:grpSpPr>
          <p:sp>
            <p:nvSpPr>
              <p:cNvPr id="259" name="Rectangle 21"/>
              <p:cNvSpPr/>
              <p:nvPr/>
            </p:nvSpPr>
            <p:spPr>
              <a:xfrm>
                <a:off x="4320720" y="52984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0" name="Line 22"/>
              <p:cNvSpPr/>
              <p:nvPr/>
            </p:nvSpPr>
            <p:spPr>
              <a:xfrm>
                <a:off x="4047120" y="3705120"/>
                <a:ext cx="0" cy="20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1" name="Line 23"/>
              <p:cNvSpPr/>
              <p:nvPr/>
            </p:nvSpPr>
            <p:spPr>
              <a:xfrm flipV="1">
                <a:off x="3488400" y="5298480"/>
                <a:ext cx="20311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2" name="Rectangle 24"/>
              <p:cNvSpPr/>
              <p:nvPr/>
            </p:nvSpPr>
            <p:spPr>
              <a:xfrm>
                <a:off x="3311640" y="3500280"/>
                <a:ext cx="8406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3" name="Rectangle 25"/>
              <p:cNvSpPr/>
              <p:nvPr/>
            </p:nvSpPr>
            <p:spPr>
              <a:xfrm>
                <a:off x="5233320" y="52984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4" name="Rectangle 26"/>
              <p:cNvSpPr/>
              <p:nvPr/>
            </p:nvSpPr>
            <p:spPr>
              <a:xfrm>
                <a:off x="3416400" y="45622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5" name="Rectangle 27"/>
              <p:cNvSpPr/>
              <p:nvPr/>
            </p:nvSpPr>
            <p:spPr>
              <a:xfrm>
                <a:off x="4716360" y="5298480"/>
                <a:ext cx="7689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6" name="Rectangle 28"/>
              <p:cNvSpPr/>
              <p:nvPr/>
            </p:nvSpPr>
            <p:spPr>
              <a:xfrm>
                <a:off x="3373560" y="5298480"/>
                <a:ext cx="6735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7" name="Line 29"/>
              <p:cNvSpPr/>
              <p:nvPr/>
            </p:nvSpPr>
            <p:spPr>
              <a:xfrm>
                <a:off x="4476600" y="4854240"/>
                <a:ext cx="4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8" name="Line 30"/>
              <p:cNvSpPr/>
              <p:nvPr/>
            </p:nvSpPr>
            <p:spPr>
              <a:xfrm>
                <a:off x="4467600" y="4851000"/>
                <a:ext cx="0" cy="4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9" name="Line 31"/>
              <p:cNvSpPr/>
              <p:nvPr/>
            </p:nvSpPr>
            <p:spPr>
              <a:xfrm>
                <a:off x="3612960" y="525276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0" name="Line 32"/>
              <p:cNvSpPr/>
              <p:nvPr/>
            </p:nvSpPr>
            <p:spPr>
              <a:xfrm>
                <a:off x="4467600" y="526572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1" name="Line 33"/>
              <p:cNvSpPr/>
              <p:nvPr/>
            </p:nvSpPr>
            <p:spPr>
              <a:xfrm>
                <a:off x="4033440" y="4843440"/>
                <a:ext cx="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2" name="Line 34"/>
              <p:cNvSpPr/>
              <p:nvPr/>
            </p:nvSpPr>
            <p:spPr>
              <a:xfrm>
                <a:off x="4897080" y="4857480"/>
                <a:ext cx="0" cy="4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273" name="Rectangle 35"/>
            <p:cNvSpPr/>
            <p:nvPr/>
          </p:nvSpPr>
          <p:spPr>
            <a:xfrm>
              <a:off x="7790040" y="52984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4" name="Line 36"/>
            <p:cNvSpPr/>
            <p:nvPr/>
          </p:nvSpPr>
          <p:spPr>
            <a:xfrm>
              <a:off x="7516800" y="3705120"/>
              <a:ext cx="0" cy="20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5" name="Line 37"/>
            <p:cNvSpPr/>
            <p:nvPr/>
          </p:nvSpPr>
          <p:spPr>
            <a:xfrm flipV="1">
              <a:off x="6360120" y="5298480"/>
              <a:ext cx="203148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6" name="Rectangle 38"/>
            <p:cNvSpPr/>
            <p:nvPr/>
          </p:nvSpPr>
          <p:spPr>
            <a:xfrm>
              <a:off x="6780960" y="3500280"/>
              <a:ext cx="8406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7" name="Rectangle 39"/>
            <p:cNvSpPr/>
            <p:nvPr/>
          </p:nvSpPr>
          <p:spPr>
            <a:xfrm>
              <a:off x="8042400" y="52984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8" name="Rectangle 40"/>
            <p:cNvSpPr/>
            <p:nvPr/>
          </p:nvSpPr>
          <p:spPr>
            <a:xfrm>
              <a:off x="7159320" y="45622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9" name="Rectangle 41"/>
            <p:cNvSpPr/>
            <p:nvPr/>
          </p:nvSpPr>
          <p:spPr>
            <a:xfrm>
              <a:off x="6948000" y="5298480"/>
              <a:ext cx="673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0" name="Line 42"/>
            <p:cNvSpPr/>
            <p:nvPr/>
          </p:nvSpPr>
          <p:spPr>
            <a:xfrm>
              <a:off x="7082280" y="5252760"/>
              <a:ext cx="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1" name="Line 43"/>
            <p:cNvSpPr/>
            <p:nvPr/>
          </p:nvSpPr>
          <p:spPr>
            <a:xfrm>
              <a:off x="7937280" y="5265720"/>
              <a:ext cx="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7502760" y="4843440"/>
              <a:ext cx="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3" name="Line 45"/>
            <p:cNvSpPr/>
            <p:nvPr/>
          </p:nvSpPr>
          <p:spPr>
            <a:xfrm>
              <a:off x="6789600" y="48542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4" name="Line 46"/>
            <p:cNvSpPr/>
            <p:nvPr/>
          </p:nvSpPr>
          <p:spPr>
            <a:xfrm>
              <a:off x="6780960" y="4851000"/>
              <a:ext cx="0" cy="46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5" name="Line 47"/>
            <p:cNvSpPr/>
            <p:nvPr/>
          </p:nvSpPr>
          <p:spPr>
            <a:xfrm>
              <a:off x="7210080" y="485748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6" name="Rectangle 48"/>
            <p:cNvSpPr/>
            <p:nvPr/>
          </p:nvSpPr>
          <p:spPr>
            <a:xfrm>
              <a:off x="6465600" y="5298480"/>
              <a:ext cx="673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4B6-7722-4E5A-AE4C-9D4F9249C33C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F99531C-E0D7-42D7-8B71-C5EF1F87C251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1000080" y="1119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saat t&lt;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1343160" y="1500120"/>
            <a:ext cx="3085560" cy="2214360"/>
            <a:chOff x="1343160" y="1500120"/>
            <a:chExt cx="3085560" cy="2214360"/>
          </a:xfrm>
        </p:grpSpPr>
        <p:sp>
          <p:nvSpPr>
            <p:cNvPr id="293" name="Rectangle 5"/>
            <p:cNvSpPr/>
            <p:nvPr/>
          </p:nvSpPr>
          <p:spPr>
            <a:xfrm>
              <a:off x="3216600" y="3209760"/>
              <a:ext cx="88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4" name="Line 6"/>
            <p:cNvSpPr/>
            <p:nvPr/>
          </p:nvSpPr>
          <p:spPr>
            <a:xfrm>
              <a:off x="2858400" y="1694880"/>
              <a:ext cx="0" cy="19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 flipV="1">
              <a:off x="1573920" y="3209400"/>
              <a:ext cx="2661840" cy="1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1343160" y="2391120"/>
              <a:ext cx="1101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3547080" y="3209760"/>
              <a:ext cx="88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2527920" y="2509560"/>
              <a:ext cx="881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2113200" y="3209760"/>
              <a:ext cx="88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2288880" y="3166560"/>
              <a:ext cx="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3409560" y="3179160"/>
              <a:ext cx="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1893960" y="2784240"/>
              <a:ext cx="562320" cy="450720"/>
              <a:chOff x="1893960" y="2784240"/>
              <a:chExt cx="562320" cy="450720"/>
            </a:xfrm>
          </p:grpSpPr>
          <p:sp>
            <p:nvSpPr>
              <p:cNvPr id="303" name="Line 15"/>
              <p:cNvSpPr/>
              <p:nvPr/>
            </p:nvSpPr>
            <p:spPr>
              <a:xfrm>
                <a:off x="1905120" y="278712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4" name="Line 16"/>
              <p:cNvSpPr/>
              <p:nvPr/>
            </p:nvSpPr>
            <p:spPr>
              <a:xfrm>
                <a:off x="1893960" y="2784240"/>
                <a:ext cx="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5" name="Line 17"/>
              <p:cNvSpPr/>
              <p:nvPr/>
            </p:nvSpPr>
            <p:spPr>
              <a:xfrm>
                <a:off x="2456280" y="279036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06" name="Rectangle 18"/>
            <p:cNvSpPr/>
            <p:nvPr/>
          </p:nvSpPr>
          <p:spPr>
            <a:xfrm>
              <a:off x="1480680" y="3209760"/>
              <a:ext cx="88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07" name="Group 19"/>
            <p:cNvGrpSpPr/>
            <p:nvPr/>
          </p:nvGrpSpPr>
          <p:grpSpPr>
            <a:xfrm>
              <a:off x="2846880" y="2760840"/>
              <a:ext cx="562320" cy="450720"/>
              <a:chOff x="2846880" y="2760840"/>
              <a:chExt cx="562320" cy="450720"/>
            </a:xfrm>
          </p:grpSpPr>
          <p:sp>
            <p:nvSpPr>
              <p:cNvPr id="308" name="Line 20"/>
              <p:cNvSpPr/>
              <p:nvPr/>
            </p:nvSpPr>
            <p:spPr>
              <a:xfrm>
                <a:off x="2858040" y="276372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9" name="Line 21"/>
              <p:cNvSpPr/>
              <p:nvPr/>
            </p:nvSpPr>
            <p:spPr>
              <a:xfrm>
                <a:off x="2846880" y="2760840"/>
                <a:ext cx="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0" name="Line 22"/>
              <p:cNvSpPr/>
              <p:nvPr/>
            </p:nvSpPr>
            <p:spPr>
              <a:xfrm>
                <a:off x="3409200" y="276696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11" name="Rectangle 23"/>
            <p:cNvSpPr/>
            <p:nvPr/>
          </p:nvSpPr>
          <p:spPr>
            <a:xfrm>
              <a:off x="2031840" y="1500120"/>
              <a:ext cx="1101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2" name="Rectangle 24"/>
            <p:cNvSpPr/>
            <p:nvPr/>
          </p:nvSpPr>
          <p:spPr>
            <a:xfrm>
              <a:off x="2996280" y="2341440"/>
              <a:ext cx="1101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13" name="TextBox 105"/>
          <p:cNvSpPr/>
          <p:nvPr/>
        </p:nvSpPr>
        <p:spPr>
          <a:xfrm>
            <a:off x="1000080" y="3643200"/>
            <a:ext cx="55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Pada saat t&lt;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periode ini sinyal h(t-p) belum sampai ke titik awal x(p) ma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15" name="Object 90"/>
          <p:cNvGraphicFramePr/>
          <p:nvPr/>
        </p:nvGraphicFramePr>
        <p:xfrm>
          <a:off x="1143000" y="4714920"/>
          <a:ext cx="361476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14920"/>
                    <a:ext cx="3614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F209-7021-461C-9FE0-D5CB94965BF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A68C3567-29A8-43B6-95FF-8DA91AB1C28E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000080" y="121428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saat 1&lt;t&lt;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22" name="Group 26"/>
          <p:cNvGrpSpPr/>
          <p:nvPr/>
        </p:nvGrpSpPr>
        <p:grpSpPr>
          <a:xfrm>
            <a:off x="1357200" y="1857240"/>
            <a:ext cx="3500280" cy="1714320"/>
            <a:chOff x="1357200" y="1857240"/>
            <a:chExt cx="3500280" cy="1714320"/>
          </a:xfrm>
        </p:grpSpPr>
        <p:sp>
          <p:nvSpPr>
            <p:cNvPr id="323" name="Rectangle 27"/>
            <p:cNvSpPr/>
            <p:nvPr/>
          </p:nvSpPr>
          <p:spPr>
            <a:xfrm>
              <a:off x="3371040" y="318096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>
              <a:off x="2931840" y="2008080"/>
              <a:ext cx="0" cy="15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V="1">
              <a:off x="1357200" y="3180960"/>
              <a:ext cx="32641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>
              <a:off x="1501920" y="2470320"/>
              <a:ext cx="135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>
              <a:off x="3776400" y="318096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>
              <a:off x="2526480" y="247032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>
              <a:off x="2761920" y="3180960"/>
              <a:ext cx="10821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0" name="Line 34"/>
            <p:cNvSpPr/>
            <p:nvPr/>
          </p:nvSpPr>
          <p:spPr>
            <a:xfrm>
              <a:off x="2233800" y="3147480"/>
              <a:ext cx="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Line 35"/>
            <p:cNvSpPr/>
            <p:nvPr/>
          </p:nvSpPr>
          <p:spPr>
            <a:xfrm>
              <a:off x="3607560" y="3157200"/>
              <a:ext cx="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32" name="Group 36"/>
            <p:cNvGrpSpPr/>
            <p:nvPr/>
          </p:nvGrpSpPr>
          <p:grpSpPr>
            <a:xfrm>
              <a:off x="2501280" y="2838960"/>
              <a:ext cx="689760" cy="348840"/>
              <a:chOff x="2501280" y="2838960"/>
              <a:chExt cx="689760" cy="348840"/>
            </a:xfrm>
          </p:grpSpPr>
          <p:sp>
            <p:nvSpPr>
              <p:cNvPr id="333" name="Line 37"/>
              <p:cNvSpPr/>
              <p:nvPr/>
            </p:nvSpPr>
            <p:spPr>
              <a:xfrm>
                <a:off x="2515320" y="2841120"/>
                <a:ext cx="67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4" name="Line 38"/>
              <p:cNvSpPr/>
              <p:nvPr/>
            </p:nvSpPr>
            <p:spPr>
              <a:xfrm>
                <a:off x="2501280" y="2838960"/>
                <a:ext cx="0" cy="34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5" name="Line 39"/>
              <p:cNvSpPr/>
              <p:nvPr/>
            </p:nvSpPr>
            <p:spPr>
              <a:xfrm>
                <a:off x="3191040" y="2843640"/>
                <a:ext cx="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36" name="Rectangle 40"/>
            <p:cNvSpPr/>
            <p:nvPr/>
          </p:nvSpPr>
          <p:spPr>
            <a:xfrm>
              <a:off x="1940040" y="3180960"/>
              <a:ext cx="10821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37" name="Group 41"/>
            <p:cNvGrpSpPr/>
            <p:nvPr/>
          </p:nvGrpSpPr>
          <p:grpSpPr>
            <a:xfrm>
              <a:off x="2917800" y="2833200"/>
              <a:ext cx="689760" cy="348840"/>
              <a:chOff x="2917800" y="2833200"/>
              <a:chExt cx="689760" cy="348840"/>
            </a:xfrm>
          </p:grpSpPr>
          <p:sp>
            <p:nvSpPr>
              <p:cNvPr id="338" name="Line 42"/>
              <p:cNvSpPr/>
              <p:nvPr/>
            </p:nvSpPr>
            <p:spPr>
              <a:xfrm>
                <a:off x="2931840" y="2835360"/>
                <a:ext cx="67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9" name="Line 43"/>
              <p:cNvSpPr/>
              <p:nvPr/>
            </p:nvSpPr>
            <p:spPr>
              <a:xfrm>
                <a:off x="2917800" y="2833200"/>
                <a:ext cx="0" cy="34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0" name="Line 44"/>
              <p:cNvSpPr/>
              <p:nvPr/>
            </p:nvSpPr>
            <p:spPr>
              <a:xfrm>
                <a:off x="3607560" y="2837880"/>
                <a:ext cx="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41" name="Rectangle 45"/>
            <p:cNvSpPr/>
            <p:nvPr/>
          </p:nvSpPr>
          <p:spPr>
            <a:xfrm>
              <a:off x="1918440" y="1857240"/>
              <a:ext cx="1351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2" name="Rectangle 46"/>
            <p:cNvSpPr/>
            <p:nvPr/>
          </p:nvSpPr>
          <p:spPr>
            <a:xfrm>
              <a:off x="3101040" y="2470320"/>
              <a:ext cx="135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43" name="TextBox 95"/>
          <p:cNvSpPr/>
          <p:nvPr/>
        </p:nvSpPr>
        <p:spPr>
          <a:xfrm>
            <a:off x="934920" y="3714840"/>
            <a:ext cx="805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ada saat 1&lt;t&lt;2 batasan bawah integral konvolusi  adalah 0 dengan batas atas t-1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5" name="Object 90"/>
          <p:cNvGraphicFramePr/>
          <p:nvPr/>
        </p:nvGraphicFramePr>
        <p:xfrm>
          <a:off x="1285920" y="4143240"/>
          <a:ext cx="3000240" cy="10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4143240"/>
                    <a:ext cx="300024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8" name="Object 92"/>
          <p:cNvGraphicFramePr/>
          <p:nvPr/>
        </p:nvGraphicFramePr>
        <p:xfrm>
          <a:off x="4395960" y="4105440"/>
          <a:ext cx="2604960" cy="11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4105440"/>
                    <a:ext cx="26049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BB6-A2FD-49E0-978C-8FEBB41E37C5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961A7130-C739-4B5C-9EF8-29417EB21633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857160" y="10717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da saat 2&lt;t&lt;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55" name="Group 49"/>
          <p:cNvGrpSpPr/>
          <p:nvPr/>
        </p:nvGrpSpPr>
        <p:grpSpPr>
          <a:xfrm>
            <a:off x="1357200" y="1785960"/>
            <a:ext cx="3786480" cy="1857240"/>
            <a:chOff x="1357200" y="1785960"/>
            <a:chExt cx="3786480" cy="1857240"/>
          </a:xfrm>
        </p:grpSpPr>
        <p:sp>
          <p:nvSpPr>
            <p:cNvPr id="356" name="Rectangle 50"/>
            <p:cNvSpPr/>
            <p:nvPr/>
          </p:nvSpPr>
          <p:spPr>
            <a:xfrm>
              <a:off x="2772720" y="321984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7" name="Line 51"/>
            <p:cNvSpPr/>
            <p:nvPr/>
          </p:nvSpPr>
          <p:spPr>
            <a:xfrm>
              <a:off x="2344680" y="1949400"/>
              <a:ext cx="0" cy="16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8" name="Line 52"/>
            <p:cNvSpPr/>
            <p:nvPr/>
          </p:nvSpPr>
          <p:spPr>
            <a:xfrm flipV="1">
              <a:off x="1521720" y="3219480"/>
              <a:ext cx="318168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9" name="Rectangle 53"/>
            <p:cNvSpPr/>
            <p:nvPr/>
          </p:nvSpPr>
          <p:spPr>
            <a:xfrm>
              <a:off x="4089960" y="321984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0" name="Rectangle 54"/>
            <p:cNvSpPr/>
            <p:nvPr/>
          </p:nvSpPr>
          <p:spPr>
            <a:xfrm>
              <a:off x="1521720" y="263268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1" name="Line 55"/>
            <p:cNvSpPr/>
            <p:nvPr/>
          </p:nvSpPr>
          <p:spPr>
            <a:xfrm>
              <a:off x="1664280" y="318348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62" name="Group 56"/>
            <p:cNvGrpSpPr/>
            <p:nvPr/>
          </p:nvGrpSpPr>
          <p:grpSpPr>
            <a:xfrm>
              <a:off x="2180160" y="2419560"/>
              <a:ext cx="2238480" cy="1222560"/>
              <a:chOff x="2180160" y="2419560"/>
              <a:chExt cx="2238480" cy="1222560"/>
            </a:xfrm>
          </p:grpSpPr>
          <p:sp>
            <p:nvSpPr>
              <p:cNvPr id="363" name="Rectangle 57"/>
              <p:cNvSpPr/>
              <p:nvPr/>
            </p:nvSpPr>
            <p:spPr>
              <a:xfrm>
                <a:off x="3101760" y="2419560"/>
                <a:ext cx="1316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t-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364" name="Group 58"/>
              <p:cNvGrpSpPr/>
              <p:nvPr/>
            </p:nvGrpSpPr>
            <p:grpSpPr>
              <a:xfrm>
                <a:off x="2180160" y="2837520"/>
                <a:ext cx="1931400" cy="804600"/>
                <a:chOff x="2180160" y="2837520"/>
                <a:chExt cx="1931400" cy="804600"/>
              </a:xfrm>
            </p:grpSpPr>
            <p:sp>
              <p:nvSpPr>
                <p:cNvPr id="365" name="Rectangle 59"/>
                <p:cNvSpPr/>
                <p:nvPr/>
              </p:nvSpPr>
              <p:spPr>
                <a:xfrm>
                  <a:off x="3056760" y="3219120"/>
                  <a:ext cx="10548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t-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6" name="Line 60"/>
                <p:cNvSpPr/>
                <p:nvPr/>
              </p:nvSpPr>
              <p:spPr>
                <a:xfrm>
                  <a:off x="2838600" y="2837520"/>
                  <a:ext cx="65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7" name="Line 61"/>
                <p:cNvSpPr/>
                <p:nvPr/>
              </p:nvSpPr>
              <p:spPr>
                <a:xfrm>
                  <a:off x="2824920" y="2845800"/>
                  <a:ext cx="0" cy="38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8" name="Line 62"/>
                <p:cNvSpPr/>
                <p:nvPr/>
              </p:nvSpPr>
              <p:spPr>
                <a:xfrm>
                  <a:off x="3496680" y="2840040"/>
                  <a:ext cx="0" cy="37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9" name="Rectangle 63"/>
                <p:cNvSpPr/>
                <p:nvPr/>
              </p:nvSpPr>
              <p:spPr>
                <a:xfrm>
                  <a:off x="2180160" y="3210480"/>
                  <a:ext cx="105480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t-2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grpSp>
          <p:nvGrpSpPr>
            <p:cNvPr id="370" name="Group 64"/>
            <p:cNvGrpSpPr/>
            <p:nvPr/>
          </p:nvGrpSpPr>
          <p:grpSpPr>
            <a:xfrm>
              <a:off x="2331000" y="2842920"/>
              <a:ext cx="672120" cy="378000"/>
              <a:chOff x="2331000" y="2842920"/>
              <a:chExt cx="672120" cy="378000"/>
            </a:xfrm>
          </p:grpSpPr>
          <p:sp>
            <p:nvSpPr>
              <p:cNvPr id="371" name="Line 65"/>
              <p:cNvSpPr/>
              <p:nvPr/>
            </p:nvSpPr>
            <p:spPr>
              <a:xfrm>
                <a:off x="2344680" y="2845440"/>
                <a:ext cx="65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2" name="Line 66"/>
              <p:cNvSpPr/>
              <p:nvPr/>
            </p:nvSpPr>
            <p:spPr>
              <a:xfrm>
                <a:off x="2331000" y="2842920"/>
                <a:ext cx="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3" name="Line 67"/>
              <p:cNvSpPr/>
              <p:nvPr/>
            </p:nvSpPr>
            <p:spPr>
              <a:xfrm>
                <a:off x="3003120" y="284796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74" name="Rectangle 68"/>
            <p:cNvSpPr/>
            <p:nvPr/>
          </p:nvSpPr>
          <p:spPr>
            <a:xfrm>
              <a:off x="1357200" y="1785960"/>
              <a:ext cx="13172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5" name="Rectangle 69"/>
            <p:cNvSpPr/>
            <p:nvPr/>
          </p:nvSpPr>
          <p:spPr>
            <a:xfrm>
              <a:off x="2015640" y="2436120"/>
              <a:ext cx="13168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76" name="TextBox 95"/>
          <p:cNvSpPr/>
          <p:nvPr/>
        </p:nvSpPr>
        <p:spPr>
          <a:xfrm>
            <a:off x="1000080" y="3786120"/>
            <a:ext cx="756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Pada saat 2&lt;t&lt;3 batasan bawah integral konvolusi  adalah t-2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dan batas atas 1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78" name="Object 90"/>
          <p:cNvGraphicFramePr/>
          <p:nvPr/>
        </p:nvGraphicFramePr>
        <p:xfrm>
          <a:off x="1285920" y="4572000"/>
          <a:ext cx="315108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4572000"/>
                    <a:ext cx="31510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81" name="Object 92"/>
          <p:cNvGraphicFramePr/>
          <p:nvPr/>
        </p:nvGraphicFramePr>
        <p:xfrm>
          <a:off x="4410000" y="4545000"/>
          <a:ext cx="443412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4545000"/>
                    <a:ext cx="44341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8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22B-4341-4F05-84D8-B40EA52E6A44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Kamis 30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81CA8558-9FC2-413E-B3CF-40F10F97881E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999720" y="12142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da saat  t &gt; 3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1274760" y="1838160"/>
            <a:ext cx="3153960" cy="1590480"/>
            <a:chOff x="1274760" y="1838160"/>
            <a:chExt cx="3153960" cy="1590480"/>
          </a:xfrm>
        </p:grpSpPr>
        <p:sp>
          <p:nvSpPr>
            <p:cNvPr id="389" name="Rectangle 47"/>
            <p:cNvSpPr/>
            <p:nvPr/>
          </p:nvSpPr>
          <p:spPr>
            <a:xfrm>
              <a:off x="1794240" y="1838160"/>
              <a:ext cx="9558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90" name="Group 71"/>
            <p:cNvGrpSpPr/>
            <p:nvPr/>
          </p:nvGrpSpPr>
          <p:grpSpPr>
            <a:xfrm>
              <a:off x="1274760" y="2066760"/>
              <a:ext cx="3153960" cy="1361880"/>
              <a:chOff x="1274760" y="2066760"/>
              <a:chExt cx="3153960" cy="1361880"/>
            </a:xfrm>
          </p:grpSpPr>
          <p:sp>
            <p:nvSpPr>
              <p:cNvPr id="391" name="Rectangle 72"/>
              <p:cNvSpPr/>
              <p:nvPr/>
            </p:nvSpPr>
            <p:spPr>
              <a:xfrm>
                <a:off x="2302200" y="3118320"/>
                <a:ext cx="7642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2" name="Line 73"/>
              <p:cNvSpPr/>
              <p:nvPr/>
            </p:nvSpPr>
            <p:spPr>
              <a:xfrm>
                <a:off x="1991520" y="2186640"/>
                <a:ext cx="0" cy="119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3" name="Line 74"/>
              <p:cNvSpPr/>
              <p:nvPr/>
            </p:nvSpPr>
            <p:spPr>
              <a:xfrm flipV="1">
                <a:off x="1833120" y="3118320"/>
                <a:ext cx="23090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4" name="Rectangle 75"/>
              <p:cNvSpPr/>
              <p:nvPr/>
            </p:nvSpPr>
            <p:spPr>
              <a:xfrm>
                <a:off x="3664080" y="3118320"/>
                <a:ext cx="7646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5" name="Rectangle 76"/>
              <p:cNvSpPr/>
              <p:nvPr/>
            </p:nvSpPr>
            <p:spPr>
              <a:xfrm>
                <a:off x="1393920" y="2687760"/>
                <a:ext cx="7646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3066840" y="253152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t-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7" name="Rectangle 78"/>
              <p:cNvSpPr/>
              <p:nvPr/>
            </p:nvSpPr>
            <p:spPr>
              <a:xfrm>
                <a:off x="3034080" y="3118320"/>
                <a:ext cx="76536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t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8" name="Line 79"/>
              <p:cNvSpPr/>
              <p:nvPr/>
            </p:nvSpPr>
            <p:spPr>
              <a:xfrm>
                <a:off x="2875680" y="283824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9" name="Line 80"/>
              <p:cNvSpPr/>
              <p:nvPr/>
            </p:nvSpPr>
            <p:spPr>
              <a:xfrm>
                <a:off x="2865960" y="284472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0" name="Line 81"/>
              <p:cNvSpPr/>
              <p:nvPr/>
            </p:nvSpPr>
            <p:spPr>
              <a:xfrm>
                <a:off x="3353400" y="284004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1" name="Rectangle 82"/>
              <p:cNvSpPr/>
              <p:nvPr/>
            </p:nvSpPr>
            <p:spPr>
              <a:xfrm>
                <a:off x="2509200" y="3111840"/>
                <a:ext cx="7653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t-2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402" name="Group 83"/>
              <p:cNvGrpSpPr/>
              <p:nvPr/>
            </p:nvGrpSpPr>
            <p:grpSpPr>
              <a:xfrm>
                <a:off x="1991520" y="2842200"/>
                <a:ext cx="487800" cy="277200"/>
                <a:chOff x="1991520" y="2842200"/>
                <a:chExt cx="487800" cy="277200"/>
              </a:xfrm>
            </p:grpSpPr>
            <p:sp>
              <p:nvSpPr>
                <p:cNvPr id="403" name="Line 84"/>
                <p:cNvSpPr/>
                <p:nvPr/>
              </p:nvSpPr>
              <p:spPr>
                <a:xfrm>
                  <a:off x="2001240" y="2844000"/>
                  <a:ext cx="47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4" name="Line 85"/>
                <p:cNvSpPr/>
                <p:nvPr/>
              </p:nvSpPr>
              <p:spPr>
                <a:xfrm>
                  <a:off x="1991520" y="2842200"/>
                  <a:ext cx="0" cy="27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5" name="Line 86"/>
                <p:cNvSpPr/>
                <p:nvPr/>
              </p:nvSpPr>
              <p:spPr>
                <a:xfrm>
                  <a:off x="2479320" y="284580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sp>
            <p:nvSpPr>
              <p:cNvPr id="406" name="Rectangle 87"/>
              <p:cNvSpPr/>
              <p:nvPr/>
            </p:nvSpPr>
            <p:spPr>
              <a:xfrm>
                <a:off x="1274760" y="206676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y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7" name="Rectangle 88"/>
              <p:cNvSpPr/>
              <p:nvPr/>
            </p:nvSpPr>
            <p:spPr>
              <a:xfrm>
                <a:off x="1752480" y="254376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x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08" name="TextBox 95"/>
          <p:cNvSpPr/>
          <p:nvPr/>
        </p:nvSpPr>
        <p:spPr>
          <a:xfrm>
            <a:off x="773640" y="3643200"/>
            <a:ext cx="71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da waktu ini h(t-p) sudah meninggalkan batas akhir x(p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hingg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09" name="Object 90"/>
          <p:cNvGraphicFramePr/>
          <p:nvPr/>
        </p:nvGraphicFramePr>
        <p:xfrm>
          <a:off x="1357200" y="4429080"/>
          <a:ext cx="361476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429080"/>
                    <a:ext cx="3614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6:23:08Z</dcterms:created>
  <dc:creator>Danang</dc:creator>
  <dc:description/>
  <dc:language>en-US</dc:language>
  <cp:lastModifiedBy>Toshiba</cp:lastModifiedBy>
  <dcterms:modified xsi:type="dcterms:W3CDTF">2012-01-30T09:12:28Z</dcterms:modified>
  <cp:revision>144</cp:revision>
  <dc:subject/>
  <dc:title>Slide 1</dc:title>
</cp:coreProperties>
</file>