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42.gif" ContentType="image/gif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770-1406-46CA-9EAE-0DEF3A0B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E9E-A107-4CBD-8B6B-E9BC51C8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3B7-728B-40D8-86E6-555F6BB3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41F-F78F-41DE-8152-6A6DCE85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BA3-01BD-40BF-AF18-24E7D131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739-6920-42D7-9B19-514F74CF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13D-F0C9-4658-AB51-40C70486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13C-C88F-495B-A7A3-F41E7B51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CAA-9BEC-49E3-8504-040765F5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7E1-8946-456A-ACBD-DFDB9FC5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FE3-A676-4979-B2D3-7E169591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2DB-FDCB-4064-99D5-DC9A5963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4555-4402-42CE-BE0E-5FDD36B48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Henry%20Mancini,%20His%20Piano%20&amp;%20Orchestra%20-%20Annie&apos;s%20Song.wav" TargetMode="External"/><Relationship Id="rId4" Type="http://schemas.microsoft.com/office/2007/relationships/media" Target="file:///tmp/home/.config/libreoffice/4/user/gallery/Henry%20Mancini,%20His%20Piano%20&amp;%20Orchestra%20-%20Annie&apos;s%20Song.wav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840" y="812880"/>
            <a:ext cx="6286320" cy="7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Bauhaus 93"/>
              </a:rPr>
              <a:t>Petit </a:t>
            </a:r>
            <a:r>
              <a:rPr b="0" lang="en-US" sz="2800" spc="-1" strike="noStrike">
                <a:solidFill>
                  <a:srgbClr val="ff00ff"/>
                </a:solidFill>
                <a:latin typeface="Bauhaus 93"/>
              </a:rPr>
              <a:t>alphabet</a:t>
            </a:r>
            <a:r>
              <a:rPr b="0" lang="en-US" sz="2800" spc="-1" strike="noStrike">
                <a:solidFill>
                  <a:srgbClr val="cc00cc"/>
                </a:solidFill>
                <a:latin typeface="Bauhaus 93"/>
              </a:rPr>
              <a:t> </a:t>
            </a:r>
            <a:r>
              <a:rPr b="0" lang="en-US" sz="2800" spc="-1" strike="noStrike">
                <a:solidFill>
                  <a:srgbClr val="ff99ff"/>
                </a:solidFill>
                <a:latin typeface="Bauhaus 93"/>
              </a:rPr>
              <a:t>de</a:t>
            </a:r>
            <a:r>
              <a:rPr b="0" lang="en-US" sz="2800" spc="-1" strike="noStrike">
                <a:solidFill>
                  <a:srgbClr val="cc00cc"/>
                </a:solidFill>
                <a:latin typeface="Bauhaus 93"/>
              </a:rPr>
              <a:t> </a:t>
            </a:r>
            <a:r>
              <a:rPr b="0" lang="en-US" sz="2800" spc="-1" strike="noStrike">
                <a:solidFill>
                  <a:srgbClr val="ffccff"/>
                </a:solidFill>
                <a:latin typeface="Bauhaus 93"/>
              </a:rPr>
              <a:t>l’am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5240" y="5091120"/>
            <a:ext cx="7013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cc"/>
                </a:solidFill>
                <a:latin typeface="Bauhaus 93"/>
              </a:rPr>
              <a:t>L’AMOUR </a:t>
            </a:r>
            <a:r>
              <a:rPr b="0" lang="en-US" sz="4800" spc="-1" strike="noStrike">
                <a:solidFill>
                  <a:srgbClr val="ff00ff"/>
                </a:solidFill>
                <a:latin typeface="Bauhaus 93"/>
              </a:rPr>
              <a:t>C’EST</a:t>
            </a:r>
            <a:r>
              <a:rPr b="0" lang="en-US" sz="4800" spc="-1" strike="noStrike">
                <a:solidFill>
                  <a:srgbClr val="ff99ff"/>
                </a:solidFill>
                <a:latin typeface="Bauhaus 93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20920" y="2395440"/>
            <a:ext cx="2702160" cy="184788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71640" y="7316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55640" y="738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79480" y="2570040"/>
            <a:ext cx="73850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Bauhaus 93"/>
              </a:rPr>
              <a:t>… </a:t>
            </a:r>
            <a:r>
              <a:rPr b="0" lang="en-US" sz="4400" spc="-1" strike="noStrike">
                <a:solidFill>
                  <a:srgbClr val="cc00cc"/>
                </a:solidFill>
                <a:latin typeface="Bauhaus 93"/>
              </a:rPr>
              <a:t>et tant </a:t>
            </a:r>
            <a:r>
              <a:rPr b="0" lang="en-US" sz="4400" spc="-1" strike="noStrike">
                <a:solidFill>
                  <a:srgbClr val="ff66ff"/>
                </a:solidFill>
                <a:latin typeface="Bauhaus 93"/>
              </a:rPr>
              <a:t>d’autres</a:t>
            </a:r>
            <a:r>
              <a:rPr b="0" lang="en-US" sz="4400" spc="-1" strike="noStrike">
                <a:solidFill>
                  <a:srgbClr val="ff9900"/>
                </a:solidFill>
                <a:latin typeface="Bauhaus 93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auhaus 93"/>
              </a:rPr>
              <a:t>choses</a:t>
            </a:r>
            <a:r>
              <a:rPr b="0" lang="en-US" sz="4400" spc="-1" strike="noStrike">
                <a:solidFill>
                  <a:srgbClr val="ff9900"/>
                </a:solidFill>
                <a:latin typeface="Bauhaus 9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Bauhaus 93"/>
              </a:rPr>
              <a:t>encor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93080" y="5157720"/>
            <a:ext cx="1469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Bauhaus 93"/>
              </a:rPr>
              <a:t>Ghjavigh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95640" y="573408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 advTm="5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2:00:10Z</dcterms:created>
  <dc:creator>Jean D.</dc:creator>
  <dc:description/>
  <dc:language>en-US</dc:language>
  <cp:lastModifiedBy>Smets</cp:lastModifiedBy>
  <dcterms:modified xsi:type="dcterms:W3CDTF">2008-10-19T07:26:52Z</dcterms:modified>
  <cp:revision>3</cp:revision>
  <dc:subject/>
  <dc:title>Petit alphabet de l’amour</dc:title>
</cp:coreProperties>
</file>